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41C3D7-E407-47A5-84DC-B8D76A9F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EE045-271E-4E2A-B9E2-B9F08C04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C40329-75DD-4F8F-A254-98C578F9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FCAEAD-320E-4B85-8448-A130658C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E32301-D5E0-4759-AB5E-EB5F33E1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B488E6-4DF5-49AA-987A-4CECF32B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1FC8F8-07E4-403B-8047-EDC5CAE7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5429C9-500C-438D-808C-C33B0E83B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28F133-CD2B-4FFB-A032-1C3B5E59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0577-D1A9-45CC-98F1-55DF16358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7727-C9CD-4FDB-9078-5898F8BE8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8933-297F-4F18-86A6-D5FD27074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D7D7-AC04-4943-83A0-AF0F3F182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132A-E65B-4AAD-B0BD-BE79168A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13B9-69AA-4EA9-9D7E-F833808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0C86B-A274-4F98-8C6F-D9A4ED9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5CBF-3FEF-47A7-8080-1D6E34E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A3BE0-1468-46C2-95BC-8731137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FB83-841E-40C1-9535-987D2539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8BE5-E7FF-40F5-A989-C0BA455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4453-A335-491B-A2A5-F10F0E668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710AC-688F-4AE1-8ECB-5FE65A8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A514-2A67-4E56-8F40-F473892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A153F-9CF6-459F-98DC-9E1D170D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42FE9-BC6B-44A9-AA71-0482109D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EB10C-A57D-437E-8453-664E80A1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B5DF-8F53-47F9-AA2D-934F4233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3D9B-1089-4B72-B6EC-080F3CD7B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D12B-DA46-4065-878F-2191A3159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DCF7-72B7-4F09-A8C0-527BB1C84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57E8-B201-4792-966F-FB42CEEC4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DAE7-EA63-45E2-8853-7CF9BC363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98EE-0939-4367-BF7C-256C8203B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564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767F-31D5-42C3-AC06-6DC160AC1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0B6-91ED-417B-BA10-D874E3065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http://www.aaas.org/spp/sfrl/projects/accesstodata/pictures/OMB%20Seal.jpg"/>
          <p:cNvPicPr/>
          <p:nvPr/>
        </p:nvPicPr>
        <p:blipFill>
          <a:blip r:embed="rId1"/>
          <a:stretch/>
        </p:blipFill>
        <p:spPr>
          <a:xfrm>
            <a:off x="7540560" y="530280"/>
            <a:ext cx="1206720" cy="117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3804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51a07"/>
                </a:solidFill>
                <a:latin typeface="Arial Black"/>
              </a:rPr>
              <a:t>PRIVACY ACT EXEMPTIONS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muel P. Jenkin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or, for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fense Privacy and Civil Liberties Office (DPC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odLogo"/>
          <p:cNvPicPr/>
          <p:nvPr/>
        </p:nvPicPr>
        <p:blipFill>
          <a:blip r:embed="rId2"/>
          <a:stretch/>
        </p:blipFill>
        <p:spPr>
          <a:xfrm>
            <a:off x="38088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F24-E9BF-42F3-9B59-3996FD4B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criminal law enforcement records; criminal law enforcement records compiled by non-principal function criminal law enforcement agency; coverage is less broad where individual has been denied a right, privilege, or benefit as result of information sou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tain to the provision of protective services to the President of the United States or other individual pursuant to section 3056 of Title 1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by statute to be maintained and used solely as statistical rec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458200" y="6324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427C-DA8A-45D4-AFB0-35A6B3995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ory material used only to determine suitability, eligibility, or qualifications for federal civilian employment or access to classified information when the material comes from confidential 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or examination material used to determine appointment or promotion of federal employees when disclosure would compromise the objectivity or fairness of the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1880" y="6400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CA7-6DD8-4DE0-8141-62700BE7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material used to identify potential for promotion in the Armed Services but only to the extent disclosure would reveal a confidential source who provided the info under an express promise of confidential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220-0C49-4A43-9E3E-F1A2B0C7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Resource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ct of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gister July 9, 1975 Privacy Act Implementation-Guidelin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J Overview of the Privacy Act of 1974, 2004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 Circular A-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OMB Memor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08 – E-Gov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Acquisition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Types of Exemptions Allowed for Systems of Record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mptions are broken into three categori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Exemptions, covered under Subsection (d)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, covered under Subsection (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Exemptions, covered under Subsection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C3F7-B3B0-4AAE-BFD4-E6F02AD0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gency may exempt a system of records from specified exemptions of the Act, all having to do with how an individual gets information about his records including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unting to the individual (c)(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of records (d), (e)(1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existence of record pertaining to him or her (e)(4)(G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how to gain access/amendment (e)(4)(H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records, (e)(4)(I)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rules (f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DE4-CBD4-4A95-96A9-3AC9998C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Access Exemption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d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compiled in reasonable anticipation of civil action or proceeding; self-executing exe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General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s of Records under General Exemptions may opt out of all Privacy Act access requirem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 intend to protect specific investigations or authorized activities by law enforcement agencies or the 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se cases, knowledge that a record about an individual is kept may alone disrupt the investigation or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FF7-5D10-4D1A-939E-D4E64A15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the Central Intelligence Ag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an agency which performs as its principal function any activity pertaining to the enforcement of criminal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Specific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fic Exemptions are more narrow in scope, and intended to preserve the integrity of a proce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onfidenti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testing and evaluation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accountability and anonymity in statistical resear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lassified information which is essential to an agency’s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3357-D6E3-46C4-BC4B-14714E46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ied information under an Executive Order in the interest of national defense or foreign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1:49:50Z</dcterms:created>
  <dc:creator>WillsTL</dc:creator>
  <dc:description/>
  <dc:language>en-US</dc:language>
  <cp:lastModifiedBy>walkole</cp:lastModifiedBy>
  <dcterms:modified xsi:type="dcterms:W3CDTF">2011-05-24T15:35:26Z</dcterms:modified>
  <cp:revision>161</cp:revision>
  <dc:subject/>
  <dc:title>PRIVACY ACT 101 Privacy Awareness Training American Society of Access Professionals FOIA/Privacy Act Training Workshop</dc:title>
</cp:coreProperties>
</file>