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13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F23C-B9EE-4B78-BC4A-D721835F1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609480" y="4267080"/>
            <a:ext cx="64008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36CE-0218-4FA1-86EC-268046295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A1C7-76FF-408A-A5F1-24AE9A7E0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634C-DD62-4E34-8085-33717D8B0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61FB-D544-4687-9180-28BFDEF6A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0770-2F2A-468E-AF8F-EEA2B716A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1BFE-53F9-4EBF-B30B-A533F9EF9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4007-51CC-4340-83A2-87E249DC0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D458-121E-4815-B5BE-942435E24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A865-1BE9-4B1C-AE73-0C08CCF50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152280" y="4416480"/>
            <a:ext cx="6553440" cy="472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E483-DBF6-484D-8B20-347D54439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640" y="4114440"/>
            <a:ext cx="630864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B785-CA39-40A1-80BD-1AD1630DC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E7F6-7B54-4C07-80F7-A0F5A2568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7C61-170F-49FD-8C46-D3A58255A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FCF2-7E83-407A-8AF7-1AB3E4095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C626-D2C1-40F2-B05C-E6420F107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25D1-758A-483F-8785-37D6FFE70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E655-B983-447F-BAA0-B5967010F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26D2-E5DD-4891-86C1-276551884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457200" y="4495680"/>
            <a:ext cx="630864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FDE3-1F6E-4128-A81F-07033BC44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457200" y="4495680"/>
            <a:ext cx="630864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44A0-E129-4672-965D-5D032449E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22860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6226-9779-4BFB-AD00-4F7C5DB96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AD4C-0D80-4070-A3B9-F1362CF8B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304920" y="4190760"/>
            <a:ext cx="624816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29A4-732C-41EE-A61F-EFBAD5CFC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22860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9219-A7B3-4EE3-9E88-24B9892D8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0" y="4038480"/>
            <a:ext cx="68580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28D6-6F67-490C-97F1-AB3AD5C81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360" y="4190760"/>
            <a:ext cx="70102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4F1A-3571-4DEE-BCA9-EC267F0E2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E5D7-EFFD-45EF-8363-44EB6ABCD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1CE3-6030-41EB-9074-BFE85E8FE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35A2-05BA-461B-AE49-9A8F64FDC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A7FF-B848-4FD1-A94D-C468E6DBB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609480" y="4190760"/>
            <a:ext cx="59436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24E7-C962-4CA1-9FE4-0AD10C4F6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533520" y="4190760"/>
            <a:ext cx="59436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EC8C-3928-41A3-BB15-55FF5706B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C000-C8A8-4E83-B57E-F01F34132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360" y="4190760"/>
            <a:ext cx="70102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D7FF-ED1D-4780-B945-323E0086F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360" y="4190760"/>
            <a:ext cx="70102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5B06-5AAA-4214-AB31-1031321C2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DD79-E0C7-4965-849C-32385822C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D64C-724C-4A09-818F-951B49A60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1B51-ABC0-4068-B904-3AF8507DB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AC6A-E855-4178-90F5-006330964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C0FF-EBC9-4C92-8F32-4CD415695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81160" y="696960"/>
            <a:ext cx="4648320" cy="3486240"/>
          </a:xfrm>
          <a:prstGeom prst="rect">
            <a:avLst/>
          </a:prstGeom>
          <a:ln w="0">
            <a:noFill/>
          </a:ln>
        </p:spPr>
      </p:sp>
      <p:sp>
        <p:nvSpPr>
          <p:cNvPr id="4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AA47-BD1C-4B16-9708-058178967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3F63-AA1A-421E-B7CB-46B04BF1D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6960"/>
            <a:ext cx="4648320" cy="3486240"/>
          </a:xfrm>
          <a:prstGeom prst="rect">
            <a:avLst/>
          </a:prstGeom>
          <a:ln w="0">
            <a:noFill/>
          </a:ln>
        </p:spPr>
      </p:sp>
      <p:sp>
        <p:nvSpPr>
          <p:cNvPr id="4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0E8C-92C1-467C-9065-1B4AB4BDC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151920" y="4416120"/>
            <a:ext cx="6705720" cy="4498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17FC-CD79-47D2-8ACE-858F94E73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1160" y="696960"/>
            <a:ext cx="4648320" cy="3486240"/>
          </a:xfrm>
          <a:prstGeom prst="rect">
            <a:avLst/>
          </a:prstGeom>
          <a:ln w="0">
            <a:noFill/>
          </a:ln>
        </p:spPr>
      </p:sp>
      <p:sp>
        <p:nvSpPr>
          <p:cNvPr id="4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E008-7AFD-4718-B106-FAC5F2F29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9DE8-A339-48BC-AEB0-637D71266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32A1-BF13-49BF-AF62-97EEF6B54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0C9E-8999-4646-ACE0-81A964B11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E1B8-2835-4294-A56F-F8147136C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B8E7-79F1-4AB1-8548-3DD3A456E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A58B-038C-4E3C-AE30-216573B4B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3D75-3B4B-4F20-A9CE-086DF9217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6B04-39DD-4E27-8866-A3F26AF05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20E7-798B-48A2-83D6-785F9F6DB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F1DF-6893-4681-B6A9-09CC279E9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C13A-1EC8-4D4E-BAC9-4AF767D34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1160" y="696960"/>
            <a:ext cx="4648320" cy="348624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98D5-85A1-4ACF-A29A-000E98824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2436-98C2-4270-B7D3-9CEF94789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09EE-A518-49BD-AF45-A038601F6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456840" y="4190760"/>
            <a:ext cx="6553080" cy="510516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A05F-FC80-4C0B-8D5C-48F17BF8F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C33F-0248-4106-9CD1-6A9F7E6DF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F814-D942-4131-B707-90C8F71E8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D25D6-DB6E-4B79-839D-549905438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1F458-5F9C-4436-82DA-31ABA2AB8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7F75F-76D7-4D00-952E-ED3C16046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972BC-3AB8-4E8B-B429-7BDAE235D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A38B9-324D-4516-9735-7A1E3E836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0559D-064C-4770-A23C-ACFDCB60F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B2C41-B0CB-42B9-9753-BA2FD3F1B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4CB56-7FEC-47BB-808B-F64CE435E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056C4-1065-4F72-8BD1-384538876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9329F-A20B-4DBE-BC65-A671DC7DF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FFCA4-422A-4C5E-AC2C-522F6B46C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BDF39-EB39-4DE4-93E5-570C6CCD9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5432-FBFF-47FA-89F1-6EBCA47FA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A747B-5378-4E8A-AD8D-EA16D6DEA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7F359-8DF0-40BA-B280-A48ABE23C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FD799-2F8B-4055-9E76-2EDD65C3F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2314D-295D-4207-A065-7B7F628F4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D2833D-F5C4-4683-AA49-601DF17872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4ABDD-6445-48AC-9784-B1A2467CD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101B3A-AC23-42C6-9F5F-FC9ECD16E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92E08-4B74-47DF-9D36-1F73DB307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F300E5-A891-4425-9A42-5659B82FC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4E7EA-3525-45DB-B962-7689BB23D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D4C24-71D2-4B34-B4C6-44B942AAF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06D87-C85F-4F2D-A231-A4D7A271B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E115D-F335-4743-AB23-67EF15EA7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47DA2-5324-4FF9-A01D-7F7D680C3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CF57AB-1456-4ECA-BBB8-27D8BAA08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D1934D-CD8E-4B58-AF5D-537554A7AD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578535-BB86-4F86-87F3-F8F675044A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A72B8-D157-4360-BFA3-E51F7670E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9686C-DE75-4ABE-A049-CFD6E8CF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C18EA-BEB2-40B1-A912-D942473DA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2FA9-4C27-47FC-B5C6-7CE43BC7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DD305-9192-4148-B2CE-81778FAA9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8D923-8068-4988-873D-AA36671EE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170A-511B-410D-8BEC-8CD5E704FC68}" type="datetime">
              <a:rPr b="0" lang="en-US" sz="1200" spc="-1" strike="noStrike">
                <a:solidFill>
                  <a:srgbClr val="000000"/>
                </a:solidFill>
                <a:latin typeface="Garamond"/>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AP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4AD9-9209-40A4-BA2B-0004EA8A1E4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607C-0D39-4FA1-9976-C40581A57438}" type="datetime">
              <a:rPr b="0" lang="en-US" sz="1200" spc="-1" strike="noStrike">
                <a:solidFill>
                  <a:srgbClr val="000000"/>
                </a:solidFill>
                <a:latin typeface="Garamond"/>
              </a:rPr>
              <a:t>07/31/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AP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244C-B9C5-470C-A7C6-328A4B0A91A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9ADE-CDB3-4A72-9991-ABF680EF3F5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hyperlink" Target="http://csrc.nist.gov/drivers/documents/HR2458-final.pdf"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br>
              <a:rPr sz="4400"/>
            </a:br>
            <a:r>
              <a:rPr b="0" i="1" lang="en-US" sz="3200" spc="-1" strike="noStrike">
                <a:solidFill>
                  <a:srgbClr val="003399"/>
                </a:solidFill>
                <a:latin typeface="Garamond"/>
              </a:rPr>
              <a:t>American Society of Access Professionals</a:t>
            </a:r>
            <a:br>
              <a:rPr sz="3200"/>
            </a:br>
            <a:br>
              <a:rPr sz="3200"/>
            </a:br>
            <a:endParaRPr b="0" lang="en-US" sz="3200" spc="-1" strike="noStrike">
              <a:solidFill>
                <a:srgbClr val="003399"/>
              </a:solidFill>
              <a:latin typeface="Garamond"/>
            </a:endParaRPr>
          </a:p>
        </p:txBody>
      </p:sp>
      <p:sp>
        <p:nvSpPr>
          <p:cNvPr id="13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esented by</a:t>
            </a:r>
            <a:endParaRPr b="0" lang="en-US" sz="21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Defense Privacy Office</a:t>
            </a:r>
            <a:endParaRPr b="0" lang="en-US" sz="19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ebruary 2010</a:t>
            </a:r>
            <a:endParaRPr b="0" lang="en-US" sz="1900" spc="-1" strike="noStrike">
              <a:solidFill>
                <a:srgbClr val="000000"/>
              </a:solidFill>
              <a:latin typeface="Arial"/>
            </a:endParaRPr>
          </a:p>
        </p:txBody>
      </p:sp>
      <p:pic>
        <p:nvPicPr>
          <p:cNvPr id="138" name="Picture 4" descr="dodLogo"/>
          <p:cNvPicPr/>
          <p:nvPr/>
        </p:nvPicPr>
        <p:blipFill>
          <a:blip r:embed="rId1"/>
          <a:stretch/>
        </p:blipFill>
        <p:spPr>
          <a:xfrm>
            <a:off x="304920" y="5257800"/>
            <a:ext cx="1295280" cy="1295280"/>
          </a:xfrm>
          <a:prstGeom prst="rect">
            <a:avLst/>
          </a:prstGeom>
          <a:ln w="0">
            <a:noFill/>
          </a:ln>
        </p:spPr>
      </p:pic>
      <p:pic>
        <p:nvPicPr>
          <p:cNvPr id="139" name="Picture 7" descr="DPOsealPPT"/>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67" name="PlaceHolder 2"/>
          <p:cNvSpPr>
            <a:spLocks noGrp="1"/>
          </p:cNvSpPr>
          <p:nvPr>
            <p:ph/>
          </p:nvPr>
        </p:nvSpPr>
        <p:spPr>
          <a:xfrm>
            <a:off x="380520" y="1294920"/>
            <a:ext cx="8610840" cy="480060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ederal Information Security Management Act (FISMA), Title III of the E-Government Act of 2002</a:t>
            </a:r>
            <a:endParaRPr b="0" lang="en-US" sz="28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encies must:</a:t>
            </a:r>
            <a:endParaRPr b="0" lang="en-US" sz="24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information security plans that are based on assessments of risk/magnitude of harm that could result from unauthorized use, access, etc.</a:t>
            </a:r>
            <a:endParaRPr b="0" lang="en-US" sz="20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security awareness training to inform employees of these plans</a:t>
            </a:r>
            <a:endParaRPr b="0" lang="en-US" sz="20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iodic testing and evaluation of the effectiveness of IT security policies, procedures and practices.</a:t>
            </a:r>
            <a:endParaRPr b="0" lang="en-US" sz="20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cedures for detecting, reporting and responding to  security incidents</a:t>
            </a:r>
            <a:endParaRPr b="0" lang="en-US" sz="2000" spc="-1" strike="noStrike">
              <a:solidFill>
                <a:srgbClr val="000000"/>
              </a:solidFill>
              <a:latin typeface="Arial"/>
            </a:endParaRPr>
          </a:p>
        </p:txBody>
      </p:sp>
      <p:sp>
        <p:nvSpPr>
          <p:cNvPr id="16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E35B-3417-4E7F-9C66-BEA59757F40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75CB-D2BE-4A83-81C1-A50F076599F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304920" y="277920"/>
            <a:ext cx="86104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a:t>
            </a:r>
            <a:endParaRPr b="0" lang="en-US" sz="3600" spc="-1" strike="noStrike">
              <a:solidFill>
                <a:srgbClr val="003399"/>
              </a:solidFill>
              <a:latin typeface="Garamond"/>
            </a:endParaRPr>
          </a:p>
        </p:txBody>
      </p:sp>
      <p:sp>
        <p:nvSpPr>
          <p:cNvPr id="171" name="PlaceHolder 2"/>
          <p:cNvSpPr>
            <a:spLocks noGrp="1"/>
          </p:cNvSpPr>
          <p:nvPr>
            <p:ph/>
          </p:nvPr>
        </p:nvSpPr>
        <p:spPr>
          <a:xfrm>
            <a:off x="457200" y="1066320"/>
            <a:ext cx="8229600" cy="5064120"/>
          </a:xfrm>
          <a:prstGeom prst="rect">
            <a:avLst/>
          </a:prstGeom>
          <a:noFill/>
          <a:ln w="9360">
            <a:solidFill>
              <a:srgbClr val="009999"/>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ffice of Management and Budget (OMB).   </a:t>
            </a:r>
            <a:endParaRPr b="0" lang="en-US" sz="28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upport of and reinforcing this legislation, OMB through </a:t>
            </a:r>
            <a:r>
              <a:rPr b="0" i="1" lang="en-US" sz="2400" spc="-1" strike="noStrike">
                <a:solidFill>
                  <a:srgbClr val="000000"/>
                </a:solidFill>
                <a:latin typeface="Arial"/>
              </a:rPr>
              <a:t>Circular A-130, Appendix III</a:t>
            </a:r>
            <a:r>
              <a:rPr b="0" lang="en-US" sz="2400" spc="-1" strike="noStrike">
                <a:solidFill>
                  <a:srgbClr val="000000"/>
                </a:solidFill>
                <a:latin typeface="Arial"/>
              </a:rPr>
              <a:t>,</a:t>
            </a:r>
            <a:r>
              <a:rPr b="0" i="1" lang="en-US" sz="2400" spc="-1" strike="noStrike">
                <a:solidFill>
                  <a:srgbClr val="000000"/>
                </a:solidFill>
                <a:latin typeface="Arial"/>
              </a:rPr>
              <a:t> Security of Federal Automated Information Resources</a:t>
            </a:r>
            <a:r>
              <a:rPr b="0" lang="en-US" sz="2400" spc="-1" strike="noStrike">
                <a:solidFill>
                  <a:srgbClr val="000000"/>
                </a:solidFill>
                <a:latin typeface="Arial"/>
              </a:rPr>
              <a:t>, requires executive agencies within the federal government to:</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ecurity </a:t>
            </a:r>
            <a:endParaRPr b="0" lang="en-US" sz="20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ppropriate officials are assigned security responsibility </a:t>
            </a:r>
            <a:endParaRPr b="0" lang="en-US" sz="20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review the security controls in their information systems </a:t>
            </a:r>
            <a:endParaRPr b="0" lang="en-US" sz="20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 system processing prior to operations and, periodically, thereaft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 </a:t>
            </a:r>
            <a:br>
              <a:rPr sz="3600"/>
            </a:br>
            <a:endParaRPr b="0" lang="en-US" sz="3600" spc="-1" strike="noStrike">
              <a:solidFill>
                <a:srgbClr val="003399"/>
              </a:solidFill>
              <a:latin typeface="Garamond"/>
            </a:endParaRPr>
          </a:p>
        </p:txBody>
      </p:sp>
      <p:sp>
        <p:nvSpPr>
          <p:cNvPr id="173" name="PlaceHolder 2"/>
          <p:cNvSpPr>
            <a:spLocks noGrp="1"/>
          </p:cNvSpPr>
          <p:nvPr>
            <p:ph/>
          </p:nvPr>
        </p:nvSpPr>
        <p:spPr>
          <a:xfrm>
            <a:off x="380880" y="1142640"/>
            <a:ext cx="8763120" cy="4987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nstitute of Standards and Technology (NIST)</a:t>
            </a:r>
            <a:endParaRPr b="0" lang="en-US" sz="2800" spc="-1" strike="noStrike">
              <a:solidFill>
                <a:srgbClr val="000000"/>
              </a:solidFill>
              <a:latin typeface="Arial"/>
            </a:endParaRPr>
          </a:p>
          <a:p>
            <a:pPr marL="609480" indent="-6094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NIST publications help agencies to implement FISMA requirement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36720" indent="-609840">
              <a:spcBef>
                <a:spcPts val="601"/>
              </a:spcBef>
              <a:buClr>
                <a:srgbClr val="4c6d4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Information Processing Standards Publication (FIPS PUB) 199 </a:t>
            </a:r>
            <a:r>
              <a:rPr b="0" i="1" lang="en-US" sz="2400" spc="-1" strike="noStrike">
                <a:solidFill>
                  <a:srgbClr val="000000"/>
                </a:solidFill>
                <a:latin typeface="Arial"/>
              </a:rPr>
              <a:t>Standards for Security Categorization of Federal Information and Information Systems</a:t>
            </a:r>
            <a:endParaRPr b="0" lang="en-US" sz="2400" spc="-1" strike="noStrike">
              <a:solidFill>
                <a:srgbClr val="000000"/>
              </a:solidFill>
              <a:latin typeface="Arial"/>
            </a:endParaRPr>
          </a:p>
          <a:p>
            <a:pPr lvl="1" marL="936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36720" indent="-609840">
              <a:spcBef>
                <a:spcPts val="601"/>
              </a:spcBef>
              <a:buClr>
                <a:srgbClr val="4c6d4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PS PUB 200 </a:t>
            </a:r>
            <a:r>
              <a:rPr b="0" i="1" lang="en-US" sz="2400" spc="-1" strike="noStrike">
                <a:solidFill>
                  <a:srgbClr val="000000"/>
                </a:solidFill>
                <a:latin typeface="Arial"/>
              </a:rPr>
              <a:t>Minimum Security Requirements for Federal Information and Information Systems</a:t>
            </a:r>
            <a:endParaRPr b="0" lang="en-US" sz="2400" spc="-1" strike="noStrike">
              <a:solidFill>
                <a:srgbClr val="000000"/>
              </a:solidFill>
              <a:latin typeface="Arial"/>
            </a:endParaRPr>
          </a:p>
        </p:txBody>
      </p:sp>
      <p:sp>
        <p:nvSpPr>
          <p:cNvPr id="1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4285-3F76-475C-B6B7-B261064427A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AP Conference</a:t>
            </a:r>
            <a:endParaRPr b="0" lang="en-US" sz="1200" spc="-1" strike="noStrike">
              <a:solidFill>
                <a:srgbClr val="000000"/>
              </a:solidFill>
              <a:latin typeface="Arial"/>
            </a:endParaRPr>
          </a:p>
        </p:txBody>
      </p:sp>
      <p:sp>
        <p:nvSpPr>
          <p:cNvPr id="17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2B4A-4240-4190-8816-9C9B0F71F21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7" name="Picture 2" descr="untitled"/>
          <p:cNvPicPr/>
          <p:nvPr/>
        </p:nvPicPr>
        <p:blipFill>
          <a:blip r:embed="rId1"/>
          <a:stretch/>
        </p:blipFill>
        <p:spPr>
          <a:xfrm>
            <a:off x="457200" y="1447920"/>
            <a:ext cx="8229600" cy="4343400"/>
          </a:xfrm>
          <a:prstGeom prst="rect">
            <a:avLst/>
          </a:prstGeom>
          <a:ln w="0">
            <a:noFill/>
          </a:ln>
        </p:spPr>
      </p:pic>
      <p:sp>
        <p:nvSpPr>
          <p:cNvPr id="178" name="PlaceHolder 1"/>
          <p:cNvSpPr>
            <a:spLocks noGrp="1"/>
          </p:cNvSpPr>
          <p:nvPr>
            <p:ph type="title"/>
          </p:nvPr>
        </p:nvSpPr>
        <p:spPr>
          <a:xfrm>
            <a:off x="457200" y="15192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79" name="TextBox 5"/>
          <p:cNvSpPr/>
          <p:nvPr/>
        </p:nvSpPr>
        <p:spPr>
          <a:xfrm>
            <a:off x="990720" y="54864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81"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rivacy Defined</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0658-8A0C-46B6-B0A7-6C6CCED7EA9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277560"/>
            <a:ext cx="838188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3800"/>
            </a:br>
            <a:endParaRPr b="0" lang="en-US" sz="4000" spc="-1" strike="noStrike">
              <a:solidFill>
                <a:srgbClr val="003399"/>
              </a:solidFill>
              <a:latin typeface="Garamond"/>
            </a:endParaRPr>
          </a:p>
        </p:txBody>
      </p:sp>
      <p:sp>
        <p:nvSpPr>
          <p:cNvPr id="184" name=""/>
          <p:cNvSpPr txBox="1"/>
          <p:nvPr/>
        </p:nvSpPr>
        <p:spPr>
          <a:xfrm>
            <a:off x="457200" y="1142640"/>
            <a:ext cx="8229600" cy="4987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vacy Defined</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amuel D. Warren, a </a:t>
            </a:r>
            <a:r>
              <a:rPr b="0" lang="en-US" sz="2800" spc="-1" strike="noStrike">
                <a:solidFill>
                  <a:srgbClr val="000000"/>
                </a:solidFill>
                <a:latin typeface="Arial"/>
              </a:rPr>
              <a:t>Boston attorney</a:t>
            </a:r>
            <a:r>
              <a:rPr b="0" lang="nl-NL" sz="2800" spc="-1" strike="noStrike">
                <a:solidFill>
                  <a:srgbClr val="000000"/>
                </a:solidFill>
                <a:latin typeface="Arial"/>
              </a:rPr>
              <a:t>,  and Louis D. Brandeis, </a:t>
            </a:r>
            <a:r>
              <a:rPr b="0" lang="en-US" sz="2800" spc="-1" strike="noStrike">
                <a:solidFill>
                  <a:srgbClr val="000000"/>
                </a:solidFill>
                <a:latin typeface="Arial"/>
              </a:rPr>
              <a:t>a justice of the United States Supreme Court published in the Harvard Law Review their paper titled “The Right To Privacy” (December 1890)</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ight to be let alone.”</a:t>
            </a:r>
            <a:endParaRPr b="0" lang="en-US" sz="28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control over the collection, use and disclosure of any recorded information about an identifiable individual </a:t>
            </a:r>
            <a:endParaRPr b="0" lang="en-US" sz="24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ganization's responsibility for data protection and safeguarding personal information in its custody or control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65FE-3CD7-4874-84B4-31EA0E00ADB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ivacy Defined (Continued)</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ight of privacy has been based in the U.S. Supreme Court's examination of the Constitution. Case law has interpreted the U.S Constitution to protect personal freedoms, such as the right to privacy under the 14th amendment.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1st, 4th, and 5th Amendments also provide some protection of privacy, although in all cases the right is narrowly defined. </a:t>
            </a: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also the statutory right of privacy which limits access to personal information.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ight of privacy must be balanced against the agency’s need to collect, use, maintain and disseminate information about a person and that person’s expectation of privacy</a:t>
            </a:r>
            <a:endParaRPr b="0" lang="en-US" sz="2200" spc="-1" strike="noStrike">
              <a:solidFill>
                <a:srgbClr val="000000"/>
              </a:solidFill>
              <a:latin typeface="Arial"/>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3800"/>
            </a:br>
            <a:endParaRPr b="0" lang="en-US" sz="4000" spc="-1" strike="noStrike">
              <a:solidFill>
                <a:srgbClr val="003399"/>
              </a:solidFill>
              <a:latin typeface="Garamond"/>
            </a:endParaRPr>
          </a:p>
        </p:txBody>
      </p:sp>
      <p:sp>
        <p:nvSpPr>
          <p:cNvPr id="18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7F87-1ED0-4181-89A6-477C432C037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7200" y="1295280"/>
            <a:ext cx="8229600" cy="4911840"/>
          </a:xfrm>
          <a:prstGeom prst="rect">
            <a:avLst/>
          </a:prstGeom>
          <a:noFill/>
          <a:ln w="0">
            <a:noFill/>
          </a:ln>
        </p:spPr>
        <p:txBody>
          <a:bodyPr anchor="t">
            <a:normAutofit/>
          </a:bodyPr>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Privacy</a:t>
            </a:r>
            <a:r>
              <a:rPr b="0" lang="en-US" sz="2800" spc="-1" strike="noStrike">
                <a:solidFill>
                  <a:srgbClr val="000000"/>
                </a:solidFill>
                <a:latin typeface="Arial"/>
                <a:ea typeface="Times New Roman"/>
              </a:rPr>
              <a:t> is the right of an individual to </a:t>
            </a:r>
            <a:endParaRPr b="0" lang="en-US" sz="2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trol your own personal information, and </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have it disclosed or used by others without permission.</a:t>
            </a:r>
            <a:endParaRPr b="0" lang="en-US" sz="2400" spc="-1" strike="noStrike">
              <a:solidFill>
                <a:srgbClr val="000000"/>
              </a:solidFill>
              <a:latin typeface="Arial"/>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Confidentiality</a:t>
            </a:r>
            <a:r>
              <a:rPr b="0" lang="en-US" sz="2800" spc="-1" strike="noStrike">
                <a:solidFill>
                  <a:srgbClr val="000000"/>
                </a:solidFill>
                <a:latin typeface="Arial"/>
                <a:ea typeface="Times New Roman"/>
              </a:rPr>
              <a:t> is the obligation of another party to respect privacy by </a:t>
            </a:r>
            <a:endParaRPr b="0" lang="en-US" sz="2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tecting personal information they receive, and </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eventing it from being used or disclosed without the subject’s knowledge and permission.</a:t>
            </a:r>
            <a:endParaRPr b="0" lang="en-US" sz="2400" spc="-1" strike="noStrike">
              <a:solidFill>
                <a:srgbClr val="000000"/>
              </a:solidFill>
              <a:latin typeface="Arial"/>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ecurity</a:t>
            </a:r>
            <a:r>
              <a:rPr b="0" lang="en-US" sz="2800" spc="-1" strike="noStrike">
                <a:solidFill>
                  <a:srgbClr val="000000"/>
                </a:solidFill>
                <a:latin typeface="Arial"/>
                <a:ea typeface="Times New Roman"/>
              </a:rPr>
              <a:t> is the means used to protect the confidentiality of personal information through</a:t>
            </a:r>
            <a:endParaRPr b="0" lang="en-US" sz="2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technical and administrative safeguards</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 </a:t>
            </a:r>
            <a:r>
              <a:rPr b="1" lang="en-GB" sz="3600" spc="-1" strike="noStrike">
                <a:solidFill>
                  <a:srgbClr val="003399"/>
                </a:solidFill>
                <a:latin typeface="Garamond"/>
              </a:rPr>
              <a:t>Definitions for Privacy &amp; Security</a:t>
            </a:r>
            <a:br>
              <a:rPr sz="3800"/>
            </a:br>
            <a:endParaRPr b="0" lang="en-US" sz="3600" spc="-1" strike="noStrike">
              <a:solidFill>
                <a:srgbClr val="003399"/>
              </a:solidFill>
              <a:latin typeface="Garamond"/>
            </a:endParaRPr>
          </a:p>
        </p:txBody>
      </p:sp>
      <p:sp>
        <p:nvSpPr>
          <p:cNvPr id="19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77B5-68C5-498A-A049-01CF2B98E71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rmation Technology (IT) </a:t>
            </a:r>
            <a:endParaRPr b="0" lang="en-US" sz="36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urity Defined</a:t>
            </a:r>
            <a:br>
              <a:rPr sz="4400"/>
            </a:b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9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F5D6-F017-4FEF-AA5F-9A73D197A4E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96" name=""/>
          <p:cNvSpPr txBox="1"/>
          <p:nvPr/>
        </p:nvSpPr>
        <p:spPr>
          <a:xfrm>
            <a:off x="380880" y="121896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formation Technology</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technology has been defined as: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y equipment, or interconnected system(s) or subsystem(s) of equipment  used in the automatic acquisition, storage, manipulation, management, movement, control, display, switching, interchange, transmission, or reception of data or information by the agency.”</a:t>
            </a:r>
            <a:endParaRPr b="0" lang="en-US" sz="2600" spc="-1" strike="noStrike">
              <a:solidFill>
                <a:srgbClr val="000000"/>
              </a:solidFill>
              <a:latin typeface="Arial"/>
            </a:endParaRPr>
          </a:p>
        </p:txBody>
      </p:sp>
      <p:sp>
        <p:nvSpPr>
          <p:cNvPr id="19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B146-7124-4E8E-93CC-A380792DFCA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6277-0D6A-4A67-BE99-D0221D8B47B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53352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42"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ir Information Practice Principle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ws and Statutes of Privacy and Security</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ivacy Defined</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ecurity Defined</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FISMA Reporting Chief Information Officer Question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SORN Essential Elements Crosswalk</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 - The Way Ahea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99" name=""/>
          <p:cNvSpPr txBox="1"/>
          <p:nvPr/>
        </p:nvSpPr>
        <p:spPr>
          <a:xfrm>
            <a:off x="533520" y="1066320"/>
            <a:ext cx="8153280" cy="5410440"/>
          </a:xfrm>
          <a:prstGeom prst="rect">
            <a:avLst/>
          </a:prstGeom>
          <a:noFill/>
          <a:ln w="0">
            <a:noFill/>
          </a:ln>
        </p:spPr>
        <p:txBody>
          <a:bodyPr anchor="t">
            <a:normAutofit/>
          </a:bodyPr>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Computer Security: A Practical Definition </a:t>
            </a:r>
            <a:endParaRPr b="0" lang="en-US" sz="2300" spc="-1" strike="noStrike">
              <a:solidFill>
                <a:srgbClr val="000000"/>
              </a:solidFill>
              <a:latin typeface="Arial"/>
            </a:endParaRPr>
          </a:p>
          <a:p>
            <a:pPr marL="343080" indent="-343080">
              <a:lnSpc>
                <a:spcPct val="80000"/>
              </a:lnSpc>
              <a:spcBef>
                <a:spcPts val="57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efining “Computer (IT) security" is not trivial. The difficulty lies in developing a definition that is broad enough to be valid regardless of the system being described, yet specific enough to describe what security really is. In a generic sense, security is "freedom from risk or danger." </a:t>
            </a:r>
            <a:endParaRPr b="0" lang="en-US" sz="2300" spc="-1" strike="noStrike">
              <a:solidFill>
                <a:srgbClr val="000000"/>
              </a:solidFill>
              <a:latin typeface="Arial"/>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n the context of computer science, security is the prevention of, or protection against,</a:t>
            </a:r>
            <a:endParaRPr b="0" lang="en-US" sz="23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to information by unauthorized recipients, and </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ntional but unauthorized destruction or alteration of that information</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can be re-stated: “Security is the ability of a system to protect information and system resources with respect to confidentiality and integrity." Note that the scope of this second definition includes system resources, which include CPUs, disks, and programs, in addition to information.</a:t>
            </a:r>
            <a:endParaRPr b="0" lang="en-US" sz="2000" spc="-1" strike="noStrike">
              <a:solidFill>
                <a:srgbClr val="000000"/>
              </a:solidFill>
              <a:latin typeface="Arial"/>
            </a:endParaRPr>
          </a:p>
        </p:txBody>
      </p:sp>
      <p:sp>
        <p:nvSpPr>
          <p:cNvPr id="2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2889-11FD-45E8-A92D-B2B486841C6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02" name=""/>
          <p:cNvSpPr txBox="1"/>
          <p:nvPr/>
        </p:nvSpPr>
        <p:spPr>
          <a:xfrm>
            <a:off x="457200" y="1066320"/>
            <a:ext cx="8229600" cy="5064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security </a:t>
            </a:r>
            <a:r>
              <a:rPr b="0" lang="en-US" sz="2800" spc="-1" strike="noStrike">
                <a:solidFill>
                  <a:srgbClr val="000000"/>
                </a:solidFill>
                <a:latin typeface="Arial"/>
              </a:rPr>
              <a:t>is not restricted to the three broad concept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deas that are often considered part of the characteristics of computer security include:</a:t>
            </a:r>
            <a:endParaRPr b="0" lang="en-US" sz="28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control</a:t>
            </a:r>
            <a:r>
              <a:rPr b="0" lang="en-US" sz="2400" spc="-1" strike="noStrike">
                <a:solidFill>
                  <a:srgbClr val="000000"/>
                </a:solidFill>
                <a:latin typeface="Arial"/>
              </a:rPr>
              <a:t> -- Ensuring that users access only those resources and services that they are entitled to access and that qualified users are not denied access to services that they legitimately expect to receive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repudiation</a:t>
            </a:r>
            <a:r>
              <a:rPr b="0" lang="en-US" sz="2400" spc="-1" strike="noStrike">
                <a:solidFill>
                  <a:srgbClr val="000000"/>
                </a:solidFill>
                <a:latin typeface="Arial"/>
              </a:rPr>
              <a:t> -- Ensuring that the originators of messages cannot deny that they in fact sent the message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8A88-EBD1-412B-A7AE-4A846AC96F5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05" name=""/>
          <p:cNvSpPr txBox="1"/>
          <p:nvPr/>
        </p:nvSpPr>
        <p:spPr>
          <a:xfrm>
            <a:off x="457200" y="1218960"/>
            <a:ext cx="8229600" cy="49114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puter security </a:t>
            </a:r>
            <a:r>
              <a:rPr b="0" lang="en-US" sz="3000" spc="-1" strike="noStrike">
                <a:solidFill>
                  <a:srgbClr val="000000"/>
                </a:solidFill>
                <a:latin typeface="Arial"/>
              </a:rPr>
              <a:t>characteristics include:</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vailability</a:t>
            </a:r>
            <a:r>
              <a:rPr b="0" lang="en-US" sz="3000" spc="-1" strike="noStrike">
                <a:solidFill>
                  <a:srgbClr val="000000"/>
                </a:solidFill>
                <a:latin typeface="Arial"/>
              </a:rPr>
              <a:t> -- Ensuring that a system is operational and functional at a given moment, usually provided through redundancy; loss of availability is often referred to as "denial-of-service"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vacy</a:t>
            </a:r>
            <a:r>
              <a:rPr b="0" lang="en-US" sz="3000" spc="-1" strike="noStrike">
                <a:solidFill>
                  <a:srgbClr val="000000"/>
                </a:solidFill>
                <a:latin typeface="Arial"/>
              </a:rPr>
              <a:t> -- Ensuring that individuals maintain the right to control what information is collected about them, how it is used, who has used it, who maintains it, and what purpose it is used for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9215-7841-4162-89E4-89A036C76D7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08" name=""/>
          <p:cNvSpPr txBox="1"/>
          <p:nvPr/>
        </p:nvSpPr>
        <p:spPr>
          <a:xfrm>
            <a:off x="533520" y="1142640"/>
            <a:ext cx="8153280" cy="51814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omputer Security, A Functional View </a:t>
            </a:r>
            <a:endParaRPr b="0" lang="en-US" sz="32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nalyzing security by function can be a valuable part of the security planning process addressing the following five areas:</a:t>
            </a:r>
            <a:endParaRPr b="0" lang="en-US" sz="2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Times New Roman"/>
              </a:rPr>
              <a:t>Risk avoidance</a:t>
            </a:r>
            <a:r>
              <a:rPr b="0" lang="en-US" sz="2100" spc="-1" strike="noStrike">
                <a:solidFill>
                  <a:srgbClr val="000000"/>
                </a:solidFill>
                <a:latin typeface="Arial"/>
                <a:ea typeface="Times New Roman"/>
              </a:rPr>
              <a:t> -- A security fundamental that starts with questions: </a:t>
            </a:r>
            <a:endParaRPr b="0" lang="en-US" sz="21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es my organization or business engage in activities that are too risky? Do we really need an unrestricted Internet connection?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 we really need to computerize that secure business process?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ould we standardize a desktop operating system with no access control fundamentals?</a:t>
            </a:r>
            <a:endParaRPr b="0" lang="en-US" sz="1800" spc="-1" strike="noStrike">
              <a:solidFill>
                <a:srgbClr val="000000"/>
              </a:solidFill>
              <a:latin typeface="Arial"/>
            </a:endParaRPr>
          </a:p>
          <a:p>
            <a:pPr lvl="1" marL="669960" indent="-325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Times New Roman"/>
              </a:rPr>
              <a:t>Deterrence</a:t>
            </a:r>
            <a:r>
              <a:rPr b="0" lang="en-US" sz="2100" spc="-1" strike="noStrike">
                <a:solidFill>
                  <a:srgbClr val="000000"/>
                </a:solidFill>
                <a:latin typeface="Arial"/>
                <a:ea typeface="Times New Roman"/>
              </a:rPr>
              <a:t> -- Reduces the threat to information assets through fear. Can consist of communication strategies designed to impress potential attackers of the likelihood of getting caught. </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6681-0D63-4D55-9D66-56CFACE649B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11" name=""/>
          <p:cNvSpPr txBox="1"/>
          <p:nvPr/>
        </p:nvSpPr>
        <p:spPr>
          <a:xfrm>
            <a:off x="533520" y="1142640"/>
            <a:ext cx="8153280" cy="51814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mputer Security A Functional View </a:t>
            </a:r>
            <a:r>
              <a:rPr b="1" lang="en-US" sz="2400" spc="-1" strike="noStrike">
                <a:solidFill>
                  <a:srgbClr val="000000"/>
                </a:solidFill>
                <a:latin typeface="Times New Roman"/>
                <a:ea typeface="Times New Roman"/>
              </a:rPr>
              <a:t>(Continued)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vention</a:t>
            </a:r>
            <a:r>
              <a:rPr b="0" lang="en-US" sz="2400" spc="-1" strike="noStrike">
                <a:solidFill>
                  <a:srgbClr val="000000"/>
                </a:solidFill>
                <a:latin typeface="Times New Roman"/>
                <a:ea typeface="Times New Roman"/>
              </a:rPr>
              <a:t> -- The traditional core of computer security. Consists of implementing safeguards and tools. Absolute prevention is theoretical, since there's a vanishing point where additional preventative measures are no longer cost-effective.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tection</a:t>
            </a:r>
            <a:r>
              <a:rPr b="0" lang="en-US" sz="2400" spc="-1" strike="noStrike">
                <a:solidFill>
                  <a:srgbClr val="000000"/>
                </a:solidFill>
                <a:latin typeface="Times New Roman"/>
                <a:ea typeface="Times New Roman"/>
              </a:rPr>
              <a:t> -- Works best in conjunction with preventative measures. When prevention fails, detection should kick in, preferably while there's still time to prevent damage. Includes log-keeping and auditing activities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very</a:t>
            </a:r>
            <a:r>
              <a:rPr b="0" lang="en-US" sz="2400" spc="-1" strike="noStrike">
                <a:solidFill>
                  <a:srgbClr val="000000"/>
                </a:solidFill>
                <a:latin typeface="Times New Roman"/>
                <a:ea typeface="Times New Roman"/>
              </a:rPr>
              <a:t> -- When all else fails, be prepared to pull out backup media and restore from scratch, or cut to backup servers and net connections, or fall back on a disaster recovery facility. Arguably, this function should be attended to before the others starting with recovery.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EFBD-E46A-49C4-9873-8AFAC7D498A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3800"/>
            </a:br>
            <a:endParaRPr b="0" lang="en-US" sz="4000" spc="-1" strike="noStrike">
              <a:solidFill>
                <a:srgbClr val="003399"/>
              </a:solidFill>
              <a:latin typeface="Garamond"/>
            </a:endParaRPr>
          </a:p>
        </p:txBody>
      </p:sp>
      <p:sp>
        <p:nvSpPr>
          <p:cNvPr id="214" name=""/>
          <p:cNvSpPr txBox="1"/>
          <p:nvPr/>
        </p:nvSpPr>
        <p:spPr>
          <a:xfrm>
            <a:off x="304920" y="1066680"/>
            <a:ext cx="8534160" cy="5181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Summary, Security Plus Privacy</a:t>
            </a:r>
            <a:endParaRPr b="0" lang="en-US" sz="28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 is the right of individuals to control what information is:</a:t>
            </a:r>
            <a:endParaRPr b="0" lang="en-US" sz="24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ed about them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maintains it</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t is used,</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has used it, and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urpose it is used for �</a:t>
            </a:r>
            <a:endParaRPr b="0" lang="en-US" sz="18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curity is the ability of a system to protect information and system resources with respect to:</a:t>
            </a:r>
            <a:endParaRPr b="0" lang="en-US" sz="21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integrity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tiality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pudiation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rotection </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22F9-18B3-4957-A26D-956F9778FAA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nual FISMA Reporting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ef Information Officer Questions</a:t>
            </a:r>
            <a:endParaRPr b="0" lang="en-US" sz="36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9A5D-B083-4B8E-A456-18D75F1D726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08E3-A394-4043-9A10-CE19934B089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a:t>
            </a:r>
            <a:r>
              <a:rPr b="1" lang="en-US" sz="3200" spc="-1" strike="noStrike">
                <a:solidFill>
                  <a:srgbClr val="003399"/>
                </a:solidFill>
                <a:latin typeface="Garamond"/>
              </a:rPr>
              <a:t>FISMA Reporting Chief Information Officer Questions FY 2009</a:t>
            </a:r>
            <a:br>
              <a:rPr sz="3200"/>
            </a:br>
            <a:r>
              <a:rPr b="1" lang="en-US" sz="3200" spc="-1" strike="noStrike">
                <a:solidFill>
                  <a:srgbClr val="003399"/>
                </a:solidFill>
                <a:latin typeface="Garamond"/>
              </a:rPr>
              <a:t>	</a:t>
            </a:r>
            <a:endParaRPr b="0" lang="en-US" sz="3200" spc="-1" strike="noStrike">
              <a:solidFill>
                <a:srgbClr val="003399"/>
              </a:solidFill>
              <a:latin typeface="Garamond"/>
            </a:endParaRPr>
          </a:p>
        </p:txBody>
      </p:sp>
      <p:sp>
        <p:nvSpPr>
          <p:cNvPr id="221" name="PlaceHolder 2"/>
          <p:cNvSpPr>
            <a:spLocks noGrp="1"/>
          </p:cNvSpPr>
          <p:nvPr>
            <p:ph/>
          </p:nvPr>
        </p:nvSpPr>
        <p:spPr>
          <a:xfrm>
            <a:off x="380880" y="1676520"/>
            <a:ext cx="830592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1: System Inventory </a:t>
            </a:r>
            <a:endParaRPr b="0" lang="en-US" sz="32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Identify the number of agency and contractors systems by component and FIPS 199 impact level (low, moderate, high). </a:t>
            </a:r>
            <a:endParaRPr b="0" lang="en-US" sz="2800" spc="-1" strike="noStrike">
              <a:solidFill>
                <a:srgbClr val="000000"/>
              </a:solidFill>
              <a:latin typeface="Arial"/>
            </a:endParaRPr>
          </a:p>
          <a:p>
            <a:pPr lvl="1" marL="669960" indent="-325440">
              <a:spcBef>
                <a:spcPts val="7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also identify the number of systems that are used by your agency but owned by another federal agency (i.e., ePayroll, etc.) by component and FIPS 199 impact leve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FA96-1B93-4336-8348-D2CA9A985C0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a:t>
            </a:r>
            <a:r>
              <a:rPr b="1" lang="en-US" sz="3200" spc="-1" strike="noStrike">
                <a:solidFill>
                  <a:srgbClr val="003399"/>
                </a:solidFill>
                <a:latin typeface="Garamond"/>
              </a:rPr>
              <a:t>FISMA Reporting Chief Information Officer Questions FY 2009</a:t>
            </a:r>
            <a:br>
              <a:rPr sz="3200"/>
            </a:br>
            <a:r>
              <a:rPr b="1" lang="en-US" sz="3200" spc="-1" strike="noStrike">
                <a:solidFill>
                  <a:srgbClr val="003399"/>
                </a:solidFill>
                <a:latin typeface="Garamond"/>
              </a:rPr>
              <a:t>	</a:t>
            </a:r>
            <a:endParaRPr b="0" lang="en-US" sz="3200" spc="-1" strike="noStrike">
              <a:solidFill>
                <a:srgbClr val="003399"/>
              </a:solidFill>
              <a:latin typeface="Garamond"/>
            </a:endParaRPr>
          </a:p>
        </p:txBody>
      </p:sp>
      <p:pic>
        <p:nvPicPr>
          <p:cNvPr id="224" name="Picture 2" descr=""/>
          <p:cNvPicPr/>
          <p:nvPr/>
        </p:nvPicPr>
        <p:blipFill>
          <a:blip r:embed="rId1"/>
          <a:stretch/>
        </p:blipFill>
        <p:spPr>
          <a:xfrm>
            <a:off x="533520" y="1295280"/>
            <a:ext cx="8094600" cy="4729320"/>
          </a:xfrm>
          <a:prstGeom prst="rect">
            <a:avLst/>
          </a:prstGeom>
          <a:ln w="0">
            <a:noFill/>
          </a:ln>
        </p:spPr>
      </p:pic>
      <p:sp>
        <p:nvSpPr>
          <p:cNvPr id="225" name="TextBox 10"/>
          <p:cNvSpPr/>
          <p:nvPr/>
        </p:nvSpPr>
        <p:spPr>
          <a:xfrm>
            <a:off x="7046280" y="5918040"/>
            <a:ext cx="121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FIPS 1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1D3E-EADC-4D50-AB3B-A30EB6B7872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aramond"/>
              </a:rPr>
              <a:t>Privacy and IT Security -</a:t>
            </a:r>
            <a:r>
              <a:rPr b="1" lang="en-US" sz="2400" spc="-1" strike="noStrike">
                <a:solidFill>
                  <a:srgbClr val="003399"/>
                </a:solidFill>
                <a:latin typeface="Garamond"/>
              </a:rPr>
              <a:t>FISMA Reporting Chief Information Officer Questions FY 2009</a:t>
            </a:r>
            <a:br>
              <a:rPr sz="3200"/>
            </a:br>
            <a:r>
              <a:rPr b="1" lang="en-US" sz="3200" spc="-1" strike="noStrike">
                <a:solidFill>
                  <a:srgbClr val="003399"/>
                </a:solidFill>
                <a:latin typeface="Garamond"/>
              </a:rPr>
              <a:t>	</a:t>
            </a:r>
            <a:endParaRPr b="0" lang="en-US" sz="3200" spc="-1" strike="noStrike">
              <a:solidFill>
                <a:srgbClr val="003399"/>
              </a:solidFill>
              <a:latin typeface="Garamond"/>
            </a:endParaRPr>
          </a:p>
        </p:txBody>
      </p:sp>
      <p:sp>
        <p:nvSpPr>
          <p:cNvPr id="228" name="PlaceHolder 2"/>
          <p:cNvSpPr>
            <a:spLocks noGrp="1"/>
          </p:cNvSpPr>
          <p:nvPr>
            <p:ph/>
          </p:nvPr>
        </p:nvSpPr>
        <p:spPr>
          <a:xfrm>
            <a:off x="380880" y="1295280"/>
            <a:ext cx="8305920" cy="483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2: </a:t>
            </a:r>
            <a:r>
              <a:rPr b="0" lang="en-US" sz="2400" spc="-1" strike="noStrike">
                <a:solidFill>
                  <a:srgbClr val="000000"/>
                </a:solidFill>
                <a:latin typeface="Arial"/>
              </a:rPr>
              <a:t>Certification and Accreditation (C&amp;A), Security Controls Testing, and Contingency Plan Tes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the Total Number of Systems identified by Component/Bureau and FIPS System Impact Level in the table for Question 1, identify the number and percentage of systems which have: a current certification and accreditation, security controls tested and reviewed within the past year, and a contingency plan tested within in accordance with polic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ease identify all systems reported as not having a C&amp;A. You will need to provide the System Name, and Unique Project Identifier (UPI).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44"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ir Information Practice Principle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7C2C-71E3-4A22-8027-57AA593EFA6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FBBC-A46C-486B-8563-B6838ACA104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3: </a:t>
            </a:r>
            <a:r>
              <a:rPr b="0" lang="en-US" sz="2800" spc="-1" strike="noStrike">
                <a:solidFill>
                  <a:srgbClr val="000000"/>
                </a:solidFill>
                <a:latin typeface="Arial"/>
              </a:rPr>
              <a:t>Annual Testing and Continuous Monitor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tools and techniques do you use for continuous monitoring?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D277-EF11-41D3-9E9F-D193E9A5957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34" name="PlaceHolder 2"/>
          <p:cNvSpPr>
            <a:spLocks noGrp="1"/>
          </p:cNvSpPr>
          <p:nvPr>
            <p:ph/>
          </p:nvPr>
        </p:nvSpPr>
        <p:spPr>
          <a:xfrm>
            <a:off x="456840" y="1218960"/>
            <a:ext cx="8381880" cy="491148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stion 4: </a:t>
            </a:r>
            <a:r>
              <a:rPr b="0" lang="en-US" sz="2400" spc="-1" strike="noStrike">
                <a:solidFill>
                  <a:srgbClr val="000000"/>
                </a:solidFill>
                <a:latin typeface="Arial"/>
                <a:ea typeface="Times New Roman"/>
              </a:rPr>
              <a:t>Incident Detection, Monitoring, and Response Capabilities. </a:t>
            </a:r>
            <a:endParaRPr b="0" lang="en-US" sz="24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tools, techniques, technologies, etc., does the agency use for incident detection? </a:t>
            </a:r>
            <a:endParaRPr b="0" lang="en-US" sz="1800" spc="-1" strike="noStrike">
              <a:solidFill>
                <a:srgbClr val="000000"/>
              </a:solidFill>
              <a:latin typeface="Arial"/>
            </a:endParaRPr>
          </a:p>
          <a:p>
            <a:pPr lvl="1" marL="59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w often does the agency log and monitor activities involving access to and modification of critical information? (Answer will be a range in percentages)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percentage of systems maintain audit trails that provide a trace of user actions?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es the agency maintain an incident handling and response capability?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tools, techniques, technologies, etc. does the agency use for incident handling and response? </a:t>
            </a:r>
            <a:endParaRPr b="0" lang="en-US" sz="1800" spc="-1" strike="noStrike">
              <a:solidFill>
                <a:srgbClr val="000000"/>
              </a:solidFill>
              <a:latin typeface="Arial"/>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DE6F-52BF-4658-87B2-E9D29A0E946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Question 5: </a:t>
            </a:r>
            <a:r>
              <a:rPr b="0" lang="en-US" sz="2800" spc="-1" strike="noStrike">
                <a:solidFill>
                  <a:srgbClr val="000000"/>
                </a:solidFill>
                <a:latin typeface="Arial"/>
                <a:ea typeface="Arial"/>
              </a:rPr>
              <a:t>Security Awareness Training. </a:t>
            </a:r>
            <a:endParaRPr b="0" lang="en-US" sz="28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deral agencies and organizations cannot protect the confidentiality, integrity, and availability of information in today’s highly networked systems environment without ensuring that all people involved in using and managing IT:</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stand their roles and responsibilities related to the organizational mission;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stand the organization’s IT security policy, procedures, and practices; and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ve at least adequate knowledge of the various management, operational, and technical controls required and available to protect the IT resources for which they are responsible. </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7808-0118-4BF3-A46D-ABD70931EA2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6: </a:t>
            </a:r>
            <a:r>
              <a:rPr b="0" lang="en-US" sz="3000" spc="-1" strike="noStrike">
                <a:solidFill>
                  <a:srgbClr val="000000"/>
                </a:solidFill>
                <a:latin typeface="Arial"/>
              </a:rPr>
              <a:t>Peer-to-Peer File Sharing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agency explain policies regarding the use of peer-to-peer file sharing in information security awareness training, ethics training, or any other agency-wide training?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8A78-529A-491F-84AA-264206C57A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3" name="PlaceHolder 2"/>
          <p:cNvSpPr>
            <a:spLocks noGrp="1"/>
          </p:cNvSpPr>
          <p:nvPr>
            <p:ph/>
          </p:nvPr>
        </p:nvSpPr>
        <p:spPr>
          <a:xfrm>
            <a:off x="457200" y="1447560"/>
            <a:ext cx="8229600" cy="46479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ing Peer-to-Peer Facts</a:t>
            </a:r>
            <a:endParaRPr b="0" lang="en-US" sz="2400" spc="-1" strike="noStrike">
              <a:solidFill>
                <a:srgbClr val="000000"/>
              </a:solidFill>
              <a:latin typeface="Arial"/>
            </a:endParaRPr>
          </a:p>
          <a:p>
            <a:pPr marL="335880" indent="-3358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150 million + users of peer-to-peer software. (Internetfilterreview.com)</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12-18 years old make up 41% of American P2P users. (Recording Industry Association of America)</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6% of files found using innocent search terms were pornographic. (House committee on Governmen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Reform and General Accounting Office) </a:t>
            </a:r>
            <a:endParaRPr b="0" lang="en-US" sz="2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derstanding Peer-to-Peer Networking i-SAFE America Inc.</a:t>
            </a:r>
            <a:endParaRPr b="0" lang="en-US" sz="1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8B62-E718-471D-A20B-358C90D43D2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6" name="PlaceHolder 2"/>
          <p:cNvSpPr>
            <a:spLocks noGrp="1"/>
          </p:cNvSpPr>
          <p:nvPr>
            <p:ph/>
          </p:nvPr>
        </p:nvSpPr>
        <p:spPr>
          <a:xfrm>
            <a:off x="457200" y="1352520"/>
            <a:ext cx="8153280" cy="432432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1</a:t>
            </a:r>
            <a:r>
              <a:rPr b="1" lang="en-US" sz="2400" spc="-1" strike="noStrike">
                <a:solidFill>
                  <a:srgbClr val="000000"/>
                </a:solidFill>
                <a:latin typeface="Arial"/>
              </a:rPr>
              <a:t>What is file sha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2000" spc="-1" strike="noStrike">
                <a:solidFill>
                  <a:srgbClr val="000000"/>
                </a:solidFill>
                <a:latin typeface="Arial"/>
                <a:ea typeface="Times New Roman"/>
              </a:rPr>
              <a:t>File sharing involves using technology that allows internet users to share files that  are housed on their individual computers. Peer-to-peer (P2P) applications,  such as those used to share music files, are some of the most common forms of file-sharing technology.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P2P applications introduce security risks that may put your information or your computer in jeopardy.</a:t>
            </a:r>
            <a:endParaRPr b="0" lang="en-US" sz="2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From US-CERT Cyber Security Tip ST05-007, produced by Mindi McDowell, Brent Wrisley, Will Dormann, Carnegie Mellon University, 2005, 2008.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0509-9BD2-40D4-AADE-F96BC306C5D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9" name="PlaceHolder 2"/>
          <p:cNvSpPr>
            <a:spLocks noGrp="1"/>
          </p:cNvSpPr>
          <p:nvPr>
            <p:ph/>
          </p:nvPr>
        </p:nvSpPr>
        <p:spPr>
          <a:xfrm>
            <a:off x="304560" y="1294920"/>
            <a:ext cx="8381880" cy="517068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1</a:t>
            </a:r>
            <a:r>
              <a:rPr b="1" lang="en-US" sz="2400" spc="-1" strike="noStrike">
                <a:solidFill>
                  <a:srgbClr val="000000"/>
                </a:solidFill>
                <a:latin typeface="Arial"/>
              </a:rPr>
              <a:t>What risks does file-sharing technology introduc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tallation of malicious code</a:t>
            </a:r>
            <a:r>
              <a:rPr b="0" lang="en-US" sz="1800" spc="-1" strike="noStrike">
                <a:solidFill>
                  <a:srgbClr val="000000"/>
                </a:solidFill>
                <a:latin typeface="Arial"/>
              </a:rPr>
              <a:t> - When you use P2P applications, it is difficult, if not impossible, to verify that the source of the files is trustworthy.</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posure of sensitive or personal information</a:t>
            </a:r>
            <a:r>
              <a:rPr b="0" lang="en-US" sz="1800" spc="-1" strike="noStrike">
                <a:solidFill>
                  <a:srgbClr val="000000"/>
                </a:solidFill>
                <a:latin typeface="Arial"/>
              </a:rPr>
              <a:t> - By using P2P applications, you may be giving other users access to personal inform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sceptibility to attack</a:t>
            </a:r>
            <a:r>
              <a:rPr b="0" lang="en-US" sz="1800" spc="-1" strike="noStrike">
                <a:solidFill>
                  <a:srgbClr val="000000"/>
                </a:solidFill>
                <a:latin typeface="Arial"/>
              </a:rPr>
              <a:t> - Some P2P applications may ask you to open certain ports on your firewall to transmit the fil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ial of service</a:t>
            </a:r>
            <a:r>
              <a:rPr b="0" lang="en-US" sz="1800" spc="-1" strike="noStrike">
                <a:solidFill>
                  <a:srgbClr val="000000"/>
                </a:solidFill>
                <a:latin typeface="Arial"/>
              </a:rPr>
              <a:t> - Downloading files causes a significant amount of traffic over the network.</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secution</a:t>
            </a:r>
            <a:r>
              <a:rPr b="0" lang="en-US" sz="1800" spc="-1" strike="noStrike">
                <a:solidFill>
                  <a:srgbClr val="000000"/>
                </a:solidFill>
                <a:latin typeface="Arial"/>
              </a:rPr>
              <a:t> - Files shared through P2P applications may include pirated software, copyrighted material, or pornography. If you download these, even unknowingly, you may be faced with fines or other legal ac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D734-EB11-43BC-B5B3-AB1BA967F54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52" name="PlaceHolder 2"/>
          <p:cNvSpPr>
            <a:spLocks noGrp="1"/>
          </p:cNvSpPr>
          <p:nvPr>
            <p:ph/>
          </p:nvPr>
        </p:nvSpPr>
        <p:spPr>
          <a:xfrm>
            <a:off x="304560" y="763200"/>
            <a:ext cx="8458200" cy="60944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baseline="30000">
                <a:solidFill>
                  <a:srgbClr val="000000"/>
                </a:solidFill>
                <a:latin typeface="Arial"/>
              </a:rPr>
              <a:t>1</a:t>
            </a:r>
            <a:r>
              <a:rPr b="1" lang="en-US" sz="2800" spc="-1" strike="noStrike">
                <a:solidFill>
                  <a:srgbClr val="000000"/>
                </a:solidFill>
                <a:latin typeface="Arial"/>
              </a:rPr>
              <a:t>How can you minimize these risks?</a:t>
            </a:r>
            <a:endParaRPr b="0" lang="en-US" sz="2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best way to eliminate these risks is to avoid using P2P applications.  However, if you choose to use this technology, you can follow some good security practices to minimize your risk: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26880">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 and maintain anti-virus software</a:t>
            </a:r>
            <a:r>
              <a:rPr b="0" lang="en-US" sz="2000" spc="-1" strike="noStrike">
                <a:solidFill>
                  <a:srgbClr val="000000"/>
                </a:solidFill>
                <a:latin typeface="Arial"/>
              </a:rPr>
              <a:t> - Anti-virus software recognizes and protects your computer against most known viruses.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6880">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stall or enable a firewall</a:t>
            </a:r>
            <a:r>
              <a:rPr b="0" lang="en-US" sz="2000" spc="-1" strike="noStrike">
                <a:solidFill>
                  <a:srgbClr val="000000"/>
                </a:solidFill>
                <a:latin typeface="Arial"/>
              </a:rPr>
              <a:t> - Firewalls may be able to prevent some types of infection by blocking malicious traffic before it can enter your computer.</a:t>
            </a:r>
            <a:endParaRPr b="0" lang="en-US" sz="2000" spc="-1" strike="noStrike">
              <a:solidFill>
                <a:srgbClr val="000000"/>
              </a:solidFill>
              <a:latin typeface="Arial"/>
            </a:endParaRPr>
          </a:p>
          <a:p>
            <a:pPr lvl="1" marL="326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6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From US-CERT Cyber Security Tip ST05-007, produced by Mindi McDowell, Brent Wrisley, Will Dormann, Carnegie Mellon University, 2005, 2008.</a:t>
            </a:r>
            <a:endParaRPr b="0" lang="en-US" sz="1200" spc="-1" strike="noStrike">
              <a:solidFill>
                <a:srgbClr val="000000"/>
              </a:solidFill>
              <a:latin typeface="Arial"/>
            </a:endParaRPr>
          </a:p>
          <a:p>
            <a:pPr lvl="1" marL="326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2A01-ED91-4BA6-B2AF-D8B73C7B516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a:t>
            </a:r>
            <a:r>
              <a:rPr b="0" lang="en-US" sz="2400" spc="-1" strike="noStrike">
                <a:solidFill>
                  <a:srgbClr val="000000"/>
                </a:solidFill>
                <a:latin typeface="Arial"/>
              </a:rPr>
              <a:t>Configuration Management </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 agency wide security configuration policy? Yes or No. </a:t>
            </a:r>
            <a:endParaRPr b="0" lang="en-US" sz="2000" spc="-1" strike="noStrike">
              <a:solidFill>
                <a:srgbClr val="000000"/>
              </a:solidFill>
              <a:latin typeface="Arial"/>
            </a:endParaRPr>
          </a:p>
          <a:p>
            <a:pPr lvl="1" marL="669960" indent="-325440">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es" is selected, then agency will enter systems/platforms/applications for which configuration policies exist and give status of implementation of policies. </a:t>
            </a:r>
            <a:endParaRPr b="0" lang="en-US" sz="16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ols, techniques is your agency using for monitoring compliance?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 the status of the implementation of FDCC at your agency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y has documented deviations from FDCC standard configuration. Yes/N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DA6B-EED9-44FE-9B32-86FD784D1D6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a:t>
            </a:r>
            <a:r>
              <a:rPr b="0" lang="en-US" sz="2400" spc="-1" strike="noStrike">
                <a:solidFill>
                  <a:srgbClr val="000000"/>
                </a:solidFill>
                <a:latin typeface="Arial"/>
              </a:rPr>
              <a:t>Configuration Management </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Acquisition Regulation 2007-004 language, which modified "Part 39—Acquisition of Information Technology", is included in all contracts related to common security settings. Yes or No.7c.3 will be eliminated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Acquisition Regulation (Part 24, Protection of Privacy and Freedom of Information)</a:t>
            </a:r>
            <a:endParaRPr b="0" lang="en-US" sz="2000" spc="-1" strike="noStrike">
              <a:solidFill>
                <a:srgbClr val="000000"/>
              </a:solidFill>
              <a:latin typeface="Arial"/>
            </a:endParaRPr>
          </a:p>
          <a:p>
            <a:pPr lvl="1" marL="669960" indent="-325440">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24-1 Privacy Act Notification</a:t>
            </a:r>
            <a:endParaRPr b="0" lang="en-US" sz="1800" spc="-1" strike="noStrike">
              <a:solidFill>
                <a:srgbClr val="000000"/>
              </a:solidFill>
              <a:latin typeface="Arial"/>
            </a:endParaRPr>
          </a:p>
          <a:p>
            <a:pPr lvl="1" marL="669960" indent="-325440">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24-2 Privacy Ac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a:t>
            </a:r>
            <a:r>
              <a:rPr b="1" lang="en-US" sz="3600" spc="-1" strike="noStrike">
                <a:solidFill>
                  <a:srgbClr val="003399"/>
                </a:solidFill>
                <a:latin typeface="Garamond"/>
              </a:rPr>
              <a:t>Fair Information Practice Principles</a:t>
            </a:r>
            <a:br>
              <a:rPr sz="3800"/>
            </a:br>
            <a:endParaRPr b="0" lang="en-US" sz="3600" spc="-1" strike="noStrike">
              <a:solidFill>
                <a:srgbClr val="003399"/>
              </a:solidFill>
              <a:latin typeface="Garamond"/>
            </a:endParaRPr>
          </a:p>
        </p:txBody>
      </p:sp>
      <p:sp>
        <p:nvSpPr>
          <p:cNvPr id="14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C03A-1864-431A-987B-9D2FE056F8C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Text Box 26"/>
          <p:cNvSpPr/>
          <p:nvPr/>
        </p:nvSpPr>
        <p:spPr>
          <a:xfrm>
            <a:off x="457200" y="184464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May 2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Alternatives Exist for Enhancing Protection of Personally Identifiable Information” </a:t>
            </a:r>
            <a:endParaRPr b="0" lang="en-US" sz="1400" spc="-1" strike="noStrike">
              <a:solidFill>
                <a:srgbClr val="000000"/>
              </a:solidFill>
              <a:latin typeface="Arial"/>
            </a:endParaRPr>
          </a:p>
        </p:txBody>
      </p:sp>
      <p:graphicFrame>
        <p:nvGraphicFramePr>
          <p:cNvPr id="149" name=""/>
          <p:cNvGraphicFramePr/>
          <p:nvPr/>
        </p:nvGraphicFramePr>
        <p:xfrm>
          <a:off x="609480" y="1600200"/>
          <a:ext cx="8001000" cy="4267080"/>
        </p:xfrm>
        <a:graphic>
          <a:graphicData uri="http://schemas.openxmlformats.org/drawingml/2006/table">
            <a:tbl>
              <a:tblPr/>
              <a:tblGrid>
                <a:gridCol w="2198880"/>
                <a:gridCol w="5802120"/>
              </a:tblGrid>
              <a:tr h="7588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r Information Practice Principle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 limit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lection of personal information should be limited, should be obtained by lawful and fair means, and, where appropriate, with the knowledge or consent of the individual.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quality</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relevant to the purpose for which it is collected, and should be accurate, complete, and current as needed for that purpos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 specification</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s for the collection of personal information should be disclosed before collection and upon any change to that purpose, and its use should be limited to those purposes and compatible purpos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996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limitation</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not be disclosed or otherwise used for other than a specified purpose without consent of the individual or legal authority.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6E65-914C-4427-86AD-DA7CB141575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61" name="PlaceHolder 2"/>
          <p:cNvSpPr>
            <a:spLocks noGrp="1"/>
          </p:cNvSpPr>
          <p:nvPr>
            <p:ph/>
          </p:nvPr>
        </p:nvSpPr>
        <p:spPr>
          <a:xfrm>
            <a:off x="457200" y="14475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a:t>
            </a:r>
            <a:r>
              <a:rPr b="1" lang="en-US" sz="2400" spc="-1" strike="noStrike">
                <a:solidFill>
                  <a:srgbClr val="000000"/>
                </a:solidFill>
                <a:latin typeface="Arial"/>
              </a:rPr>
              <a:t>8: </a:t>
            </a:r>
            <a:r>
              <a:rPr b="0" lang="en-US" sz="2400" spc="-1" strike="noStrike">
                <a:solidFill>
                  <a:srgbClr val="000000"/>
                </a:solidFill>
                <a:latin typeface="Arial"/>
              </a:rPr>
              <a:t>Incident Reporting*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es the agency follow documented policies and procedures for identifying and reporting incidents internally?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es the agency comply with documented policies and procedures for timelines of reporting to US-CERT?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es the agency follow documented policies and procedures for reporting to law enforcement?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nswers are a percentage ran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06B6-966A-4D88-B5D2-9F486B74ABF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64" name="PlaceHolder 2"/>
          <p:cNvSpPr>
            <a:spLocks noGrp="1"/>
          </p:cNvSpPr>
          <p:nvPr>
            <p:ph/>
          </p:nvPr>
        </p:nvSpPr>
        <p:spPr>
          <a:xfrm>
            <a:off x="533520" y="1371600"/>
            <a:ext cx="8153280" cy="47592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9: </a:t>
            </a:r>
            <a:r>
              <a:rPr b="0" lang="en-US" sz="2400" spc="-1" strike="noStrike">
                <a:solidFill>
                  <a:srgbClr val="000000"/>
                </a:solidFill>
                <a:latin typeface="Arial"/>
              </a:rPr>
              <a:t>Performance Metrics for Security Policies and Procedures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curity metrics provide a practical approach to measuring information security.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related roles and responsibilities are dispersed throughout an organization.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T security metrics can be created to measure each aspect of the organization’s IT security.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ree (3) outcome/output-based performance metrics your agency uses to measure the effectiveness or efficiency of security policies and procedures.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C308-B5FB-4A8D-87FF-5A70E53630D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67" name="PlaceHolder 2"/>
          <p:cNvSpPr>
            <a:spLocks noGrp="1"/>
          </p:cNvSpPr>
          <p:nvPr>
            <p:ph/>
          </p:nvPr>
        </p:nvSpPr>
        <p:spPr>
          <a:xfrm>
            <a:off x="457200" y="144756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10: </a:t>
            </a:r>
            <a:r>
              <a:rPr b="0" lang="en-US" sz="3000" spc="-1" strike="noStrike">
                <a:solidFill>
                  <a:srgbClr val="000000"/>
                </a:solidFill>
                <a:latin typeface="Arial"/>
              </a:rPr>
              <a:t>Homeland Security Presidential Directive (HSPD-12)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icy for a Common Identification Standard for Federal Employees and Contractor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mber of FISMA applications in which federal employees and contractors are using HSPD-12 Personal Identity Verification credentials for acces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69" name=""/>
          <p:cNvSpPr txBox="1"/>
          <p:nvPr/>
        </p:nvSpPr>
        <p:spPr>
          <a:xfrm>
            <a:off x="533520" y="1599840"/>
            <a:ext cx="8229600" cy="45306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vacy Impact Assessments (PIA)</a:t>
            </a:r>
            <a:endParaRPr b="0" lang="en-US" sz="36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7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94D8-4CAE-420E-B5EC-798F5DE76A2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3F52-F63E-486F-8EF1-2D1D731BF1F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2" name="PlaceHolder 1"/>
          <p:cNvSpPr>
            <a:spLocks noGrp="1"/>
          </p:cNvSpPr>
          <p:nvPr>
            <p:ph type="title"/>
          </p:nvPr>
        </p:nvSpPr>
        <p:spPr>
          <a:xfrm>
            <a:off x="609120" y="380520"/>
            <a:ext cx="8047080" cy="93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73" name="PlaceHolder 2"/>
          <p:cNvSpPr>
            <a:spLocks noGrp="1"/>
          </p:cNvSpPr>
          <p:nvPr>
            <p:ph/>
          </p:nvPr>
        </p:nvSpPr>
        <p:spPr>
          <a:xfrm>
            <a:off x="457200" y="1218960"/>
            <a:ext cx="8229600" cy="4911480"/>
          </a:xfrm>
          <a:prstGeom prst="rect">
            <a:avLst/>
          </a:prstGeom>
          <a:noFill/>
          <a:ln w="0">
            <a:noFill/>
          </a:ln>
        </p:spPr>
        <p:txBody>
          <a:bodyPr anchor="t">
            <a:normAutofit fontScale="98000"/>
          </a:bodyPr>
          <a:p>
            <a:pPr marL="48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PIA? </a:t>
            </a:r>
            <a:endParaRPr b="0" lang="en-US" sz="2800" spc="-1" strike="noStrike">
              <a:solidFill>
                <a:srgbClr val="000000"/>
              </a:solidFill>
              <a:latin typeface="Arial"/>
            </a:endParaRPr>
          </a:p>
          <a:p>
            <a:pPr marL="48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rivacy Impact Assessment (PIA)--</a:t>
            </a:r>
            <a:r>
              <a:rPr b="0" lang="en-US" sz="2800" spc="-1" strike="noStrike">
                <a:solidFill>
                  <a:srgbClr val="000000"/>
                </a:solidFill>
                <a:latin typeface="Arial"/>
              </a:rPr>
              <a:t>is an analysis of how information is handled: </a:t>
            </a:r>
            <a:endParaRPr b="0" lang="en-US" sz="2800" spc="-1" strike="noStrike">
              <a:solidFill>
                <a:srgbClr val="000000"/>
              </a:solidFill>
              <a:latin typeface="Arial"/>
            </a:endParaRPr>
          </a:p>
          <a:p>
            <a:pPr marL="485280" indent="-4852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handling conforms to applicable legal, regulatory, and policy requirements regarding privacy, </a:t>
            </a:r>
            <a:endParaRPr b="0" lang="en-US" sz="2200" spc="-1" strike="noStrike">
              <a:solidFill>
                <a:srgbClr val="000000"/>
              </a:solidFill>
              <a:latin typeface="Arial"/>
            </a:endParaRPr>
          </a:p>
          <a:p>
            <a:pPr marL="485280" indent="-4852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etermine the risks and effects of collecting, maintaining and disseminating information in identifiable form in an electronic information system, and </a:t>
            </a:r>
            <a:endParaRPr b="0" lang="en-US" sz="2200" spc="-1" strike="noStrike">
              <a:solidFill>
                <a:srgbClr val="000000"/>
              </a:solidFill>
              <a:latin typeface="Arial"/>
            </a:endParaRPr>
          </a:p>
          <a:p>
            <a:pPr marL="485280" indent="-4852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xamine and evaluate protections and alternative processes for handling information to mitigate potential privacy risks.” </a:t>
            </a:r>
            <a:endParaRPr b="0" lang="en-US" sz="2200" spc="-1" strike="noStrike">
              <a:solidFill>
                <a:srgbClr val="000000"/>
              </a:solidFill>
              <a:latin typeface="Arial"/>
            </a:endParaRPr>
          </a:p>
          <a:p>
            <a:pPr marL="485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85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MB 03-22 (9/26/2003), EGOV 208(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D18A-E6AC-47A8-A3C5-933E63FDC9E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33160" y="304920"/>
            <a:ext cx="7089480" cy="78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76" name="PlaceHolder 2"/>
          <p:cNvSpPr>
            <a:spLocks noGrp="1"/>
          </p:cNvSpPr>
          <p:nvPr>
            <p:ph/>
          </p:nvPr>
        </p:nvSpPr>
        <p:spPr>
          <a:xfrm>
            <a:off x="380880" y="1142640"/>
            <a:ext cx="7988400" cy="4970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a PIA Required?</a:t>
            </a:r>
            <a:endParaRPr b="0" lang="en-US" sz="28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PII is collected, a PIA is required f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isting information systems and electronic collections where a PIA has not previously been completed to include systems that collect PII about Federal personnel and contractor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information systems or electronic collections:</a:t>
            </a:r>
            <a:endParaRPr b="0" lang="en-US" sz="26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eveloping or purchasing, and </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verting paper-based records to electronic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CCC9-CF50-42F6-9815-853BCEBE7E8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685440" y="380880"/>
            <a:ext cx="7451640" cy="857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a:t>
            </a:r>
            <a:endParaRPr b="0" lang="en-US" sz="3600" spc="-1" strike="noStrike">
              <a:solidFill>
                <a:srgbClr val="003399"/>
              </a:solidFill>
              <a:latin typeface="Garamond"/>
            </a:endParaRPr>
          </a:p>
        </p:txBody>
      </p:sp>
      <p:sp>
        <p:nvSpPr>
          <p:cNvPr id="279" name="PlaceHolder 2"/>
          <p:cNvSpPr>
            <a:spLocks noGrp="1"/>
          </p:cNvSpPr>
          <p:nvPr>
            <p:ph/>
          </p:nvPr>
        </p:nvSpPr>
        <p:spPr>
          <a:xfrm>
            <a:off x="457200" y="1218960"/>
            <a:ext cx="830592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s a PIA not Required?</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information system or electronic collection: </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collect, maintain or disseminate personal identifying information</a:t>
            </a:r>
            <a:endParaRPr b="0" lang="en-US" sz="2200" spc="-1" strike="noStrike">
              <a:solidFill>
                <a:srgbClr val="000000"/>
              </a:solidFill>
              <a:latin typeface="Arial"/>
            </a:endParaRPr>
          </a:p>
          <a:p>
            <a:pPr lvl="1" marL="669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a National Security System (including systems that process classified inform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81" name="PlaceHolder 2"/>
          <p:cNvSpPr>
            <a:spLocks noGrp="1"/>
          </p:cNvSpPr>
          <p:nvPr>
            <p:ph/>
          </p:nvPr>
        </p:nvSpPr>
        <p:spPr>
          <a:xfrm>
            <a:off x="304920" y="1371240"/>
            <a:ext cx="853416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A/SORN Essential Elements </a:t>
            </a:r>
            <a:endParaRPr b="0" lang="en-US" sz="36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walk</a:t>
            </a:r>
            <a:endParaRPr b="0" lang="en-US" sz="36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8B12-B4D2-4749-AFAE-2E8520D45F7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2094-0C7F-4579-B960-A1406966C43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85"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86" name=""/>
          <p:cNvGraphicFramePr/>
          <p:nvPr/>
        </p:nvGraphicFramePr>
        <p:xfrm>
          <a:off x="457200" y="1219320"/>
          <a:ext cx="8229600" cy="4856040"/>
        </p:xfrm>
        <a:graphic>
          <a:graphicData uri="http://schemas.openxmlformats.org/drawingml/2006/table">
            <a:tbl>
              <a:tblPr/>
              <a:tblGrid>
                <a:gridCol w="4114800"/>
                <a:gridCol w="4114800"/>
              </a:tblGrid>
              <a:tr h="7167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information is collec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ies of Records in the Syste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the information is collec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ty/Purpo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intended uses are for the inform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whom the information is shar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 U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pportunities individuals have to decline to provide PI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cy Act Statement/Notification procedu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nformation is secur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guar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80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risks need to be addres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rrative Statement/Probable or potential effects on the privacy of individual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259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a System of Records Notice (SORN) exi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pplic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FE5B-8800-4F0D-962A-83CEDD8A4B1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89"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0" name=""/>
          <p:cNvGraphicFramePr/>
          <p:nvPr/>
        </p:nvGraphicFramePr>
        <p:xfrm>
          <a:off x="457200" y="1219320"/>
          <a:ext cx="8229600" cy="313524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204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information is coll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ture of the information</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ope of the information</a:t>
                      </a:r>
                      <a:endParaRPr b="0" lang="en-US" sz="16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ies of Records in the Sys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types of individually identifiable information maintained in the system, e.g., social security number, date of birth, patient medical history, school applications</a:t>
                      </a:r>
                      <a:endParaRPr b="0" lang="en-US" sz="16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a:t>
            </a:r>
            <a:r>
              <a:rPr b="1" lang="en-US" sz="3600" spc="-1" strike="noStrike">
                <a:solidFill>
                  <a:srgbClr val="003399"/>
                </a:solidFill>
                <a:latin typeface="Garamond"/>
              </a:rPr>
              <a:t>Fair Information Practice Principles</a:t>
            </a:r>
            <a:br>
              <a:rPr sz="3800"/>
            </a:br>
            <a:endParaRPr b="0" lang="en-US" sz="3600" spc="-1" strike="noStrike">
              <a:solidFill>
                <a:srgbClr val="003399"/>
              </a:solidFill>
              <a:latin typeface="Garamond"/>
            </a:endParaRPr>
          </a:p>
        </p:txBody>
      </p:sp>
      <p:sp>
        <p:nvSpPr>
          <p:cNvPr id="15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D64A-D178-4D30-8E7F-8F47F7A6033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graphicFrame>
        <p:nvGraphicFramePr>
          <p:cNvPr id="152" name=""/>
          <p:cNvGraphicFramePr/>
          <p:nvPr/>
        </p:nvGraphicFramePr>
        <p:xfrm>
          <a:off x="762120" y="1600200"/>
          <a:ext cx="7848360" cy="4495680"/>
        </p:xfrm>
        <a:graphic>
          <a:graphicData uri="http://schemas.openxmlformats.org/drawingml/2006/table">
            <a:tbl>
              <a:tblPr/>
              <a:tblGrid>
                <a:gridCol w="2243160"/>
                <a:gridCol w="5605200"/>
              </a:tblGrid>
              <a:tr h="7858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r Information Practice Principle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safeguards</a:t>
                      </a:r>
                      <a:r>
                        <a:rPr b="1"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protected with reasonable security safeguards against risks such as loss or unauthorized access, destruction, use, modification, or disclosur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n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blic should be informed about privacy policies and practices, and individuals should have ready means of learning about the use of personal inform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vidual particip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should have the following rights: to know about the collection of personal information, to access that information, to request correction, and to challenge the denial of those right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untabilit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controlling the collection or use of personal information should be accountable for taking steps to ensure the implementation of these principl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Text Box 26"/>
          <p:cNvSpPr/>
          <p:nvPr/>
        </p:nvSpPr>
        <p:spPr>
          <a:xfrm>
            <a:off x="609480" y="184464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May 2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Alternatives Exist for Enhancing Protection of Personally Identifiable Informa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53D7-0FBF-49CB-A71C-762B818226C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93"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4" name=""/>
          <p:cNvGraphicFramePr/>
          <p:nvPr/>
        </p:nvGraphicFramePr>
        <p:xfrm>
          <a:off x="457200" y="1219320"/>
          <a:ext cx="8229600" cy="289080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179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information coll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purpose of the collection, e.g., verification, identification, authentication, data match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specific legal authority (citation and descriptive title) for maintenance of the system.  Only a statute or Executive Order of the President may be ci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4338-A1BD-4E41-8FB6-590853F2109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97"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8" name=""/>
          <p:cNvGraphicFramePr/>
          <p:nvPr/>
        </p:nvGraphicFramePr>
        <p:xfrm>
          <a:off x="457200" y="1219320"/>
          <a:ext cx="8229600" cy="289080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179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intended uses for th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will the information be used to fulfill the purpose previously sta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purpose for which the system of records was established and uses of the information internal to the organiz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9684-0C93-4835-BE1A-8D96CEFC496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01"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02" name=""/>
          <p:cNvGraphicFramePr/>
          <p:nvPr/>
        </p:nvGraphicFramePr>
        <p:xfrm>
          <a:off x="457200" y="1219320"/>
          <a:ext cx="8229600" cy="386712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277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whom is the information sha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in the Agency</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another Federal Agency</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e or local agency</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ac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 U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routine uses of the information outside the organization which are authorized for records in the system.  Each individual routine use should identify </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hird party to whom disclosure is authorized, </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information to be disclosed and</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purpose of the disclosu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AD43-D59A-48A1-B9EC-A36DDBB731D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05"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06" name=""/>
          <p:cNvGraphicFramePr/>
          <p:nvPr/>
        </p:nvGraphicFramePr>
        <p:xfrm>
          <a:off x="457200" y="1219320"/>
          <a:ext cx="8229600" cy="435456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26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pportunities will individuals have to decline to provide P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this collection statutorily mandated?</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voluntary, how can individuals grant or withhold consent?</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cy Act Statement/Notification proced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es the Privacy Act Statement accurately reflect the essential elements of the data collection?</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 the title and office to which the individual would write to determine whether or not the system contains a record about the individual, how they access their record, and what information the individual needs to provide to verify their ident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E736-6CA1-44ED-AEB5-AA8EFD26559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09"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10" name=""/>
          <p:cNvGraphicFramePr/>
          <p:nvPr/>
        </p:nvGraphicFramePr>
        <p:xfrm>
          <a:off x="457200" y="1219320"/>
          <a:ext cx="8229600" cy="459720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50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information secu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ysical Controls, e.g., security guards, locks, closed circuit TV, safe</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chnical  Controls, e.g., firewall, public key infrastructure (PKI) Certificates, encryption, biometrics</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ministrative Controls, e.g., backups, periodic security audits, methods to ensure only authorized persons access P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guar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all measures in place to minimize the risk of unauthorized access to or disclosure of records in the system.  Identify the categories of employees who are authorized to have access to the recor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0ABD-F6FA-4ADB-8FDE-8338A393C23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13"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14" name=""/>
          <p:cNvGraphicFramePr/>
          <p:nvPr/>
        </p:nvGraphicFramePr>
        <p:xfrm>
          <a:off x="457200" y="1219320"/>
          <a:ext cx="8229600" cy="489096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798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risks need to be addressed?</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do information handling practices at each stage of the “information life cycle” (i.e., collection, use, retention, processing, disclosure and destruction) affect individuals’’ privacy?</a:t>
                      </a: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isting information systems or electronic collections, what measures have been put in place to address identified privacy risks?</a:t>
                      </a: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new information systems or collections, what measures are planned for implementation to address identified privacy risk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rrative Statement/Probable or potential effects on the privacy of individua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is/could be the impact on the individual as a result of this compilation of information?</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impact would a breach of this information have on the individu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617B-8403-4D5F-8AFC-617806C37FF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17"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18" name=""/>
          <p:cNvGraphicFramePr/>
          <p:nvPr/>
        </p:nvGraphicFramePr>
        <p:xfrm>
          <a:off x="457200" y="1219320"/>
          <a:ext cx="8229600" cy="240336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13111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a SORN exist to correspond with the collection documented in the PIA?</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Do PIA(s) exist to correspond with the data collection represented by the SOR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pic>
        <p:nvPicPr>
          <p:cNvPr id="319" name="Picture 18" descr="C:\Documents and Settings\WillsTL\Local Settings\Temporary Internet Files\Content.IE5\T85GW9ZV\MCj02955470000[1].wmf"/>
          <p:cNvPicPr/>
          <p:nvPr/>
        </p:nvPicPr>
        <p:blipFill>
          <a:blip r:embed="rId1"/>
          <a:stretch/>
        </p:blipFill>
        <p:spPr>
          <a:xfrm>
            <a:off x="2209680" y="3127320"/>
            <a:ext cx="4496040" cy="2587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5111-CBBC-407B-B55A-76D973A320D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1" name="PlaceHolder 1"/>
          <p:cNvSpPr>
            <a:spLocks noGrp="1"/>
          </p:cNvSpPr>
          <p:nvPr>
            <p:ph type="title"/>
          </p:nvPr>
        </p:nvSpPr>
        <p:spPr>
          <a:xfrm>
            <a:off x="609120" y="380520"/>
            <a:ext cx="8047080" cy="93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4"/>
          <p:cNvSpPr/>
          <p:nvPr/>
        </p:nvSpPr>
        <p:spPr>
          <a:xfrm>
            <a:off x="2057400" y="2141640"/>
            <a:ext cx="4191120" cy="13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1" lang="en-US" sz="1600" spc="-1" strike="noStrike">
                <a:solidFill>
                  <a:srgbClr val="000000"/>
                </a:solidFill>
                <a:latin typeface="Calibri"/>
                <a:ea typeface="Calibri"/>
              </a:rPr>
              <a:t>PRIVACY IMPACT ASSESSMENT (P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DoD Information System/Electronic Collection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DoD Component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4" name="Picture 10" descr="DoD Seal"/>
          <p:cNvPicPr/>
          <p:nvPr/>
        </p:nvPicPr>
        <p:blipFill>
          <a:blip r:embed="rId1"/>
          <a:stretch/>
        </p:blipFill>
        <p:spPr>
          <a:xfrm>
            <a:off x="3905280" y="990720"/>
            <a:ext cx="1200240" cy="1181160"/>
          </a:xfrm>
          <a:prstGeom prst="rect">
            <a:avLst/>
          </a:prstGeom>
          <a:ln w="0">
            <a:noFill/>
          </a:ln>
        </p:spPr>
      </p:pic>
      <p:graphicFrame>
        <p:nvGraphicFramePr>
          <p:cNvPr id="325" name=""/>
          <p:cNvGraphicFramePr/>
          <p:nvPr/>
        </p:nvGraphicFramePr>
        <p:xfrm>
          <a:off x="685800" y="3316320"/>
          <a:ext cx="7772400" cy="2290680"/>
        </p:xfrm>
        <a:graphic>
          <a:graphicData uri="http://schemas.openxmlformats.org/drawingml/2006/table">
            <a:tbl>
              <a:tblPr/>
              <a:tblGrid>
                <a:gridCol w="4848120"/>
                <a:gridCol w="2924280"/>
              </a:tblGrid>
              <a:tr h="8398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Pro-Regular"/>
                          <a:ea typeface="Calibri"/>
                        </a:rPr>
                        <a:t>SECTION 4: REVIEW AND APPROVAL SIGNATUR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ior to the submission of the PIA for review and approval, the PIA must be coordinated by the Program Manager or designee through the Information Assurance Manager and Privacy Representative at the local leve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ogram Manager or Other Official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to be used at Component discre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Senior Information Assurance Officer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or Designe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Privacy Officer Signatur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CIO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Reviewing Officia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TextBox 12"/>
          <p:cNvSpPr/>
          <p:nvPr/>
        </p:nvSpPr>
        <p:spPr>
          <a:xfrm>
            <a:off x="6711480" y="5791320"/>
            <a:ext cx="179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D Form 293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28"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Way Ahead </a:t>
            </a:r>
            <a:endParaRPr b="0" lang="en-US" sz="36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C9D9-9E3F-41A8-8ADD-7C6D59E4490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31" name=""/>
          <p:cNvSpPr txBox="1"/>
          <p:nvPr/>
        </p:nvSpPr>
        <p:spPr>
          <a:xfrm>
            <a:off x="457200" y="1142640"/>
            <a:ext cx="8229600" cy="4987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in Privacy and Security, can they exist together?</a:t>
            </a:r>
            <a:endParaRPr b="0" lang="en-US" sz="28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ote: </a:t>
            </a:r>
            <a:r>
              <a:rPr b="0" lang="en-US" sz="2400" spc="-1" strike="noStrike">
                <a:solidFill>
                  <a:srgbClr val="000000"/>
                </a:solidFill>
                <a:latin typeface="Arial"/>
              </a:rPr>
              <a:t>“The thing I think should never be lost  in our discussion, is the discussion about privacy…I’ve said for  along time, privacy and security are two sides of the same coin. Very clearly, without security, we have no privacy.  As I was going through and discussing with leadership coming into this position, I always made sure we had a discussion about privacy.”</a:t>
            </a:r>
            <a:endParaRPr b="0" lang="en-US" sz="24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so spoke about privacy, security and innovation, an often challenged viewpoint by security people.</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ard Schmidt, January 29, 2010 in first speech as White House Cybersecurity  coordinator in a speech about privacy, security and innovation.</a:t>
            </a:r>
            <a:endParaRPr b="0" lang="en-US" sz="11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382A-A77A-4960-A575-40AE5B8654F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55"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ws and Statutes of Privacy and Security</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14E0-FEB4-46A0-A9BE-2164609A50C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34" name=""/>
          <p:cNvSpPr txBox="1"/>
          <p:nvPr/>
        </p:nvSpPr>
        <p:spPr>
          <a:xfrm>
            <a:off x="457200" y="1066320"/>
            <a:ext cx="8229600" cy="5064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Lessons:  What Can Be Done </a:t>
            </a:r>
            <a:endParaRPr b="0" lang="en-US" sz="30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a:t>
            </a:r>
            <a:r>
              <a:rPr b="1" lang="en-US" sz="2800" spc="-1" strike="noStrike">
                <a:solidFill>
                  <a:srgbClr val="000000"/>
                </a:solidFill>
                <a:latin typeface="Arial"/>
              </a:rPr>
              <a:t> </a:t>
            </a:r>
            <a:r>
              <a:rPr b="0" lang="en-US" sz="2800" spc="-1" strike="noStrike">
                <a:solidFill>
                  <a:srgbClr val="000000"/>
                </a:solidFill>
                <a:latin typeface="Arial"/>
              </a:rPr>
              <a:t>should implement goals and consider the following: </a:t>
            </a:r>
            <a:endParaRPr b="0" lang="en-US" sz="28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privacy and security policies </a:t>
            </a:r>
            <a:endParaRPr b="0" lang="en-US" sz="24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how and what personal information is collected, transmitted, and processed </a:t>
            </a:r>
            <a:endParaRPr b="0" lang="en-US" sz="24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ll</a:t>
            </a:r>
            <a:r>
              <a:rPr b="0" lang="en-US" sz="2800" spc="-1" strike="noStrike">
                <a:solidFill>
                  <a:srgbClr val="000000"/>
                </a:solidFill>
                <a:latin typeface="Arial"/>
              </a:rPr>
              <a:t> need to </a:t>
            </a:r>
            <a:r>
              <a:rPr b="0" lang="en-US" sz="2800" spc="-1" strike="noStrike" u="sng">
                <a:solidFill>
                  <a:srgbClr val="000000"/>
                </a:solidFill>
                <a:uFillTx/>
                <a:latin typeface="Arial"/>
              </a:rPr>
              <a:t>understand</a:t>
            </a:r>
            <a:r>
              <a:rPr b="0" lang="en-US" sz="2800" spc="-1" strike="noStrike">
                <a:solidFill>
                  <a:srgbClr val="000000"/>
                </a:solidFill>
                <a:latin typeface="Arial"/>
              </a:rPr>
              <a:t> their specific information environment to control and protect it.</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vacy official needs to understand Security, and a Security official needs to understand Privacy</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p-down commitment to implement successful data protection programs.</a:t>
            </a:r>
            <a:endParaRPr b="0" lang="en-US" sz="28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4365-E00D-4A46-9F53-2E785ED807A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4000"/>
            </a:br>
            <a:endParaRPr b="0" lang="en-US" sz="4000" spc="-1" strike="noStrike">
              <a:solidFill>
                <a:srgbClr val="003399"/>
              </a:solidFill>
              <a:latin typeface="Garamond"/>
            </a:endParaRPr>
          </a:p>
        </p:txBody>
      </p:sp>
      <p:sp>
        <p:nvSpPr>
          <p:cNvPr id="337" name="PlaceHolder 2"/>
          <p:cNvSpPr>
            <a:spLocks noGrp="1"/>
          </p:cNvSpPr>
          <p:nvPr>
            <p:ph/>
          </p:nvPr>
        </p:nvSpPr>
        <p:spPr>
          <a:xfrm>
            <a:off x="380880" y="1142640"/>
            <a:ext cx="8305920" cy="498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What important lessons should we learn?</a:t>
            </a:r>
            <a:endParaRPr b="0" lang="en-US" sz="32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ecurity staff need to have a basic understanding of privacy protection laws (especially the Privacy Act)</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staff needs to understand security laws</a:t>
            </a:r>
            <a:endParaRPr b="0" lang="en-US" sz="24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should lead to positive, transparent relationships</a:t>
            </a:r>
            <a:endParaRPr b="0" lang="en-US" sz="20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records management </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information is promptly disposed of in accordance with approved records control schedules.</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reduce potential breaches                              </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look at security issues and privacy issues in a vacuum, they are often interrelated</a:t>
            </a:r>
            <a:endParaRPr b="0" lang="en-US" sz="2400" spc="-1" strike="noStrike">
              <a:solidFill>
                <a:srgbClr val="000000"/>
              </a:solidFill>
              <a:latin typeface="Arial"/>
            </a:endParaRPr>
          </a:p>
        </p:txBody>
      </p:sp>
      <p:sp>
        <p:nvSpPr>
          <p:cNvPr id="33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1EFD-E6AF-4A2C-9CF5-CD561EFCF7A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F968-8E58-4DF0-9B69-309B7635CEB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40" name="Oval 4"/>
          <p:cNvSpPr/>
          <p:nvPr/>
        </p:nvSpPr>
        <p:spPr>
          <a:xfrm>
            <a:off x="609480" y="2133720"/>
            <a:ext cx="502920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3505320" y="2133720"/>
            <a:ext cx="487656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6"/>
          <p:cNvSpPr/>
          <p:nvPr/>
        </p:nvSpPr>
        <p:spPr>
          <a:xfrm>
            <a:off x="1066680" y="289548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meeting the information requirements of the Agency while ensuring the protection of the rights of the individual in the collection, use and dissemination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II.</a:t>
            </a:r>
            <a:endParaRPr b="0" lang="en-US" sz="1600" spc="-1" strike="noStrike">
              <a:solidFill>
                <a:srgbClr val="000000"/>
              </a:solidFill>
              <a:latin typeface="Arial"/>
            </a:endParaRPr>
          </a:p>
        </p:txBody>
      </p:sp>
      <p:sp>
        <p:nvSpPr>
          <p:cNvPr id="343" name="Text Box 7"/>
          <p:cNvSpPr/>
          <p:nvPr/>
        </p:nvSpPr>
        <p:spPr>
          <a:xfrm>
            <a:off x="5867280" y="2889360"/>
            <a:ext cx="21337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protecting the information and information systems supporting the operations and assets of an organization.</a:t>
            </a:r>
            <a:endParaRPr b="0" lang="en-US" sz="1600" spc="-1" strike="noStrike">
              <a:solidFill>
                <a:srgbClr val="000000"/>
              </a:solidFill>
              <a:latin typeface="Arial"/>
            </a:endParaRPr>
          </a:p>
        </p:txBody>
      </p:sp>
      <p:sp>
        <p:nvSpPr>
          <p:cNvPr id="344" name="Text Box 8"/>
          <p:cNvSpPr/>
          <p:nvPr/>
        </p:nvSpPr>
        <p:spPr>
          <a:xfrm>
            <a:off x="3733920" y="2967120"/>
            <a:ext cx="1752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Privacy’s success is dependent on establishment of basic foundation for information security.</a:t>
            </a:r>
            <a:r>
              <a:rPr b="1" lang="en-US" sz="1800" spc="-1" strike="noStrike">
                <a:solidFill>
                  <a:srgbClr val="003399"/>
                </a:solidFill>
                <a:latin typeface="Arial"/>
              </a:rPr>
              <a:t> </a:t>
            </a:r>
            <a:endParaRPr b="0" lang="en-US" sz="1800" spc="-1" strike="noStrike">
              <a:solidFill>
                <a:srgbClr val="000000"/>
              </a:solidFill>
              <a:latin typeface="Arial"/>
            </a:endParaRPr>
          </a:p>
        </p:txBody>
      </p:sp>
      <p:sp>
        <p:nvSpPr>
          <p:cNvPr id="345" name="Text Box 9"/>
          <p:cNvSpPr/>
          <p:nvPr/>
        </p:nvSpPr>
        <p:spPr>
          <a:xfrm>
            <a:off x="2612160" y="220968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CY</a:t>
            </a:r>
            <a:endParaRPr b="0" lang="en-US" sz="1800" spc="-1" strike="noStrike">
              <a:solidFill>
                <a:srgbClr val="000000"/>
              </a:solidFill>
              <a:latin typeface="Arial"/>
            </a:endParaRPr>
          </a:p>
        </p:txBody>
      </p:sp>
      <p:sp>
        <p:nvSpPr>
          <p:cNvPr id="346" name="Text Box 10"/>
          <p:cNvSpPr/>
          <p:nvPr/>
        </p:nvSpPr>
        <p:spPr>
          <a:xfrm>
            <a:off x="5291280" y="2209680"/>
            <a:ext cx="133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Arial"/>
            </a:endParaRPr>
          </a:p>
        </p:txBody>
      </p:sp>
      <p:sp>
        <p:nvSpPr>
          <p:cNvPr id="347" name="Text Box 11"/>
          <p:cNvSpPr/>
          <p:nvPr/>
        </p:nvSpPr>
        <p:spPr>
          <a:xfrm>
            <a:off x="519840" y="6154560"/>
            <a:ext cx="398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Draft Guide to Protecting the Confidentiality of  (PII) (1/09)</a:t>
            </a:r>
            <a:endParaRPr b="0" lang="en-US" sz="1000" spc="-1" strike="noStrike">
              <a:solidFill>
                <a:srgbClr val="000000"/>
              </a:solidFill>
              <a:latin typeface="Arial"/>
            </a:endParaRPr>
          </a:p>
        </p:txBody>
      </p:sp>
      <p:sp>
        <p:nvSpPr>
          <p:cNvPr id="348" name="Text Box 12"/>
          <p:cNvSpPr/>
          <p:nvPr/>
        </p:nvSpPr>
        <p:spPr>
          <a:xfrm>
            <a:off x="1403640" y="990720"/>
            <a:ext cx="697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ical Privacy – Security Interface</a:t>
            </a:r>
            <a:endParaRPr b="0" lang="en-US" sz="3200" spc="-1" strike="noStrike">
              <a:solidFill>
                <a:srgbClr val="000000"/>
              </a:solidFill>
              <a:latin typeface="Arial"/>
            </a:endParaRPr>
          </a:p>
        </p:txBody>
      </p:sp>
      <p:sp>
        <p:nvSpPr>
          <p:cNvPr id="349" name="PlaceHolder 1"/>
          <p:cNvSpPr>
            <a:spLocks noGrp="1"/>
          </p:cNvSpPr>
          <p:nvPr>
            <p:ph type="title"/>
          </p:nvPr>
        </p:nvSpPr>
        <p:spPr>
          <a:xfrm>
            <a:off x="457200" y="304920"/>
            <a:ext cx="82296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50" name="Down Arrow 17"/>
          <p:cNvSpPr/>
          <p:nvPr/>
        </p:nvSpPr>
        <p:spPr>
          <a:xfrm>
            <a:off x="4343400" y="1676520"/>
            <a:ext cx="484200" cy="1218960"/>
          </a:xfrm>
          <a:prstGeom prst="downArrow">
            <a:avLst>
              <a:gd name="adj1" fmla="val 50000"/>
              <a:gd name="adj2" fmla="val 49988"/>
            </a:avLst>
          </a:pr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2FD8-3308-4085-BC21-F2D058C2877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Questions?</a:t>
            </a:r>
            <a:endParaRPr b="0" lang="en-US" sz="4200" spc="-1" strike="noStrike">
              <a:solidFill>
                <a:srgbClr val="003399"/>
              </a:solidFill>
              <a:latin typeface="Garamond"/>
            </a:endParaRPr>
          </a:p>
        </p:txBody>
      </p:sp>
      <p:pic>
        <p:nvPicPr>
          <p:cNvPr id="353" name="Picture 5" descr="MCj03892660000[1]"/>
          <p:cNvPicPr/>
          <p:nvPr/>
        </p:nvPicPr>
        <p:blipFill>
          <a:blip r:embed="rId1"/>
          <a:stretch/>
        </p:blipFill>
        <p:spPr>
          <a:xfrm>
            <a:off x="3048120" y="2133720"/>
            <a:ext cx="275724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2300-B3CA-4BDF-8FC4-8B75913D1C4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304920" y="277920"/>
            <a:ext cx="86104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a:t>
            </a:r>
            <a:endParaRPr b="0" lang="en-US" sz="3600" spc="-1" strike="noStrike">
              <a:solidFill>
                <a:srgbClr val="003399"/>
              </a:solidFill>
              <a:latin typeface="Garamond"/>
            </a:endParaRPr>
          </a:p>
        </p:txBody>
      </p:sp>
      <p:sp>
        <p:nvSpPr>
          <p:cNvPr id="15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 of Federal Information Security Management Act (FISM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u="sng">
                <a:solidFill>
                  <a:srgbClr val="4c6d80"/>
                </a:solidFill>
                <a:uFillTx/>
                <a:latin typeface="Arial"/>
                <a:hlinkClick r:id="rId1"/>
              </a:rPr>
              <a:t>E-Government Act of 2002 (Section 208 of Public Law 107-347)</a:t>
            </a:r>
            <a:r>
              <a:rPr b="0" lang="en-US" sz="2400" spc="-1" strike="noStrike" u="sng">
                <a:solidFill>
                  <a:srgbClr val="000000"/>
                </a:solidFill>
                <a:uFillTx/>
                <a:latin typeface="Arial"/>
              </a:rPr>
              <a:t> </a:t>
            </a:r>
            <a:r>
              <a:rPr b="0" lang="en-US" sz="2400" spc="-1" strike="noStrike">
                <a:solidFill>
                  <a:srgbClr val="000000"/>
                </a:solidFill>
                <a:latin typeface="Arial"/>
              </a:rPr>
              <a:t>passed by the 107th Congress and signed into law by the President on 17 December 200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d the importance of information security to the economic and national security interests of the United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161" name=""/>
          <p:cNvSpPr txBox="1"/>
          <p:nvPr/>
        </p:nvSpPr>
        <p:spPr>
          <a:xfrm>
            <a:off x="457200" y="1142640"/>
            <a:ext cx="8229600" cy="49878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Government Act of 2002,</a:t>
            </a:r>
            <a:r>
              <a:rPr b="0" lang="en-US" sz="2800" spc="-1" strike="noStrike">
                <a:solidFill>
                  <a:srgbClr val="003366"/>
                </a:solidFill>
                <a:latin typeface="Arial"/>
              </a:rPr>
              <a:t> Public Law 107- 347 Section 208</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Times New Roman"/>
              </a:rPr>
              <a:t>Requirements.</a:t>
            </a:r>
            <a:r>
              <a:rPr b="0" lang="en-US" sz="2600" spc="-1" strike="noStrike">
                <a:solidFill>
                  <a:srgbClr val="000000"/>
                </a:solidFill>
                <a:latin typeface="Arial"/>
                <a:ea typeface="Times New Roman"/>
              </a:rPr>
              <a:t> Agencies are required to: </a:t>
            </a:r>
            <a:endParaRPr b="0" lang="en-US" sz="2600" spc="-1" strike="noStrike">
              <a:solidFill>
                <a:srgbClr val="000000"/>
              </a:solidFill>
              <a:latin typeface="Arial"/>
            </a:endParaRPr>
          </a:p>
          <a:p>
            <a:pPr lvl="1" marL="663120" indent="-3218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conduct privacy impact assessments </a:t>
            </a:r>
            <a:r>
              <a:rPr b="0" lang="en-US" sz="2600" spc="-1" strike="noStrike">
                <a:solidFill>
                  <a:srgbClr val="000000"/>
                </a:solidFill>
                <a:latin typeface="Arial"/>
                <a:ea typeface="Times New Roman"/>
              </a:rPr>
              <a:t>for electronic information systems and collections and, in general, make them publicly available (see Section II of this Guidance), </a:t>
            </a:r>
            <a:endParaRPr b="0" lang="en-US" sz="2600" spc="-1" strike="noStrike">
              <a:solidFill>
                <a:srgbClr val="000000"/>
              </a:solidFill>
              <a:latin typeface="Arial"/>
            </a:endParaRPr>
          </a:p>
          <a:p>
            <a:pPr marL="339480" indent="-3394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Agency PIA Requirements</a:t>
            </a:r>
            <a:endParaRPr b="0" lang="en-US" sz="2800" spc="-1" strike="noStrike">
              <a:solidFill>
                <a:srgbClr val="000000"/>
              </a:solidFill>
              <a:latin typeface="Arial"/>
            </a:endParaRPr>
          </a:p>
          <a:p>
            <a:pPr lvl="1" marL="663120" indent="-3218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tion 208 of the E-Government Act of 2002 requires all agencies to conduct PIAs for all new or substantially changed information systems that collect, maintain, or disseminate PII on the public.</a:t>
            </a:r>
            <a:endParaRPr b="0" lang="en-US" sz="2200" spc="-1" strike="noStrike">
              <a:solidFill>
                <a:srgbClr val="000000"/>
              </a:solidFill>
              <a:latin typeface="Arial"/>
            </a:endParaRPr>
          </a:p>
          <a:p>
            <a:pPr marL="339480" indent="-3394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40E8-849A-41C1-B929-06C65D15249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F776-C1A5-46BD-8210-68A6776D709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304920" y="277560"/>
            <a:ext cx="861048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 </a:t>
            </a:r>
            <a:endParaRPr b="0" lang="en-US" sz="3600" spc="-1" strike="noStrike">
              <a:solidFill>
                <a:srgbClr val="003399"/>
              </a:solidFill>
              <a:latin typeface="Garamond"/>
            </a:endParaRPr>
          </a:p>
        </p:txBody>
      </p:sp>
      <p:sp>
        <p:nvSpPr>
          <p:cNvPr id="165" name="PlaceHolder 2"/>
          <p:cNvSpPr>
            <a:spLocks noGrp="1"/>
          </p:cNvSpPr>
          <p:nvPr>
            <p:ph/>
          </p:nvPr>
        </p:nvSpPr>
        <p:spPr>
          <a:xfrm>
            <a:off x="380880" y="1066680"/>
            <a:ext cx="8229600" cy="4988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II of the E-Government Act, entitled the </a:t>
            </a:r>
            <a:r>
              <a:rPr b="0" lang="en-US" sz="2400" spc="-1" strike="noStrike" u="sng">
                <a:solidFill>
                  <a:srgbClr val="000000"/>
                </a:solidFill>
                <a:uFillTx/>
                <a:latin typeface="Arial"/>
              </a:rPr>
              <a:t>Feder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formation Security Management Act of 2002 (FISMA)</a:t>
            </a:r>
            <a:r>
              <a:rPr b="0" lang="en-US" sz="2400" spc="-1" strike="noStrike">
                <a:solidFill>
                  <a:srgbClr val="000000"/>
                </a:solidFill>
                <a:latin typeface="Arial"/>
              </a:rPr>
              <a:t> requires:</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ederal agency to develop, document, and implement an agency-wide program to provide information security for the information and information systems that support the operations and assets of the agency, including those provided or managed by another agency, contractor, or other source.</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MA, along with the Paperwork Reduction Act of 1995 and the Information Technology Management Reform Act of 1996 (Clinger-Cohen Act), explicitly emphasizes a risk-based policy for cost-effective security.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jacksoja</cp:lastModifiedBy>
  <dcterms:modified xsi:type="dcterms:W3CDTF">2010-02-05T17:33:15Z</dcterms:modified>
  <cp:revision>435</cp:revision>
  <dc:subject/>
  <dc:title>&lt;Title&gt; American Society of Access Professionals FOIA/Privacy Act Training Workshop</dc:title>
</cp:coreProperties>
</file>