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dt" idx="3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ftr" idx="3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 type="sldNum" idx="3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9398-1BE3-4093-BCAC-87C27A802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FA49-5249-4FE4-B1BC-6BFB6AE93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61AF-25DC-45A2-A543-BACECF8D6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304560" y="4416120"/>
            <a:ext cx="6476760" cy="48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151920" y="426708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1EA0-AE21-4D8B-A4ED-40A0B6791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-360" y="4190760"/>
            <a:ext cx="70102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C9B7-04CA-4087-A41A-72CEC2D1A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151920" y="426708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8C0C-BD7E-40EC-8D16-930A7E029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3DDB-7F69-4E90-9B15-783D4E8B6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15EE-A428-4E6B-BF69-3ED441CDD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5EE7-6E01-4154-BF3D-9308543A1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268E-BE50-44CA-9466-A36C8113A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5E88-AE0C-4E32-BDE3-F9DAC14EB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2B1F-01E6-4E06-A26E-EC994FF7C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CF0C-F1D0-4067-910D-863191E0D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8E68-8563-4DB3-929B-550ADBB2E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450B-D7C7-4C94-A64B-34A6EEB55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556D-A49E-4FD7-A33C-8A1BD7661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6033-90A2-49F2-8D2C-16989C06E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518C-8644-4826-B77B-70DC5418A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F4B2-9993-4B7F-9A5F-EB208F862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323B-DA23-4F35-86F8-0A2A14252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D7F9-7FB7-4BD7-846F-025ED88AC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36AC-FF6F-4871-BB20-9C06645DE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A7E6-20FA-49D9-BC5E-4F2049FEB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F8ED-4CEE-49D4-B88A-8EE0E2C59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9AC6-C646-43AF-B890-DBAC19E3B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A07A-716E-4CAD-A275-9487BABAE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7984-89DA-482D-98A5-8E3947C5B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1B66-B540-4CAE-B780-4CEF9649A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262F-AF81-4CFB-BA6C-9F497110D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0A72-3054-4370-AB6A-66D687BCD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061F-F89A-4085-8A38-5EC5A34C2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228240" y="4416480"/>
            <a:ext cx="6553080" cy="46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2B35-90FE-4A1B-967B-CF4A5DA52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228240" y="4416480"/>
            <a:ext cx="6553080" cy="46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7914-3071-4CBC-BCEE-9FCED4D9F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412A-E4C9-4743-BFBE-668182F1D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776D-18EA-497A-AE3C-CFF02B973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1286-B417-485F-9493-D773EE8F7F6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F67DE-EE76-4E81-9E2B-795FA589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EC4A0-5766-4919-8817-06DC61D2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4E676-D920-4237-903D-2A357B0E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D46BC-4235-432E-B019-A75147A4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72626-57D3-4342-A435-71BC8534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4B1EB-6941-4724-B90A-34F4EEE3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062CC-DB00-4480-B213-98F367D0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83B17-A9B3-4056-8701-6C317AB0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7F0FE-0197-4844-87BD-EE2EB1DE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085C2-7011-4D8A-B9E1-6ECC5F50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1AE7-D55C-4365-A7AB-4389CD5E393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67F38-4CFF-41B2-AACC-E55CDBBE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6BA18-55DE-48F2-88C3-BACD22DC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90E06-3442-4BE6-8DD4-F279F770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137EC-7D5A-4FFF-B95F-FCFA06B5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D667C-6953-48B8-A60C-E8DE0B6C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A1EE6-972F-41F2-9AC6-385B95AF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11F36-2235-45EF-BB8A-F37D537A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3541B-EACC-4B30-91FD-9B2FD543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793C6-95A8-4525-ACC3-F914BA47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AC5B6-0D01-4D87-9B23-1C85E5E9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F9D2B-7910-4ACE-BDD7-6092FE06D01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746F6-C7BB-4656-8360-BE0B2EE2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70043-9307-4989-8E37-B47BE4A4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701CA-88AA-42C7-89EF-79AB449C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141CC-004A-4FC5-91D7-00259750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B7081-F143-4F25-92E3-D2CD1661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D1028-D974-4E9A-8810-F19DF3EE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25910-09C5-471E-BC2E-2E14B155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FCC83-C057-41CC-84E9-6FBAD6EB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3973D-E7B8-4602-BB7A-7AFDF7C1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A4F87-80D9-418C-88B9-BC2F771E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3B124-9B27-46D3-9963-C6AE1579814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5C286-FE78-40B0-8B14-DBD7C0A7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E4D9C-4F69-4313-8AFA-AC5A9D14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56FC5-5044-41E6-BA5C-07ADE0D3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5BEB0-648A-4B79-A2B5-2C6A4C40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9AF38-E7C7-4BCD-90CE-B7B39683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11B79-9D47-4AA8-9ADE-B60CA730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724B8-682D-4459-A694-A75E6E62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115F9-DF96-40A3-AB3A-2C76B123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32456-5EE2-4FA2-AD89-94BB0375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370A8-A127-4129-B4C8-78C263FE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7FAF-CFC4-47B2-A2A9-9673C51EA18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275C3-F873-4493-8C8B-5ED4C2C4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55CF5-A18E-42A0-AB9D-76E6E77F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75DED-7874-4A58-88B8-FDE228B8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83E73-108B-43AF-8420-1B94822B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90163-37D5-4EA7-9AF6-E91EE0E3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5905B-7328-4F83-9B90-614396A8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9249F-4BC1-4B86-9C73-F071AA07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5E7C5-F937-4278-9318-DBEB4A0A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F448E-8365-4A90-847E-FCF9ADDF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DEFD8-BD15-4B34-A896-B1BF972C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4AE54-A86D-4384-A132-8A73406D0D7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A7B4B-CF47-417E-898C-C0C8199F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7A48C-5A98-4F25-86E5-222CC965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A3710-B8B2-4705-984A-9CBBB3C7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C91EB-1B33-4A5E-9700-4C7AC094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77C20-63D4-48F8-A341-0A41014B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C618F-2A72-4B90-B267-1AEA74D3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8661A-06F9-4202-82F1-52D28CE9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32BAF-635D-40E1-ACED-4ADE2193BB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85694-41E7-472E-9475-415A05ADE7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2B5D7-8234-4766-BE3D-2C6056DA21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DDA71-FE44-4551-AC82-CDE9B116BD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D4F8D-3458-49C3-ACA9-07AAEF5E0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CA528-A768-4B07-8B46-55843C2BFD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6AB69-DC8D-4E41-A438-0561723B4A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E058C-DD46-4A83-8A2D-928C17F118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2A6D3-FB1F-4D25-9AFC-844B575F59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BC159-85BF-421A-9DF7-2478834487D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25605-8386-45AC-A56B-AC35DDF0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6CD15-A66C-433D-973A-E2D5F3E9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60508-74BE-440E-AEFC-185B57F2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C5339-FD1C-4A03-B757-FA0EE8A8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0CE55-9208-4CCA-9400-A4810CD1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813B-7486-492A-9201-8BA383A063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95456-2CA6-4A0E-A637-99A363BE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4A3FA-D3FB-4658-BD11-B6CD9C7A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6D647-0A01-4F90-88D9-F0750AA0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BAE8D-0E6C-4174-B418-DB010FCF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881BB-B786-4B50-A686-440CB328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741A8-1BCB-4BB1-AD9C-D8CE34C4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21141-F25F-409D-9AC2-15E16F11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B032-6572-4EC6-9F01-1C6442ADDF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DBD5-7C94-4355-922A-F6930F9912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3C0F-ACEB-4707-976E-AE0136DA6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E673-CD78-49F7-A70B-FB87B02E59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845D-CA53-41CE-BBF8-369935CE4CA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6467-8B4E-4FC9-836E-3B8E4B3A200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5C6D-4AD5-4413-8F62-2210CA06BC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8916-CE2C-42B8-A1D0-04A41E34F2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1274-455E-4FC5-A8F8-F0C61761CE0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CB1D-E986-49B7-8739-62281A041D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C409-00D3-424E-9B69-98097CA411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A789-3DBB-4B8A-8CD5-1DD55144DE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6DD9-9F0D-4D1D-B947-3BFF9609582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0FEC9-D594-4446-BDDB-85214B3D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5D3D7-5CFC-4AF1-B5C4-CB69BADE313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0E665-8471-4288-AC51-9326D5BB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1E781-F4FC-4310-A244-88340ACB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3452-C9F6-43AB-9779-5DE1ABC1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3E261-556D-4B0E-9A33-E8B4791A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F4B06-5BD1-45D2-8D4E-D80A95DA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28EE9-657D-46C9-836C-094451A1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8BA16-1466-494E-B1CB-F087317E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5BEB0-9E1E-443D-9337-5A55ADE8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35DF8-E031-4D06-9108-638130F5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ACB68-5B67-40B2-B742-BA2B9DCA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344D-1F83-4A7C-B34A-C11175598EC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3C4C2-D976-4D8E-84E6-DD383492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B7BA6-C864-4425-A4F2-D90AEADE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7FF39-201A-4D51-95B9-9B2A4F6D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23781-AD78-4799-AD7D-D4BDE0C3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77C57-97EF-4A25-8151-F189C7D6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5E9E2-EFA6-44C6-967E-52B43C3A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05BF0-2D35-46F4-9D53-5DBEDC30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D49FE-5A1C-4CB6-9EAB-E295109A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220C9-10EF-41DE-A293-E13E5BB6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445B4-A4F7-4C63-BA44-53820256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149E-FB9E-4882-9829-679148C94B1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5B279-7AB2-4E78-876F-F269039D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A77D2-9513-43F4-9B83-DF844897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83D37-7966-4F72-9411-F2876A29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77C467-EC52-4B26-A908-DA110805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A83462-767A-49CE-8A7C-90C9485E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8124A5-DCCE-4C58-BBF1-06DBA767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4521A-BB46-48A9-96C8-E1995BD0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534E62-392E-4603-826B-20A80A64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1FFE9D-387A-4EDC-9C65-9BFE679D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241C0C-A7CA-4115-967B-684D6965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E91F-EB35-45FB-ADA1-CC40AE7265A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2C618-1C05-4EF9-8A20-B0DF8F7A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BDD8C7-7560-441C-8672-BEF6B04E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BD4E92-BEAC-4CD8-AA0E-0C1FC1FE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53B61B-A936-4610-998E-B3E096E3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7ABEB-D5A8-4672-9875-1FE7F714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7A0C7-661A-4A9F-84CC-2FB9B603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9AE5A-7319-48D0-9C6C-CCD83257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C6951-8360-4364-831A-6552FEB6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B2753-FA56-46B8-AC37-99635689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BC181-2A0B-430C-A422-9C00C24F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6CFE-802A-4C5E-A0CA-048D477CA19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7C1DC-67A5-4BF2-9137-1F7ED104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1B5B8-7D71-40BA-95C9-A3397DA9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0E344-8FAB-499A-BD3C-5E5784A0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9D389-FE16-497A-A2B8-BFC47C94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0A9C7-72B9-4823-AFDD-1C97F139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FF0BB-0E41-4DDE-8941-D185BAC8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01D27-81F4-4A61-8540-0EBF3793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57542-A7DA-4035-A459-C08B5761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8F4E6-E071-401B-96AB-18A5FB2B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9467D-A7A9-4782-9137-4C149460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F960-753F-4671-B981-872627D33F50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C1E4-81CE-47D0-9834-F16B048B7588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7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5DB1-2C14-415E-AA4D-F7826BB613CE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7AB4-B7FD-483D-99A2-3C1785AADFFD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3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39E6-3906-4534-9B66-DA7AD9D7E85F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2E43-3159-47E4-B8B9-7B60FDA351FA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Defense Privacy &amp; Civil Liberties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5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4E96-C3FD-4F75-BBCE-0B61B57CEDDA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6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789C-873D-4288-ADF5-96BD17832385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8221-F1F7-4EEF-B8FC-89DFE70FA1B2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7906-7C74-4DB8-BFB2-2AFB6A44BCA6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0CDC-A265-404D-9125-E2D4B467C952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0C76-D10C-4290-984D-9492AF95D5FC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6ACD-B777-4E01-92CC-97D2A726F2D7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cons.iconarchive.com/icons/devcom/medical/128/nurse-icon.pn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icons.iconarchive.com/icons/aha-soft/people/128/boss-icon.png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hyperlink" Target="http://icons.iconarchive.com/icons/aha-soft/people/128/user-icon.png" TargetMode="External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25.xml"/><Relationship Id="rId1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Content Placeholder 5"/>
          <p:cNvSpPr/>
          <p:nvPr/>
        </p:nvSpPr>
        <p:spPr>
          <a:xfrm>
            <a:off x="533520" y="1447920"/>
            <a:ext cx="815328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ivacy Found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 Bold Italic"/>
                <a:ea typeface="ＭＳ Ｐゴシック"/>
              </a:rPr>
              <a:t>Samuel P. Jenk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 Bold Italic"/>
                <a:ea typeface="ＭＳ Ｐゴシック"/>
              </a:rPr>
              <a:t>Director for Priv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 Bold Italic"/>
                <a:ea typeface="ＭＳ Ｐゴシック"/>
              </a:rPr>
              <a:t>Defense Privacy and Civil Liberties Off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dentity Protection and Management Ex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lando, Flor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ril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Privacy Ac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e DoD’s responsibility is to balance the government’s need to maintain information about individuals with the rights of individual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88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00B5-6123-4B7A-9997-D894488D1EC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DoD SSN Use Reduction Plan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90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01F5-70AA-47C9-A7B0-9B96122DDD9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DoD SSN Use Reduction Plan</a:t>
            </a: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urpose:  To eliminate, when feasible, the use of Social Security numbers (SSNs)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pplicability:  All uses of SSNs within the DoD, to include DoD data managed or maintained in contactor-owned, -managed, or -operated system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9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1ED9-213B-42FE-BC57-CB6E071B643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Executive Order 9397 (SSN), as amended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OMB </a:t>
            </a: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Memorandum M-07-16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TM 07-015-USD(P&amp;R)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USD(P&amp;R) Memo, “Updated Plan for the Removal of SSNs from DoD ID Cards.”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DRAFT USD(P&amp;R) DoDI 1000.hh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DoD SSN Use Reduction Plan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8F99-4FAF-4B3F-B53A-12C2720CFD1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78000"/>
              </a:lnSpc>
              <a:spcBef>
                <a:spcPts val="1199"/>
              </a:spcBef>
              <a:spcAft>
                <a:spcPts val="601"/>
              </a:spcAft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USD(P&amp;R) Memo, “Updated Plan for the Removal of SSNs from DoD ID Cards”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933480" indent="-533520">
              <a:lnSpc>
                <a:spcPct val="78000"/>
              </a:lnSpc>
              <a:spcBef>
                <a:spcPts val="1199"/>
              </a:spcBef>
              <a:spcAft>
                <a:spcPts val="601"/>
              </a:spcAft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DoD ID cards will no longer visibly display SSN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933480" indent="-533520">
              <a:lnSpc>
                <a:spcPct val="78000"/>
              </a:lnSpc>
              <a:spcBef>
                <a:spcPts val="1199"/>
              </a:spcBef>
              <a:spcAft>
                <a:spcPts val="601"/>
              </a:spcAft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As of May 2011, replaced SSN with the DoD ID Number (formerly known as EDI-PI) and, when applicable, the DoD Benefits Number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933480" indent="-533520">
              <a:lnSpc>
                <a:spcPct val="78000"/>
              </a:lnSpc>
              <a:spcBef>
                <a:spcPts val="1199"/>
              </a:spcBef>
              <a:spcAft>
                <a:spcPts val="601"/>
              </a:spcAft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Beginning 2012, initiate removal of the SSN from the ID cards barcod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DoD SSN Use Reduction Plan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15AC-7856-46BA-9799-1E847FAEDAA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78000"/>
              </a:lnSpc>
              <a:spcBef>
                <a:spcPts val="499"/>
              </a:spcBef>
              <a:spcAft>
                <a:spcPts val="601"/>
              </a:spcAft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DRAFT USD(P&amp;R) DoDI 1000.hh, “Reducing Use of Social Security Numbers (SSNs) Within DoD.”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914760" indent="-522720">
              <a:lnSpc>
                <a:spcPct val="78000"/>
              </a:lnSpc>
              <a:spcBef>
                <a:spcPts val="499"/>
              </a:spcBef>
              <a:spcAft>
                <a:spcPts val="601"/>
              </a:spcAft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Each Component required to review systems and forms which collect SSN to determine if continued use is justified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914760" indent="-522720">
              <a:lnSpc>
                <a:spcPct val="78000"/>
              </a:lnSpc>
              <a:spcBef>
                <a:spcPts val="499"/>
              </a:spcBef>
              <a:spcAft>
                <a:spcPts val="601"/>
              </a:spcAft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Systems or forms that do not fall under one of the approved 'use cases' will be required to develop and institute a plan to eliminate the use of the SSN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914760" indent="-522720">
              <a:lnSpc>
                <a:spcPct val="78000"/>
              </a:lnSpc>
              <a:spcBef>
                <a:spcPts val="499"/>
              </a:spcBef>
              <a:spcAft>
                <a:spcPts val="601"/>
              </a:spcAft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Systems with an approved use case for SSN collection will require a signed memo documenting the requirement for such us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DoD SSN Use Reduction Plan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981E-11A7-4BA6-9A12-3F44CE55BBF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Health Insurance Portability and Accountability Act (HIPAA)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Public Law 104-91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04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8231-90E7-496A-8BBB-E1E84779B2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PA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urpose:  Improve the efficiency and effectiveness of the health care system by standardizing the electronic exchange of administrative and financial data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06440" indent="-37116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pplicability:  Covered entities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06440" indent="-37116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HIPAA defines a covered entity as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00200" indent="-264600">
              <a:spcBef>
                <a:spcPts val="64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A health care provider that conducts certain transactions in electronic form;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00200" indent="-264600">
              <a:spcBef>
                <a:spcPts val="64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A health care clearinghouse; or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00200" indent="-264600">
              <a:spcBef>
                <a:spcPts val="64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A health plan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064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07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09B3-421F-4034-A3CC-0CDE2150CB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PA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HIPAA Privacy Rule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Establishes national standards to protect individuals’ medical records and other PHI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6025.18-R, “DoD Health Information Privacy Regulation.”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10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107F-4949-475C-97B4-1BC5B2965FF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PA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Bold Italic"/>
              </a:rPr>
              <a:t>HIPAA Security Rule.</a:t>
            </a:r>
            <a:endParaRPr b="1" lang="en-US" sz="28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Bold Italic"/>
              </a:rPr>
              <a:t>Establishes national standards to protect individuals’ electronic personal health information (ePHI) that is created, received, used, or maintained by a covered entity.</a:t>
            </a:r>
            <a:endParaRPr b="1" lang="en-US" sz="2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28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Bold Italic"/>
              </a:rPr>
              <a:t>DoD 8580.02-R, “DoD Health Information Security Regulation.”</a:t>
            </a:r>
            <a:endParaRPr b="1" lang="en-US" sz="2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1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FA74-5CDE-40CD-B450-11A1CF8273D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rpos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Bold Italic"/>
              </a:rPr>
              <a:t>The purpose of this presentation is to provide an overview of relevant Federal Privacy laws and DoD regulations.</a:t>
            </a:r>
            <a:endParaRPr b="1" lang="en-US" sz="32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550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649"/>
              </a:spcBef>
              <a:buNone/>
              <a:tabLst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EB4C-3938-4192-8845-DA5B558EBD1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PA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rotected Health Information (PHI) is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Individually identifiable health information which is a subset of PII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Created, received, or maintained by a covered entity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Transmitted or maintained by electronic or any other form or medium, except as otherwise contained in employment record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16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FCA4-A565-4802-9A87-FF922D5A1CC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PA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8" name="Picture 2" descr="http://icons.iconarchive.com/icons/devcom/medical/128/nurse-ico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3429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0" descr="http://icons.iconarchive.com/icons/dimension-of-deskmod/city/128/Umbrella-icon.png"/>
          <p:cNvPicPr/>
          <p:nvPr/>
        </p:nvPicPr>
        <p:blipFill>
          <a:blip r:embed="rId3"/>
          <a:stretch/>
        </p:blipFill>
        <p:spPr>
          <a:xfrm rot="1800000">
            <a:off x="2771280" y="1095480"/>
            <a:ext cx="3454560" cy="3454200"/>
          </a:xfrm>
          <a:prstGeom prst="rect">
            <a:avLst/>
          </a:prstGeom>
          <a:ln w="0">
            <a:noFill/>
          </a:ln>
        </p:spPr>
      </p:pic>
      <p:sp>
        <p:nvSpPr>
          <p:cNvPr id="620" name="TextBox 9"/>
          <p:cNvSpPr/>
          <p:nvPr/>
        </p:nvSpPr>
        <p:spPr>
          <a:xfrm rot="21091800">
            <a:off x="4019400" y="4383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e Q.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0"/>
          <p:cNvSpPr/>
          <p:nvPr/>
        </p:nvSpPr>
        <p:spPr>
          <a:xfrm rot="20248200">
            <a:off x="676080" y="4406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2" descr="http://icons.iconarchive.com/icons/aha-soft/people/128/boss-icon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3520" y="35053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623" name="TextBox 12"/>
          <p:cNvSpPr/>
          <p:nvPr/>
        </p:nvSpPr>
        <p:spPr>
          <a:xfrm rot="20795400">
            <a:off x="6995520" y="3986280"/>
            <a:ext cx="22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Rectangle 14" descr=""/>
          <p:cNvPicPr/>
          <p:nvPr/>
        </p:nvPicPr>
        <p:blipFill>
          <a:blip r:embed="rId6"/>
          <a:stretch/>
        </p:blipFill>
        <p:spPr>
          <a:xfrm>
            <a:off x="590400" y="2762280"/>
            <a:ext cx="3616560" cy="712800"/>
          </a:xfrm>
          <a:prstGeom prst="rect">
            <a:avLst/>
          </a:prstGeom>
          <a:ln w="0">
            <a:noFill/>
          </a:ln>
        </p:spPr>
      </p:pic>
      <p:pic>
        <p:nvPicPr>
          <p:cNvPr id="625" name="Rectangle 15" descr=""/>
          <p:cNvPicPr/>
          <p:nvPr/>
        </p:nvPicPr>
        <p:blipFill>
          <a:blip r:embed="rId7"/>
          <a:stretch/>
        </p:blipFill>
        <p:spPr>
          <a:xfrm>
            <a:off x="2494080" y="1133640"/>
            <a:ext cx="4230720" cy="714240"/>
          </a:xfrm>
          <a:prstGeom prst="rect">
            <a:avLst/>
          </a:prstGeom>
          <a:ln w="0">
            <a:noFill/>
          </a:ln>
        </p:spPr>
      </p:pic>
      <p:pic>
        <p:nvPicPr>
          <p:cNvPr id="626" name="Rectangle 16" descr=""/>
          <p:cNvPicPr/>
          <p:nvPr/>
        </p:nvPicPr>
        <p:blipFill>
          <a:blip r:embed="rId8"/>
          <a:stretch/>
        </p:blipFill>
        <p:spPr>
          <a:xfrm>
            <a:off x="5010120" y="2809800"/>
            <a:ext cx="4067280" cy="714600"/>
          </a:xfrm>
          <a:prstGeom prst="rect">
            <a:avLst/>
          </a:prstGeom>
          <a:ln w="0">
            <a:noFill/>
          </a:ln>
        </p:spPr>
      </p:pic>
      <p:pic>
        <p:nvPicPr>
          <p:cNvPr id="627" name="Rectangle 17" descr=""/>
          <p:cNvPicPr/>
          <p:nvPr/>
        </p:nvPicPr>
        <p:blipFill>
          <a:blip r:embed="rId9"/>
          <a:stretch/>
        </p:blipFill>
        <p:spPr>
          <a:xfrm>
            <a:off x="285840" y="4943520"/>
            <a:ext cx="4219560" cy="714240"/>
          </a:xfrm>
          <a:prstGeom prst="rect">
            <a:avLst/>
          </a:prstGeom>
          <a:ln w="0">
            <a:noFill/>
          </a:ln>
        </p:spPr>
      </p:pic>
      <p:pic>
        <p:nvPicPr>
          <p:cNvPr id="628" name="Rectangle 18" descr=""/>
          <p:cNvPicPr/>
          <p:nvPr/>
        </p:nvPicPr>
        <p:blipFill>
          <a:blip r:embed="rId10"/>
          <a:stretch/>
        </p:blipFill>
        <p:spPr>
          <a:xfrm>
            <a:off x="5237280" y="4943520"/>
            <a:ext cx="3614760" cy="7142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http://icons.iconarchive.com/icons/aha-soft/people/128/user-icon.pn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81280" y="2695680"/>
            <a:ext cx="1839960" cy="1839960"/>
          </a:xfrm>
          <a:prstGeom prst="rect">
            <a:avLst/>
          </a:prstGeom>
          <a:ln w="0">
            <a:noFill/>
          </a:ln>
        </p:spPr>
      </p:pic>
      <p:pic>
        <p:nvPicPr>
          <p:cNvPr id="630" name="Straight Arrow Connector 24" descr=""/>
          <p:cNvPicPr/>
          <p:nvPr/>
        </p:nvPicPr>
        <p:blipFill>
          <a:blip r:embed="rId13"/>
          <a:stretch/>
        </p:blipFill>
        <p:spPr>
          <a:xfrm>
            <a:off x="2498760" y="3638520"/>
            <a:ext cx="1414440" cy="878040"/>
          </a:xfrm>
          <a:prstGeom prst="rect">
            <a:avLst/>
          </a:prstGeom>
          <a:ln w="0">
            <a:noFill/>
          </a:ln>
        </p:spPr>
      </p:pic>
      <p:pic>
        <p:nvPicPr>
          <p:cNvPr id="631" name="Straight Arrow Connector 29" descr=""/>
          <p:cNvPicPr/>
          <p:nvPr/>
        </p:nvPicPr>
        <p:blipFill>
          <a:blip r:embed="rId14"/>
          <a:stretch/>
        </p:blipFill>
        <p:spPr>
          <a:xfrm>
            <a:off x="5162400" y="3718080"/>
            <a:ext cx="1262160" cy="804600"/>
          </a:xfrm>
          <a:prstGeom prst="rect">
            <a:avLst/>
          </a:prstGeom>
          <a:ln w="0">
            <a:noFill/>
          </a:ln>
        </p:spPr>
      </p:pic>
      <p:pic>
        <p:nvPicPr>
          <p:cNvPr id="632" name="Straight Arrow Connector 32" descr=""/>
          <p:cNvPicPr/>
          <p:nvPr/>
        </p:nvPicPr>
        <p:blipFill>
          <a:blip r:embed="rId15"/>
          <a:stretch/>
        </p:blipFill>
        <p:spPr>
          <a:xfrm>
            <a:off x="2876400" y="4705200"/>
            <a:ext cx="3395880" cy="347760"/>
          </a:xfrm>
          <a:prstGeom prst="rect">
            <a:avLst/>
          </a:prstGeom>
          <a:ln w="0">
            <a:noFill/>
          </a:ln>
        </p:spPr>
      </p:pic>
      <p:sp>
        <p:nvSpPr>
          <p:cNvPr id="63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1624-A814-4F25-9B84-1C7BA8A64E3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Freedom of Information Act (FOIA)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5 USC 552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35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A186-708E-48C5-B98B-4D41A4AD099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I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urpose:  Inform the public of information while appropriately protecting government interest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pplicability:  Executive branch government agencie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D 5400.7, “DoD Freedom of Information Act (FOIA) Program.” 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5400.7-R, “DoD Freedom of Information Act Program.”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38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D8F4-F849-48F2-A1DD-70EE9E908E7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I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rovides individuals with access to many types of records that are exempt from access under the Privacy Act.  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Unlike those of the Privacy Act, FOIA procedures are available to non-resident foreign national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41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EF74-0648-4C23-AB69-2D7AF1A1FB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E-Government Act of 2002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Public Law 107-347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4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CC29-7482-4382-A779-B8C6928BD14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-Government Ac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urpose:  Improve internet-based technology to make it easier for citizens and businesses to interact with the government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pplicability:  All executive branch departments and Federal agencie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46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FD02-D3E0-4993-83CB-A09701A23B4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-Government Act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rotects PII agencies collect, use, maintain, or disseminate within information technology system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OMB and DoD Annual FISMA Guidanc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CIO Memorandum, DoD Privacy Impact Assessment (PIA) Guidanc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49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199B-6F0A-40E2-8DCF-8ABB11410D7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-Government Act - FISMA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ederal Information Security Management Act (FISMA) provides a framework to ensuring effectiveness of information security controls for Federal system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-3826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Directive 8500.1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-3826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Instruction 8500.2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-3826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Annual FISMA Guidanc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52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28AC-BA7C-49EE-A67A-74EF7DC563A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-Government Act - FISM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pplicabilit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Federal government agencies’ information system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Information systems operated by contractors on behalf of federal agencie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What it protects:  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Federal information systems and related resource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55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62C1-0E53-40B0-8C95-39692AEE643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Upon completion of this presentation, you should be able to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Explain the basic concepts of information privacy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escribe key elements of foundational privacy laws and regulation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Explain how privacy laws and regulations interrelat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67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DAC4-5E30-4856-BC14-4ECB49D67D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-Government Act - FISM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457200" y="1447560"/>
            <a:ext cx="8153280" cy="40892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untitled"/>
          <p:cNvPicPr/>
          <p:nvPr/>
        </p:nvPicPr>
        <p:blipFill>
          <a:blip r:embed="rId2"/>
          <a:stretch/>
        </p:blipFill>
        <p:spPr>
          <a:xfrm>
            <a:off x="304920" y="1219320"/>
            <a:ext cx="8534160" cy="4419360"/>
          </a:xfrm>
          <a:prstGeom prst="rect">
            <a:avLst/>
          </a:prstGeom>
          <a:ln w="0">
            <a:noFill/>
          </a:ln>
        </p:spPr>
      </p:pic>
      <p:sp>
        <p:nvSpPr>
          <p:cNvPr id="659" name="TextBox 5"/>
          <p:cNvSpPr/>
          <p:nvPr/>
        </p:nvSpPr>
        <p:spPr>
          <a:xfrm>
            <a:off x="990720" y="5526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060"/>
                </a:solidFill>
                <a:latin typeface="Arial"/>
              </a:rPr>
              <a:t>From Report GAO-07-837 INFORMATION SECURITY, “Despite Reported Progress, Federal Agencies Need to Address Persistent Weaknesses ,“ July 200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722B-F9B8-4891-98EB-AB08D919B3E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-Government Act - PI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rivacy Impact Assessments (PIA)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An analysis of systems to identify privacy risks associated with the use of PII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Web-page privacy policy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Must include a machine-readable privacy policy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Must be consistent with the Privacy Act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Instruction 5400.16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6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F20C-7CB1-45D7-AB64-B4C2601903A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Paperwork Reduction Act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Public Law 104-13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0D41-08ED-41A2-8838-5C95882E6A7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perwork Reduction Ac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urpose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Reduce the total amount of paperwork handled by the federal government and general public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Maximize utility of information 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Agencies must ensure disclosure policies will honor any claims of confidentiality on forms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68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7438-72FE-4CA8-ACA4-455ACE8B537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perwork Reduction Ac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48860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What it protects:  Information created, collected, maintained, used, disseminated, or disposed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8910.1-M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71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EED0-84AF-403F-A6E9-6DAE742F9B8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Records Management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36 CFR, Chapter 12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7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958B-487B-400C-B287-BEACA9FA06B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ords Managemen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urpose:  Supports the creation, maintenance and use, and disposition of records in order to document federal policies, operations, and transactions appropriately and economically. 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38268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8580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Bold Italic"/>
              </a:rPr>
              <a:t>DoD WHS Administrative Instruction 15.</a:t>
            </a:r>
            <a:endParaRPr b="1" lang="en-US" sz="28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3826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382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76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8E20-2207-4981-8662-CBB4560AD1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ords Managemen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pplicability:  Federal agencies and Executive branch of the U.S. Government. 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What it protects:  All information, related to an agency’s business transaction, that is created, used, maintained, disseminated, or disposed of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79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EA90-68F1-4623-A66D-D7C09C16A1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Integrating Different Laws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81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255C-DE9E-4803-BDBB-C63AA19BC3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868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grating Different Law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-363240">
              <a:spcBef>
                <a:spcPts val="1874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e challenge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85800" indent="-259200">
              <a:spcBef>
                <a:spcPts val="1624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Laws with various purposes often govern the same data at different points in the systems development life cycl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397800" indent="-363240">
              <a:spcBef>
                <a:spcPts val="1874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e solution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85800" indent="-259200">
              <a:spcBef>
                <a:spcPts val="1624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Focus on the FIPP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85800" indent="-259200">
              <a:spcBef>
                <a:spcPts val="1624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Comply with Federal law and DoD Policy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85800" indent="-259200">
              <a:spcBef>
                <a:spcPts val="1624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Consult your Privacy Office at the beginning of the SDLC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39780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39780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84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11E0-80E1-4FBA-A3C0-49161F19BB8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The Privacy Act of 1974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5 USC 522a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69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90C6-26F5-4937-9F85-9E27FE7961E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You should now be able to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78600" indent="-25632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State the purpose of each law, who it applies to, and what it protect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78600" indent="-25632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Recognize that laws create standards and mandate complianc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78600" indent="-25632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Identify how different laws relate to one another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78600" indent="-25632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iscuss the FIPPs as it relates to the Defense Privacy Program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786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3938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87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7975-AC70-4726-82D9-E027A174483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380880" y="1219320"/>
            <a:ext cx="8458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Paperwork Reduction Act, Public Law 104-13, May 22,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 8910.1-M, DoD Procedures for Management of Information Requirements, June 30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Freedom of Information Act (FOIA),  Public Law 89-554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July 4, 196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D 5400.7, DoD Freedom of Information (FOIA) Act Program, October 28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 5400.7-R, DoD Freedom of Information Act Program, September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The Privacy Act of 1974, Public Law 93-579, December 31, 197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48D1-69C4-4CC4-B99D-37B58A26B79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Resource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457200" y="1219320"/>
            <a:ext cx="8915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D 5400.11, DoD Privacy Program, May 8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 5400.11-R, DoD Privacy Program, May 14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Health Insurance Portability and Accountability Act of 1996, Public Law 104-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 6025.18-R, DoD Health Information Privacy Regulation, January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 8580.02-R, DoD Health Information Security Regulation, July 12, 200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E-Government Act of 2002, Public Law 107-34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Federal Information Security Management Act (FISMA)              of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C78F-F599-441A-8A34-7C424EDE27E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continued)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380880" y="1219320"/>
            <a:ext cx="8763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 and OMB Annual FISMA Gui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D 8500.1, Information Assurance, October 24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I 8500.2, Information Assurance Implementation, February 6,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 CIO Memorandum, DoD Privacy Impact Assessment (PIA) Guidance, October 28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Office of Management and Budget Circular No. A-130, Revised, Management of Federal Information Resources, November 28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D 5015.2, DoD Records Management Program, March 6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A1E4-27C9-4FFA-8732-8856A656384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0" name=""/>
          <p:cNvGraphicFramePr/>
          <p:nvPr/>
        </p:nvGraphicFramePr>
        <p:xfrm>
          <a:off x="533520" y="1447920"/>
          <a:ext cx="8076960" cy="4155840"/>
        </p:xfrm>
        <a:graphic>
          <a:graphicData uri="http://schemas.openxmlformats.org/drawingml/2006/table">
            <a:tbl>
              <a:tblPr/>
              <a:tblGrid>
                <a:gridCol w="2307960"/>
                <a:gridCol w="5769000"/>
              </a:tblGrid>
              <a:tr h="598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 Information Practice Principles (FIPPs)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ce/Aware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must be no personal data record keeping systems whose very existence is kept secr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ice/Con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must be a way for an individual to find out what information is in their file and how it is being us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/Partici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must be a way for an individual to correct information in his or her reco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ity/Secu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organization creating, maintaining, using or dissemination personally identifiable information must ensure the reliability of the data for its intended use and must take precautions to prevent misus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orcement/Re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must be a way for an individual to prevent personal information obtained for one purpose from being used for another purpose without his or her cons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</a:tr>
            </a:tbl>
          </a:graphicData>
        </a:graphic>
      </p:graphicFrame>
      <p:sp>
        <p:nvSpPr>
          <p:cNvPr id="571" name="Text Box 26"/>
          <p:cNvSpPr/>
          <p:nvPr/>
        </p:nvSpPr>
        <p:spPr>
          <a:xfrm>
            <a:off x="636840" y="5715000"/>
            <a:ext cx="472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NIST Guide to Protecting the Confidentiality of (PII) (NIST SP 800-122, 4/1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Privacy Ac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2010-5239-439E-AE6F-8317A6B34E9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Privacy Ac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 code of fair information practices which mandates how Government agencies shall collect, maintain, use, and disseminate  personally identifiable information (PII) about individuals that is maintained in systems of records (SOR)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C0B4-D4EC-4D4C-A250-569E13C9885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Privacy Ac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pplies to: Executive Branch Agencie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624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D 5400.11, “DoD Privacy Program.”  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624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5400.11-R, “DoD Privacy Program.”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79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7ECF-23BC-46E1-99EC-BFBEF22013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Privacy Ac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What is PII?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Information which can be used to distinguish or trace an individual’s identity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1199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Bold Italic"/>
              </a:rPr>
              <a:t>Including name, social security number, date and place of birth, mother’s maiden name, biometric information.</a:t>
            </a:r>
            <a:endParaRPr b="1" lang="en-US" sz="24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Any other personal information which is linked or linkable to a specified individual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82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32FB-58F6-42CB-AE27-BFA6712F41A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Privacy Ac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  <a:ea typeface="Arial"/>
              </a:rPr>
              <a:t>What is a Record?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"/>
              </a:rPr>
              <a:t>A collection or grouping of information about an individual that is maintained by a DoD Component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  <a:ea typeface="Arial"/>
              </a:rPr>
              <a:t>What is a SOR?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"/>
              </a:rPr>
              <a:t>A group of records which are under the control of a DoD Component that are 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 Bold Italic"/>
                <a:ea typeface="Arial"/>
              </a:rPr>
              <a:t>etrieved</a:t>
            </a: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"/>
              </a:rPr>
              <a:t> by name, SSN, or other personal identifier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85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7C7B-A46B-4630-8866-1CC519F623A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6:36:44Z</dcterms:created>
  <dc:creator>colejk</dc:creator>
  <dc:description/>
  <dc:language>en-US</dc:language>
  <cp:lastModifiedBy>walkole</cp:lastModifiedBy>
  <dcterms:modified xsi:type="dcterms:W3CDTF">2011-05-25T17:30:14Z</dcterms:modified>
  <cp:revision>337</cp:revision>
  <dc:subject/>
  <dc:title>Slide 1</dc:title>
</cp:coreProperties>
</file>