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ACE2-5030-4A7A-8A3B-63915DB45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609480" y="4267080"/>
            <a:ext cx="64008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58DF-A4C2-4594-8305-21816576A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7488-2E00-49D5-B966-1CA43176C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4EA8-F5D3-4812-A026-AC4465ABE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B438-C854-4AE8-B17E-32EC83D21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B051-B48A-4E92-A76D-7B8D1B2F3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74C1-55C5-4528-92EC-A11F19B3B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62120" y="4190760"/>
            <a:ext cx="624816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EF6A-130C-49A3-9808-F53BC0087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9C2A-2F45-4E3F-9BF6-6E3A9BBE9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4487-AFE2-4132-AFC2-10A9654AE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1ECB-4850-4BF8-8552-0E7A32F65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640" y="4114440"/>
            <a:ext cx="630864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8CBE-6F7F-4DFD-ADB1-6A8164912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BEA0-3FC9-4BEA-B06F-AC9C2F48F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A976-FCE5-4FEC-BEB6-7979FB495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6260-BC54-4D28-980A-BA82DE3DA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9EA8-9D5F-4815-B30D-5FC66BCFF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B218-065B-4BF1-9CA1-65C3771B7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608D-0D08-423D-93C9-414CDECCB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0B43-65DB-4A51-87A0-15B8515EB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8E75-A988-4479-8F5F-9AC8BCCD6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13D6-B9FB-46CF-88AE-71549FFA1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640" y="4416120"/>
            <a:ext cx="630864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DB08-502E-4921-B0AA-046D194DF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29F8-B9C5-4B04-B070-63548E1A6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456840" y="4190760"/>
            <a:ext cx="6553080" cy="5105160"/>
          </a:xfrm>
          <a:prstGeom prst="rect">
            <a:avLst/>
          </a:prstGeom>
          <a:noFill/>
          <a:ln w="0">
            <a:noFill/>
          </a:ln>
        </p:spPr>
        <p:txBody>
          <a:bodyPr lIns="93240" rIns="93240" tIns="46440" bIns="46440"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7780-9555-43E8-9931-B5F3C159F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D2D7-5D23-4042-A08A-66C12B56A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E80D3-9979-4998-AA41-074778A5F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0B01D-521C-4D4E-80C5-A8F8679D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B5B87-7CA9-47CF-8E4A-B69A586EF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ED3C3-FFFF-44F6-821B-49B3B10E5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0C08B-4BA8-4AA3-8605-54B6B2AC6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F76BB-EFD9-4B1B-945A-2400EBD91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7511C-4F57-4D76-BAAF-ECF09D2B3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10C08-3627-4898-951C-D2F0C77C6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F4FF3-4F76-40F3-96B1-1690F6475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B28E3-8AD3-4D34-B815-646928F1C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ACEAF-40C0-45BC-96BA-7556477BA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AA6BD-D0C0-43A1-9066-8F39F730C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49D1A-18AC-4147-80D8-241A6F943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5C35C-ABFE-49C7-847C-A0579AA68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B4A7D-AF1B-4C2F-8E6F-716DBCC8C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5B9A5-B776-437D-9347-E59B4569E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FF7D1-8F66-4951-BE9B-36F75EFED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B0C7E-15FA-4D2B-B89C-69EC61D31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ABA3B-B6CA-4116-9EE4-1198F13BF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9465D-EFA6-4653-80F4-90F3E3488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46C43-69E3-4684-8AB9-99F345528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D907-A889-42A0-AC92-502C3910A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EC099-A4F6-4BEB-ADEB-79D5F06C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BCB7-77AC-43E3-A88E-107FADA6F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1004-004F-4C72-9D30-A77DE72CF2C0}"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4A50-CD79-47FF-8043-05289B4CB45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3A98-0F92-48EC-91A6-7042ADD62FBA}"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E843-A022-4F65-8438-0256BD655AC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csrc.nist.gov/drivers/documents/HR2458-final.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FISMA Privacy Reporting Requirements</a:t>
            </a:r>
            <a:br>
              <a:rPr sz="4400"/>
            </a:br>
            <a:r>
              <a:rPr b="0" i="1" lang="en-US" sz="3200" spc="-1" strike="noStrike">
                <a:solidFill>
                  <a:srgbClr val="003399"/>
                </a:solidFill>
                <a:latin typeface="Garamond"/>
              </a:rPr>
              <a:t>United States Pacific Command (USPACOM)</a:t>
            </a:r>
            <a:br>
              <a:rPr sz="3200"/>
            </a:br>
            <a:r>
              <a:rPr b="0" i="1" lang="en-US" sz="3200" spc="-1" strike="noStrike">
                <a:solidFill>
                  <a:srgbClr val="003399"/>
                </a:solidFill>
                <a:latin typeface="Garamond"/>
              </a:rPr>
              <a:t>FOIA &amp; Privacy Act Conference</a:t>
            </a:r>
            <a:endParaRPr b="0" lang="en-US" sz="3200" spc="-1" strike="noStrike">
              <a:solidFill>
                <a:srgbClr val="003399"/>
              </a:solidFill>
              <a:latin typeface="Garamond"/>
            </a:endParaRPr>
          </a:p>
        </p:txBody>
      </p:sp>
      <p:sp>
        <p:nvSpPr>
          <p:cNvPr id="94" name="PlaceHolder 2"/>
          <p:cNvSpPr>
            <a:spLocks noGrp="1"/>
          </p:cNvSpPr>
          <p:nvPr>
            <p:ph type="subTitle"/>
          </p:nvPr>
        </p:nvSpPr>
        <p:spPr>
          <a:xfrm>
            <a:off x="1752480" y="3962520"/>
            <a:ext cx="5639040" cy="220968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esented by</a:t>
            </a:r>
            <a:endParaRPr b="0" lang="en-US" sz="21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for Privacy, </a:t>
            </a: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ense Privacy &amp; Civil Liberties Office</a:t>
            </a:r>
            <a:endParaRPr b="0" lang="en-US" sz="19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January 2011</a:t>
            </a:r>
            <a:endParaRPr b="0" lang="en-US" sz="1900" spc="-1" strike="noStrike">
              <a:solidFill>
                <a:srgbClr val="000000"/>
              </a:solidFill>
              <a:latin typeface="Arial"/>
            </a:endParaRPr>
          </a:p>
        </p:txBody>
      </p:sp>
      <p:pic>
        <p:nvPicPr>
          <p:cNvPr id="95" name="Picture 4" descr="dodLogo"/>
          <p:cNvPicPr/>
          <p:nvPr/>
        </p:nvPicPr>
        <p:blipFill>
          <a:blip r:embed="rId1"/>
          <a:stretch/>
        </p:blipFill>
        <p:spPr>
          <a:xfrm>
            <a:off x="228600" y="5257800"/>
            <a:ext cx="1295280" cy="1295280"/>
          </a:xfrm>
          <a:prstGeom prst="rect">
            <a:avLst/>
          </a:prstGeom>
          <a:ln w="0">
            <a:noFill/>
          </a:ln>
        </p:spPr>
      </p:pic>
      <p:pic>
        <p:nvPicPr>
          <p:cNvPr id="96" name="Picture 5" descr="Current DPCLO Seal.JPG"/>
          <p:cNvPicPr/>
          <p:nvPr/>
        </p:nvPicPr>
        <p:blipFill>
          <a:blip r:embed="rId2"/>
          <a:stretch/>
        </p:blipFill>
        <p:spPr>
          <a:xfrm>
            <a:off x="7315200" y="52578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7F0E-20E1-4147-BE24-82A3748CED7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2" name="PlaceHolder 1"/>
          <p:cNvSpPr>
            <a:spLocks noGrp="1"/>
          </p:cNvSpPr>
          <p:nvPr>
            <p:ph/>
          </p:nvPr>
        </p:nvSpPr>
        <p:spPr>
          <a:xfrm>
            <a:off x="457200" y="159984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pril 2010, OMB issued memo M-10-15 “FY 2010 Reporting Instructions for the Federal Information Security Management Act and Agency Privacy Management ” which formed a comprehensive context for security and privacy of Federal information across government to include:</a:t>
            </a:r>
            <a:endParaRPr b="0"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ach type of privacy reviews conducted during the last fiscal year;</a:t>
            </a:r>
            <a:endParaRPr b="0" lang="en-US" sz="24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the advice-formal written policies, procedures, guidance, or interpretations of privacy requirements. </a:t>
            </a:r>
            <a:endParaRPr b="0" lang="en-US" sz="2400" spc="-1" strike="noStrike">
              <a:solidFill>
                <a:srgbClr val="000000"/>
              </a:solidFill>
              <a:latin typeface="Arial"/>
            </a:endParaRPr>
          </a:p>
        </p:txBody>
      </p:sp>
      <p:sp>
        <p:nvSpPr>
          <p:cNvPr id="133"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FD22-EB73-437A-A46D-E0E0742EB6D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6" name="PlaceHolder 1"/>
          <p:cNvSpPr>
            <a:spLocks noGrp="1"/>
          </p:cNvSpPr>
          <p:nvPr>
            <p:ph/>
          </p:nvPr>
        </p:nvSpPr>
        <p:spPr>
          <a:xfrm>
            <a:off x="457200" y="1447560"/>
            <a:ext cx="8229600" cy="4530600"/>
          </a:xfrm>
          <a:prstGeom prst="rect">
            <a:avLst/>
          </a:prstGeom>
          <a:noFill/>
          <a:ln w="0">
            <a:noFill/>
          </a:ln>
        </p:spPr>
        <p:txBody>
          <a:bodyPr anchor="t">
            <a:normAutofit fontScale="98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 M-10-15 “FY 2010 Reporting Instructions for the Federal Information Security Management Act and Agency Privacy Management” </a:t>
            </a:r>
            <a:r>
              <a:rPr b="0" i="1" lang="en-US" sz="1600" spc="-1" strike="noStrike">
                <a:solidFill>
                  <a:srgbClr val="000000"/>
                </a:solidFill>
                <a:latin typeface="Garamond"/>
              </a:rPr>
              <a:t>(Continued)</a:t>
            </a:r>
            <a:endParaRPr b="0" lang="en-US" sz="16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written complaints for each type of privacy issue allegation received to include: </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nd procedural issues (consent, collection, and appropriate notice);</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ress issues (non-Privacy Act inquiries seeking resolution of difficulties or concerns about privacy matters); or </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issues (inquiries regarding Privacy Act matters not including Privacy Act requests for access and/or corrections);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type of privacy issue received for alleged privacy violations, the number of complaints the agency referred to another agency with jurisdictio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415F-7BC1-49EF-A4B2-EFF164795F8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MB and Annual FISMA Reporting: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nior Agency Official for Privacy (SAOP) Question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1"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4644-DC6B-4E0B-A983-528AA3D0FE2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signment of Responsibilities</a:t>
            </a: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Circular No. A-130, “Management of Federal Information Resources,” November 28, 2000, Appendix 1.3.a. states:</a:t>
            </a:r>
            <a:endParaRPr b="0" lang="en-US" sz="2400" spc="-1" strike="noStrike">
              <a:solidFill>
                <a:srgbClr val="000000"/>
              </a:solidFill>
              <a:latin typeface="Arial"/>
            </a:endParaRPr>
          </a:p>
          <a:p>
            <a:pPr lvl="1" marL="669960" indent="-325440">
              <a:spcBef>
                <a:spcPts val="499"/>
              </a:spcBef>
              <a:spcAft>
                <a:spcPts val="4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ll Federal Agencies</a:t>
            </a:r>
            <a:r>
              <a:rPr b="0" lang="en-US" sz="2000" spc="-1" strike="noStrike">
                <a:solidFill>
                  <a:srgbClr val="000000"/>
                </a:solidFill>
                <a:latin typeface="Arial"/>
              </a:rPr>
              <a:t>. In addition…the head of each agency shall ensure that the reviews are conducted as often as specified in the accompanying chart. (next slide)</a:t>
            </a:r>
            <a:endParaRPr b="0" lang="en-US" sz="2000" spc="-1" strike="noStrike">
              <a:solidFill>
                <a:srgbClr val="000000"/>
              </a:solidFill>
              <a:latin typeface="Arial"/>
            </a:endParaRPr>
          </a:p>
          <a:p>
            <a:pPr lvl="1" marL="669960" indent="-325440">
              <a:spcBef>
                <a:spcPts val="649"/>
              </a:spcBef>
              <a:spcAft>
                <a:spcPts val="4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to report to the Director, OMB, the results of such reviews and the corrective action taken to resolve problems uncovere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A771-7A84-4B11-9F6D-7F6BAE561DD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PlaceHolder 1"/>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49" name=""/>
          <p:cNvGraphicFramePr/>
          <p:nvPr/>
        </p:nvGraphicFramePr>
        <p:xfrm>
          <a:off x="457200" y="1905120"/>
          <a:ext cx="8077320" cy="4141800"/>
        </p:xfrm>
        <a:graphic>
          <a:graphicData uri="http://schemas.openxmlformats.org/drawingml/2006/table">
            <a:tbl>
              <a:tblPr/>
              <a:tblGrid>
                <a:gridCol w="4038480"/>
                <a:gridCol w="4038840"/>
              </a:tblGrid>
              <a:tr h="3988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MB Circular No. A-130 Appendix 1. , Privacy Review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quir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iodi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tching Progra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nnual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cordkeeping Pract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vacy Act Trai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Viol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ystems of Records Not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ection (m) Contra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wo years a random sample of agency contra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Routine Use Disclos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our year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2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Exemption of Systems of Rec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our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bl>
          </a:graphicData>
        </a:graphic>
      </p:graphicFrame>
      <p:sp>
        <p:nvSpPr>
          <p:cNvPr id="15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21FD-46D0-4443-8A39-880084E8497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1: Information Security Systems</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dentif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s systems that contain Federal information in identifiable form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 systems for which a Privacy Impact Assessment (PIA) is required under the E-Gov Act</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 systems covered by an existing PIA</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ystems for which a system of records notice (SORN) is required under the Privacy Act</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ystems for which a current SORN has been published in the Federal Regist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CDBF-BD0B-44B7-BF2C-276AC28BBAD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2: Links to PIAs and SORNS </a:t>
            </a:r>
            <a:endParaRPr b="0" lang="en-US" sz="3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URL of the centrally located page on the agency web site listing working links to agency PIAs. </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URL of the centrally located page on the agency web site listing working links to the published SORNs.</a:t>
            </a:r>
            <a:endParaRPr b="0" lang="en-US" sz="2800" spc="-1" strike="noStrike">
              <a:solidFill>
                <a:srgbClr val="000000"/>
              </a:solidFill>
              <a:latin typeface="Arial"/>
            </a:endParaRPr>
          </a:p>
        </p:txBody>
      </p:sp>
      <p:sp>
        <p:nvSpPr>
          <p:cNvPr id="158"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A971-568C-4E61-B66E-D7974075B29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1" name="PlaceHolder 1"/>
          <p:cNvSpPr>
            <a:spLocks noGrp="1"/>
          </p:cNvSpPr>
          <p:nvPr>
            <p:ph/>
          </p:nvPr>
        </p:nvSpPr>
        <p:spPr>
          <a:xfrm>
            <a:off x="457200" y="1599840"/>
            <a:ext cx="8229600" cy="4530600"/>
          </a:xfrm>
          <a:prstGeom prst="rect">
            <a:avLst/>
          </a:prstGeom>
          <a:noFill/>
          <a:ln w="0">
            <a:noFill/>
          </a:ln>
        </p:spPr>
        <p:txBody>
          <a:bodyPr anchor="t">
            <a:normAutofit fontScale="88000"/>
          </a:bodyPr>
          <a:p>
            <a:pPr marL="1561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3: Senior Agency Official for Privacy (SAOP) Responsibilities</a:t>
            </a:r>
            <a:endParaRPr b="0" lang="en-US" sz="24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r No—Can your agency demonstrate through documentation that the privacy official:</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s in all agency information privacy compliance activities (i.e., privacy policy as well as IT information policy); </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tes in evaluating the privacy implications of legislative,</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gulatory, and other policy proposals, as well as testimony and</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mments under OMB Circular A-19; </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tes in assessing the impact of the agency’s use of</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echnology on privacy and the protection of personal information?</a:t>
            </a:r>
            <a:endParaRPr b="0" lang="en-US" sz="2000" spc="-1" strike="noStrike">
              <a:solidFill>
                <a:srgbClr val="000000"/>
              </a:solidFill>
              <a:latin typeface="Arial"/>
            </a:endParaRPr>
          </a:p>
        </p:txBody>
      </p:sp>
      <p:sp>
        <p:nvSpPr>
          <p:cNvPr id="162"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FE09-3C85-4296-8C9C-DF729094F88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5"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4: Information Privacy Training and Awareness </a:t>
            </a:r>
            <a:endParaRPr b="0" lang="en-US" sz="2400" spc="-1" strike="noStrike">
              <a:solidFill>
                <a:srgbClr val="000000"/>
              </a:solidFill>
              <a:latin typeface="Arial"/>
            </a:endParaRPr>
          </a:p>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your agency have:</a:t>
            </a:r>
            <a:endParaRPr b="0" lang="en-US" sz="2400" spc="-1" strike="noStrike">
              <a:solidFill>
                <a:srgbClr val="000000"/>
              </a:solidFill>
              <a:latin typeface="Arial"/>
            </a:endParaRPr>
          </a:p>
          <a:p>
            <a:pPr marL="1739160" indent="-173916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to ensure that all personnel (employees, contractors, etc.) with access to Federal data are generally familiar with information privacy laws, regulations and policies, and understand the ramifications of inappropriate access and disclosure? </a:t>
            </a:r>
            <a:endParaRPr b="0" lang="en-US" sz="2000" spc="-1" strike="noStrike">
              <a:solidFill>
                <a:srgbClr val="000000"/>
              </a:solidFill>
              <a:latin typeface="Arial"/>
            </a:endParaRPr>
          </a:p>
          <a:p>
            <a:pPr marL="1739160" indent="-173916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gram for job-specific and comprehensive information privacy training for all personnel (employees, contractors, etc.) directly involved in the administration of personal information or information technology systems, or with significant information security responsibilities? </a:t>
            </a:r>
            <a:endParaRPr b="0" lang="en-US" sz="2000" spc="-1" strike="noStrike">
              <a:solidFill>
                <a:srgbClr val="000000"/>
              </a:solidFill>
              <a:latin typeface="Arial"/>
            </a:endParaRPr>
          </a:p>
          <a:p>
            <a:pPr marL="1739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EAA2-12C6-4DBD-ADEF-C85F4D113BD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9" name="PlaceHolder 1"/>
          <p:cNvSpPr>
            <a:spLocks noGrp="1"/>
          </p:cNvSpPr>
          <p:nvPr>
            <p:ph/>
          </p:nvPr>
        </p:nvSpPr>
        <p:spPr>
          <a:xfrm>
            <a:off x="457200" y="1523880"/>
            <a:ext cx="8229600" cy="4530960"/>
          </a:xfrm>
          <a:prstGeom prst="rect">
            <a:avLst/>
          </a:prstGeom>
          <a:noFill/>
          <a:ln w="0">
            <a:noFill/>
          </a:ln>
        </p:spPr>
        <p:txBody>
          <a:bodyPr anchor="t">
            <a:normAutofit fontScale="93000"/>
          </a:bodyPr>
          <a:p>
            <a:pPr marL="1650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5: Does the agency have a written policy or process for each of the following? </a:t>
            </a:r>
            <a:endParaRPr b="0" lang="en-US" sz="2400" spc="-1" strike="noStrike">
              <a:solidFill>
                <a:srgbClr val="000000"/>
              </a:solidFill>
              <a:latin typeface="Arial"/>
            </a:endParaRPr>
          </a:p>
          <a:p>
            <a:pPr marL="16502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A Practices: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whether a PIA is needed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ng a PIA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 changes in technology or business practices that are identified during the PIA process</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systems owners, privacy officials, and IT experts participate in conducting the PIA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ing PIAs available to the public as required by law and OMB policy</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the agency’s systems and practices to determine when and how PIAs should be updated</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quality and thoroughness of each PIA and performing reviews to ensure that appropriate standards for PIA are maintained</a:t>
            </a:r>
            <a:endParaRPr b="0" lang="en-US" sz="1800" spc="-1" strike="noStrike">
              <a:solidFill>
                <a:srgbClr val="000000"/>
              </a:solidFill>
              <a:latin typeface="Arial"/>
            </a:endParaRPr>
          </a:p>
        </p:txBody>
      </p:sp>
      <p:sp>
        <p:nvSpPr>
          <p:cNvPr id="17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B0C7-3E19-462F-A71E-CB6A4E41F52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Information Security Management Act (FISMA) – Division of Responsibilitie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MA Purpose</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orting Requirements as found in the OMB A-130, Appendix I</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ven questions that report on annual Agency Privacy Program Oversight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MA Annual Report to Con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7256-C374-455C-9277-92DEEDD75D0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1721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5: Does the agency have a written policy or process for each of the following web privacy practices? </a:t>
            </a:r>
            <a:endParaRPr b="0" lang="en-US" sz="2400" spc="-1" strike="noStrike">
              <a:solidFill>
                <a:srgbClr val="000000"/>
              </a:solidFill>
              <a:latin typeface="Arial"/>
            </a:endParaRPr>
          </a:p>
          <a:p>
            <a:pPr marL="17215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circumstances where the agency’s web-based activities warrant additional consideration of privacy implications</a:t>
            </a:r>
            <a:endParaRPr b="0" lang="en-US" sz="24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ppropriate updates and ensuring continued compliance with stated web privacy policies</a:t>
            </a:r>
            <a:endParaRPr b="0" lang="en-US" sz="24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machine-readability of public-facing agency web sites (i.e. use of P3P) </a:t>
            </a:r>
            <a:endParaRPr b="0" lang="en-US" sz="2400" spc="-1" strike="noStrike">
              <a:solidFill>
                <a:srgbClr val="000000"/>
              </a:solidFill>
              <a:latin typeface="Arial"/>
            </a:endParaRPr>
          </a:p>
          <a:p>
            <a:pPr marL="17215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06BC-F582-4058-A89C-3A990F688E1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7" name="PlaceHolder 1"/>
          <p:cNvSpPr>
            <a:spLocks noGrp="1"/>
          </p:cNvSpPr>
          <p:nvPr>
            <p:ph/>
          </p:nvPr>
        </p:nvSpPr>
        <p:spPr>
          <a:xfrm>
            <a:off x="457200" y="1599840"/>
            <a:ext cx="8229600" cy="4530600"/>
          </a:xfrm>
          <a:prstGeom prst="rect">
            <a:avLst/>
          </a:prstGeom>
          <a:noFill/>
          <a:ln w="0">
            <a:noFill/>
          </a:ln>
        </p:spPr>
        <p:txBody>
          <a:bodyPr anchor="t">
            <a:normAutofit/>
          </a:bodyPr>
          <a:p>
            <a:pPr marL="1774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6: </a:t>
            </a:r>
            <a:r>
              <a:rPr b="1" lang="en-US" sz="2000" spc="-1" strike="noStrike">
                <a:solidFill>
                  <a:srgbClr val="000000"/>
                </a:solidFill>
                <a:latin typeface="Arial"/>
              </a:rPr>
              <a:t>Reviews Mandated by Privacy Act of 1974, the E-Government Act of 2002, and the Federal Agency Data Mining Reporting Act of 2007. </a:t>
            </a:r>
            <a:endParaRPr b="0" lang="en-US" sz="2000" spc="-1" strike="noStrike">
              <a:solidFill>
                <a:srgbClr val="000000"/>
              </a:solidFill>
              <a:latin typeface="Arial"/>
            </a:endParaRPr>
          </a:p>
          <a:p>
            <a:pPr marL="1774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cate which reviews were conducted in the last year for the following: </a:t>
            </a:r>
            <a:endParaRPr b="0" lang="en-US" sz="1800" spc="-1" strike="noStrike">
              <a:solidFill>
                <a:srgbClr val="000000"/>
              </a:solidFill>
              <a:latin typeface="Arial"/>
            </a:endParaRPr>
          </a:p>
          <a:p>
            <a:pPr marL="1774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
          <p:cNvGraphicFramePr/>
          <p:nvPr/>
        </p:nvGraphicFramePr>
        <p:xfrm>
          <a:off x="457200" y="3048120"/>
          <a:ext cx="8153280" cy="3041640"/>
        </p:xfrm>
        <a:graphic>
          <a:graphicData uri="http://schemas.openxmlformats.org/drawingml/2006/table">
            <a:tbl>
              <a:tblPr/>
              <a:tblGrid>
                <a:gridCol w="4076640"/>
                <a:gridCol w="4076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 Check Mark</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 Number</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M Contracts </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emption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Practices </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tching Program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Use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ystem of Record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ivacy Act, (e)(3) Statement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ions: Civil Action and Remedial Action</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ivacy Impact Assessments and Update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55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ining Impact Assessment</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bl>
          </a:graphicData>
        </a:graphic>
      </p:graphicFrame>
      <p:sp>
        <p:nvSpPr>
          <p:cNvPr id="179"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AA23-D573-4C4B-B2A0-1CA1B75CC74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Written Privacy Complaints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 the number of written complaints for each type of privacy issue received by the SAOP or others at the agency</a:t>
            </a:r>
            <a:endParaRPr b="0" lang="en-US" sz="2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and Procedural -- consent, collection, and appropriate notice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ress -- non-Privacy Act inquiries seeking resolution of difficulties or concerns about privacy matters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 inquiries regarding Privacy Act matters not including Privacy Act requests for access and/or correction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rals – complaints referred to another agency with jurisdic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47A9-72B2-4820-9EBB-67F7DB07F38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6"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8: Policy Compliance Review </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gency:</a:t>
            </a:r>
            <a:endParaRPr b="0" lang="en-US" sz="24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current documentation demonstrating review of compliance with information privacy laws, regulations, and policies?</a:t>
            </a:r>
            <a:endParaRPr b="0" lang="en-US" sz="20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chnologies that enable continuous auditing of compliance with stated privacy policies and practices?  </a:t>
            </a:r>
            <a:endParaRPr b="0" lang="en-US" sz="20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the agency's Inspector General on privacy program oversight? </a:t>
            </a:r>
            <a:endParaRPr b="0" lang="en-US" sz="2000" spc="-1" strike="noStrike">
              <a:solidFill>
                <a:srgbClr val="000000"/>
              </a:solidFill>
              <a:latin typeface="Arial"/>
            </a:endParaRPr>
          </a:p>
          <a:p>
            <a:pPr marL="339480" indent="-3394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agency provide documentation of planned, in progress, or completed corrective actions necessary to remedy deficiencies identified in compliance reviews? </a:t>
            </a:r>
            <a:endParaRPr b="0" lang="en-US" sz="2400" spc="-1" strike="noStrike">
              <a:solidFill>
                <a:srgbClr val="000000"/>
              </a:solidFill>
              <a:latin typeface="Arial"/>
            </a:endParaRPr>
          </a:p>
        </p:txBody>
      </p:sp>
      <p:sp>
        <p:nvSpPr>
          <p:cNvPr id="18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082D-701F-433F-81F0-87DCF37CE4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0" name="PlaceHolder 1"/>
          <p:cNvSpPr>
            <a:spLocks noGrp="1"/>
          </p:cNvSpPr>
          <p:nvPr>
            <p:ph/>
          </p:nvPr>
        </p:nvSpPr>
        <p:spPr>
          <a:xfrm>
            <a:off x="456840" y="1066680"/>
            <a:ext cx="838188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9: Information About Advice Provided by the </a:t>
            </a:r>
            <a:r>
              <a:rPr b="1" lang="en-US" sz="2400" spc="-1" strike="noStrike">
                <a:solidFill>
                  <a:srgbClr val="000000"/>
                </a:solidFill>
                <a:latin typeface="Arial"/>
              </a:rPr>
              <a:t>	</a:t>
            </a:r>
            <a:r>
              <a:rPr b="1" lang="en-US" sz="2400" spc="-1" strike="noStrike">
                <a:solidFill>
                  <a:srgbClr val="000000"/>
                </a:solidFill>
                <a:latin typeface="Arial"/>
              </a:rPr>
              <a:t>          SAOP (Yes or No)</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if the SAOP has provided formal written advice or guidance in each of the listed categories, and briefly describe the advice or guidance if applicable.  The categories are:</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gency policies, orders, directives, or guidance governing agency handling of personally identifiable information’ </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ten Agreements (either Interagency or with Non-Federal Entities) pertaining to information sharing, computer matching, and similar issues</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gency’s practices for conducting, preparing, and releasing SORNs and PIAs</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views or feedback outside of the SORN and PIA process (e.g. formal written advice in the context of budgetary or programmatic activities or planning)</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Training (either stand-alone or included with training on related issues) </a:t>
            </a:r>
            <a:endParaRPr b="0" lang="en-US" sz="1700" spc="-1" strike="noStrike">
              <a:solidFill>
                <a:srgbClr val="000000"/>
              </a:solidFill>
              <a:latin typeface="Arial"/>
            </a:endParaRPr>
          </a:p>
          <a:p>
            <a:pPr lvl="1" marL="669960" indent="-325440">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he number of employees (or contractors) who participated in the train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A7C5-AE8A-4D21-AB1B-F6AC4AD9A15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4" name="PlaceHolder 1"/>
          <p:cNvSpPr>
            <a:spLocks noGrp="1"/>
          </p:cNvSpPr>
          <p:nvPr>
            <p:ph/>
          </p:nvPr>
        </p:nvSpPr>
        <p:spPr>
          <a:xfrm>
            <a:off x="457200" y="1523880"/>
            <a:ext cx="8686800" cy="45309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estion 10:</a:t>
            </a:r>
            <a:r>
              <a:rPr b="0" lang="en-US" sz="2200" spc="-1" strike="noStrike">
                <a:solidFill>
                  <a:srgbClr val="000000"/>
                </a:solidFill>
                <a:latin typeface="Arial"/>
              </a:rPr>
              <a:t> </a:t>
            </a:r>
            <a:r>
              <a:rPr b="1" lang="en-US" sz="2200" spc="-1" strike="noStrike">
                <a:solidFill>
                  <a:srgbClr val="000000"/>
                </a:solidFill>
                <a:latin typeface="Arial"/>
              </a:rPr>
              <a:t>Agency Use of Persistent Tracking Technology </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cate Yes or No for each item below:</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es the agency use web management and customization technologies on any web site or application?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es the agency annually review the use of web management and customization technologies to ensure compliance with all laws, regulations, and OMB guidance?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the agency demonstrate, with documentation, the continued justification for, and approval to use, web management and customization technologies?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the agency provide the notice language or citation for the web privacy policy that informs visitors about the use of web management and customization technologies?</a:t>
            </a:r>
            <a:endParaRPr b="0" lang="en-US" sz="1900" spc="-1" strike="noStrike">
              <a:solidFill>
                <a:srgbClr val="000000"/>
              </a:solidFill>
              <a:latin typeface="Arial"/>
            </a:endParaRPr>
          </a:p>
        </p:txBody>
      </p:sp>
      <p:sp>
        <p:nvSpPr>
          <p:cNvPr id="195"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5A66-75C5-4174-9C10-C40D366C3F3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p:nvPr>
        </p:nvSpPr>
        <p:spPr>
          <a:xfrm>
            <a:off x="456840" y="1599840"/>
            <a:ext cx="84582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11: Privacy Points of Contact Information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ase provide the names, phone numbers, and e-mail addresses of the following officials:</a:t>
            </a:r>
            <a:endParaRPr b="0" lang="en-US" sz="3000" spc="-1" strike="noStrike">
              <a:solidFill>
                <a:srgbClr val="000000"/>
              </a:solidFill>
              <a:latin typeface="Arial"/>
            </a:endParaRPr>
          </a:p>
        </p:txBody>
      </p:sp>
      <p:graphicFrame>
        <p:nvGraphicFramePr>
          <p:cNvPr id="199" name=""/>
          <p:cNvGraphicFramePr/>
          <p:nvPr/>
        </p:nvGraphicFramePr>
        <p:xfrm>
          <a:off x="609480" y="3505320"/>
          <a:ext cx="7620120" cy="2409840"/>
        </p:xfrm>
        <a:graphic>
          <a:graphicData uri="http://schemas.openxmlformats.org/drawingml/2006/table">
            <a:tbl>
              <a:tblPr/>
              <a:tblGrid>
                <a:gridCol w="3810240"/>
                <a:gridCol w="3809880"/>
              </a:tblGrid>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Hea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Privacy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Information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dvoc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Inspector Gener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ct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Information Security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Official for PI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Agency Official for Privac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 for URL links provided in question #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0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2F2B-FCB9-4DF7-B705-1E00415523D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FISMA)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rivacy Reporting at the Agency Level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FEAC-44CA-4357-8EAD-8C12AF42B8E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7" name="PlaceHolder 1"/>
          <p:cNvSpPr>
            <a:spLocks noGrp="1"/>
          </p:cNvSpPr>
          <p:nvPr>
            <p:ph/>
          </p:nvPr>
        </p:nvSpPr>
        <p:spPr>
          <a:xfrm>
            <a:off x="380880" y="1599840"/>
            <a:ext cx="830592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Our Agency Annual FISMA Reporting to OMB.</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8" name="Picture 2" descr="untitled"/>
          <p:cNvPicPr/>
          <p:nvPr/>
        </p:nvPicPr>
        <p:blipFill>
          <a:blip r:embed="rId1"/>
          <a:stretch/>
        </p:blipFill>
        <p:spPr>
          <a:xfrm>
            <a:off x="457200" y="2057400"/>
            <a:ext cx="8153280" cy="3657600"/>
          </a:xfrm>
          <a:prstGeom prst="rect">
            <a:avLst/>
          </a:prstGeom>
          <a:ln w="0">
            <a:noFill/>
          </a:ln>
        </p:spPr>
      </p:pic>
      <p:sp>
        <p:nvSpPr>
          <p:cNvPr id="209" name="TextBox 7"/>
          <p:cNvSpPr/>
          <p:nvPr/>
        </p:nvSpPr>
        <p:spPr>
          <a:xfrm>
            <a:off x="457200" y="556272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
        <p:nvSpPr>
          <p:cNvPr id="21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5882-EDE2-4F9F-BB36-13377793984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Resources</a:t>
            </a:r>
            <a:endParaRPr b="0" lang="en-US" sz="4200" spc="-1" strike="noStrike">
              <a:solidFill>
                <a:srgbClr val="003399"/>
              </a:solidFill>
              <a:latin typeface="Garamond"/>
            </a:endParaRPr>
          </a:p>
        </p:txBody>
      </p:sp>
      <p:sp>
        <p:nvSpPr>
          <p:cNvPr id="214" name="PlaceHolder 2"/>
          <p:cNvSpPr>
            <a:spLocks noGrp="1"/>
          </p:cNvSpPr>
          <p:nvPr>
            <p:ph/>
          </p:nvPr>
        </p:nvSpPr>
        <p:spPr>
          <a:xfrm>
            <a:off x="151920" y="1066680"/>
            <a:ext cx="8153640" cy="4911840"/>
          </a:xfrm>
          <a:prstGeom prst="rect">
            <a:avLst/>
          </a:prstGeom>
          <a:noFill/>
          <a:ln w="0">
            <a:noFill/>
          </a:ln>
        </p:spPr>
        <p:txBody>
          <a:bodyPr anchor="t">
            <a:normAutofit fontScale="98000"/>
          </a:bodyPr>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randum M-10-15, of April 21, 2010 “FY 2010 Reporting Instructions for the Federal Information Security Management Act and Agency Privacy Management.”</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Management and Budget Circular No. A-130,  November 28, 2000 “Management of Federal Information Resources”</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Information Security Management Act of 2002 (Pub. L. 107-347). </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randum M-07-16, of May 22, 2007  “Safeguarding Against and Responding to the Breach of Personally Identifiable Information.”</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Y 2008 Report to Congress on Implementation of The Federal Information Security Management Act of 2002.</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O Report 07-837</a:t>
            </a:r>
            <a:r>
              <a:rPr b="1" lang="en-US" sz="2000" spc="-1" strike="noStrike">
                <a:solidFill>
                  <a:srgbClr val="000000"/>
                </a:solidFill>
                <a:latin typeface="Arial"/>
              </a:rPr>
              <a:t>: </a:t>
            </a:r>
            <a:r>
              <a:rPr b="0" lang="en-US" sz="2000" spc="-1" strike="noStrike">
                <a:solidFill>
                  <a:srgbClr val="000000"/>
                </a:solidFill>
                <a:latin typeface="Arial"/>
              </a:rPr>
              <a:t>INFORMATION SECURITY, </a:t>
            </a:r>
            <a:r>
              <a:rPr b="0" i="1" lang="en-US" sz="2000" spc="-1" strike="noStrike">
                <a:solidFill>
                  <a:srgbClr val="000000"/>
                </a:solidFill>
                <a:latin typeface="Arial"/>
              </a:rPr>
              <a:t>Despite Reported Progress, Federal Agencies Need to Address Persistent Weaknesses</a:t>
            </a:r>
            <a:r>
              <a:rPr b="0" lang="en-US" sz="2000" spc="-1" strike="noStrike">
                <a:solidFill>
                  <a:srgbClr val="000000"/>
                </a:solidFill>
                <a:latin typeface="Arial"/>
              </a:rPr>
              <a:t>, July 2007.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18C5-E7FA-4AA9-8B0F-DF7CD67B59E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SMA)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Division of Responsibilities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0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953C-7A1F-4915-B062-CB4F5EF9831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7" name="Picture 2" descr="untitled"/>
          <p:cNvPicPr/>
          <p:nvPr/>
        </p:nvPicPr>
        <p:blipFill>
          <a:blip r:embed="rId1"/>
          <a:stretch/>
        </p:blipFill>
        <p:spPr>
          <a:xfrm>
            <a:off x="457200" y="1447920"/>
            <a:ext cx="8229600" cy="4343400"/>
          </a:xfrm>
          <a:prstGeom prst="rect">
            <a:avLst/>
          </a:prstGeom>
          <a:ln w="0">
            <a:noFill/>
          </a:ln>
        </p:spPr>
      </p:pic>
      <p:sp>
        <p:nvSpPr>
          <p:cNvPr id="108" name="TextBox 5"/>
          <p:cNvSpPr/>
          <p:nvPr/>
        </p:nvSpPr>
        <p:spPr>
          <a:xfrm>
            <a:off x="990720" y="54864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
        <p:nvSpPr>
          <p:cNvPr id="109" name="Title 5"/>
          <p:cNvSpPr/>
          <p:nvPr/>
        </p:nvSpPr>
        <p:spPr>
          <a:xfrm>
            <a:off x="457200" y="277920"/>
            <a:ext cx="85345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28F8-613E-408E-9024-5965CB7F89A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urpose</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C40A-EE3A-4EE3-901F-0E07ACF9956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rigin of FISM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4c6d80"/>
                </a:solidFill>
                <a:uFillTx/>
                <a:latin typeface="Arial"/>
                <a:hlinkClick r:id="rId1"/>
              </a:rPr>
              <a:t>E-Government Act (Public Law 107-34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d by the 107th Congress and signed into la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President in December 200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d the importance of information security to the economic and national security interests of the United States.</a:t>
            </a:r>
            <a:endParaRPr b="0" lang="en-US" sz="2400" spc="-1" strike="noStrike">
              <a:solidFill>
                <a:srgbClr val="000000"/>
              </a:solidFill>
              <a:latin typeface="Arial"/>
            </a:endParaRPr>
          </a:p>
        </p:txBody>
      </p:sp>
      <p:sp>
        <p:nvSpPr>
          <p:cNvPr id="11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4BFE-24C8-454C-B471-C69BFD5BD4B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 name="PlaceHolder 1"/>
          <p:cNvSpPr>
            <a:spLocks noGrp="1"/>
          </p:cNvSpPr>
          <p:nvPr>
            <p:ph/>
          </p:nvPr>
        </p:nvSpPr>
        <p:spPr>
          <a:xfrm>
            <a:off x="380880" y="16412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II of the E-Government Act, entitled the </a:t>
            </a:r>
            <a:r>
              <a:rPr b="0" i="1" lang="en-US" sz="2400" spc="-1" strike="noStrike" u="sng">
                <a:solidFill>
                  <a:srgbClr val="000000"/>
                </a:solidFill>
                <a:uFillTx/>
                <a:latin typeface="Arial"/>
              </a:rPr>
              <a:t>Feder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Information Security Management Act of 2002 (FISMA)</a:t>
            </a:r>
            <a:r>
              <a:rPr b="0" i="1" lang="en-US" sz="2400" spc="-1" strike="noStrike">
                <a:solidFill>
                  <a:srgbClr val="000000"/>
                </a:solidFill>
                <a:latin typeface="Arial"/>
              </a:rPr>
              <a:t> </a:t>
            </a:r>
            <a:r>
              <a:rPr b="0" lang="en-US" sz="2400" spc="-1" strike="noStrike">
                <a:solidFill>
                  <a:srgbClr val="000000"/>
                </a:solidFill>
                <a:latin typeface="Arial"/>
              </a:rPr>
              <a:t>requires:</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ederal agency to develop, document, and implement an agency-wide program to provide information security for the information and information systems that support the operations and assets of the agency, including those provided or managed by another agency, contractor, or other source.</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MA, along with the Paperwork Reduction Act of 1995 and the Information Technology Management Reform Act of 1996 (Clinger-Cohen Act), explicitly emphasizes a risk-based policy for cost-effective security.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75FF-BAC4-48CE-B18C-45BDB60BFED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p:nvPr>
        </p:nvSpPr>
        <p:spPr>
          <a:xfrm>
            <a:off x="457200" y="159984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upport of and reinforcing this legislation, the Office of Management and Budget (OMB) through </a:t>
            </a:r>
            <a:r>
              <a:rPr b="0" i="1" lang="en-US" sz="2400" spc="-1" strike="noStrike">
                <a:solidFill>
                  <a:srgbClr val="000000"/>
                </a:solidFill>
                <a:latin typeface="Arial"/>
              </a:rPr>
              <a:t>Circular A-130, Appendix III</a:t>
            </a:r>
            <a:r>
              <a:rPr b="0" lang="en-US" sz="2400" spc="-1" strike="noStrike">
                <a:solidFill>
                  <a:srgbClr val="000000"/>
                </a:solidFill>
                <a:latin typeface="Arial"/>
              </a:rPr>
              <a:t>, Security of Federal Automated Information Resources, requires executive agencies within the federal government to:</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ecurity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ppropriate officials are assigned security responsibility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review the security controls in their information systems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 system processing prior to operations and, periodically, thereaft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8251-CDAC-4FE1-88C8-2167618D3D8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une 2005, OMB issued memo M-05-15, “FY 2005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Instructions for the Federal Information Security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Act and Agency Privacy Management” whi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d a number of questions regarding agency’s privacy program (Section D of the report) Senior Agency Official for Privacy.</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questions related, in part, to agency implementation of the </a:t>
            </a:r>
            <a:r>
              <a:rPr b="0" lang="en-US" sz="2400" spc="-1" strike="noStrike" u="sng">
                <a:solidFill>
                  <a:srgbClr val="000000"/>
                </a:solidFill>
                <a:uFillTx/>
                <a:latin typeface="Arial"/>
              </a:rPr>
              <a:t>privacy</a:t>
            </a:r>
            <a:r>
              <a:rPr b="0" lang="en-US" sz="2400" spc="-1" strike="noStrike">
                <a:solidFill>
                  <a:srgbClr val="000000"/>
                </a:solidFill>
                <a:latin typeface="Arial"/>
              </a:rPr>
              <a:t> provisions of the E-Government Act of 2002. </a:t>
            </a:r>
            <a:endParaRPr b="0" lang="en-US" sz="2400" spc="-1" strike="noStrike">
              <a:solidFill>
                <a:srgbClr val="000000"/>
              </a:solidFill>
              <a:latin typeface="Arial"/>
            </a:endParaRPr>
          </a:p>
        </p:txBody>
      </p:sp>
      <p:sp>
        <p:nvSpPr>
          <p:cNvPr id="129"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walkole</cp:lastModifiedBy>
  <dcterms:modified xsi:type="dcterms:W3CDTF">2011-05-24T18:26:30Z</dcterms:modified>
  <cp:revision>328</cp:revision>
  <dc:subject/>
  <dc:title>&lt;Title&gt; American Society of Access Professionals FOIA/Privacy Act Training Workshop</dc:title>
</cp:coreProperties>
</file>