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D1A2-D8C4-476A-AB55-0C8A08E58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426708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CF0D-0B08-463B-943C-EDA53467C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2174-5DF5-4291-9364-F8038DCB1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61760" y="441936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B6D8-C795-4897-814C-7641E6809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61760" y="441936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9867-23A5-48CE-8F8E-6010050D0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61760" y="441936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3F6B-AA61-4327-B173-1E8F98D9B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1640" y="4114440"/>
            <a:ext cx="6308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C049-77D3-4BFF-A29E-E451F20A8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AA5A-C38A-401E-B644-B20057B04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B345-5173-4233-8E44-09174F4E3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A95F-5F8B-4F69-A8D8-8DA49B64A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66680" y="7621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61760" y="434340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8DA8-FBFA-4D83-9224-2F69E09B0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61760" y="441936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2A47-3F79-4C8C-A121-04D690C56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447920" y="76212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D656-8B4D-45C2-AEF4-7E1BA4006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911E-F91F-4129-8AB5-09B7BF0E5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6E0-53B9-4B4C-811E-2BE078AD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C9A-54BF-4D95-8CA9-0E59A101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913-4E24-43D5-844C-5999EEA3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585-E20D-4FB6-802F-6F3807BB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5CDC-E581-4011-86B4-ACE8A5DE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0E2F-870E-42A1-80C9-3E7FB082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1421-F5FF-4DAE-B342-CB3E6372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7F2C-AE28-412A-9BD7-B96CEEE9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21E1-A8B5-4759-891A-BFA7125E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0F8A-924C-4EDD-B263-5AE064FB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158A-1AD4-476E-A960-2C0E3990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D97-DBC6-443A-8573-D8C2CB2A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9EC3-E8DD-4CAA-987A-37C4F1B5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6C31-66A9-4E79-8589-5A35922F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D436-EBCA-44E0-9B6F-DC73CAEC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3D12-AB2C-40F8-A3A5-2C83D97B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121E-0353-4395-94FA-072ACA2F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C95-1E16-4ACA-B6D6-B22112E0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3DA-2C69-40D4-9B44-0CC49C19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E1A-12BF-426A-8C76-7E499B50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B298-3EC9-4C8A-B897-929D6189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019-326C-4B6D-B8F6-40307EC5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6B1-49A0-4966-AFDE-44CCAF00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375-B46C-4D65-A94E-37D0EE8B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8F6E-27B5-4E71-819F-49346F40715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AP Con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F813-391A-4F7B-A672-91D8AE6097F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55A2-593A-438A-9EEF-A2CA3C244B1C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AP Con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17E2-E46A-4D27-BB66-F7DC0639471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Identity Management In A Federated Environment</a:t>
            </a:r>
            <a:br>
              <a:rPr sz="4400"/>
            </a:br>
            <a:r>
              <a:rPr b="0" i="1" lang="en-US" sz="3200" spc="-1" strike="noStrike">
                <a:solidFill>
                  <a:srgbClr val="003399"/>
                </a:solidFill>
                <a:latin typeface="Garamond"/>
              </a:rPr>
              <a:t>Identity Protection and Management Conference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muel P. Jenkins, Directo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fense Privacy and Civil Liberties Off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pril 20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dodLogo"/>
          <p:cNvPicPr/>
          <p:nvPr/>
        </p:nvPicPr>
        <p:blipFill>
          <a:blip r:embed="rId1"/>
          <a:stretch/>
        </p:blipFill>
        <p:spPr>
          <a:xfrm>
            <a:off x="304920" y="5257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DPOsealPPT"/>
          <p:cNvPicPr/>
          <p:nvPr/>
        </p:nvPicPr>
        <p:blipFill>
          <a:blip r:embed="rId2"/>
          <a:stretch/>
        </p:blipFill>
        <p:spPr>
          <a:xfrm>
            <a:off x="7391520" y="51814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8390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Fair Information Practice Principl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0880" y="110772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6F61-B1FD-408A-A9F9-4BDDE7BDB6E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14400" y="1432080"/>
          <a:ext cx="7086600" cy="3452760"/>
        </p:xfrm>
        <a:graphic>
          <a:graphicData uri="http://schemas.openxmlformats.org/drawingml/2006/table">
            <a:tbl>
              <a:tblPr/>
              <a:tblGrid>
                <a:gridCol w="2309760"/>
                <a:gridCol w="477684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 Information Practice Princip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dentity Management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sity and decentral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 centralizing identity information or using a single credential for multiple purpos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tion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mount, type, and sensitivity of identity information collected and stored by an identity management system should be consistent with and proportional to the system’s purpos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cy by desig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cy considerations should be incorporated into the identity management system from the outset of the design proces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Core Informational Privacy Concerns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2189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ssibility that others (potential observers) will gain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inka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tential to link between data and an individual as well as potential links between different data sets that can be tied together for further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1866-9E36-4C86-B271-E9FEFDABDC6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Privacy Design Considerations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189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 whether identity is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urage unnecessary lin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 security during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opt trust-enhancing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D0D4-76E5-46E8-BF37-5D73B032EAB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Thank you!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Questions?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D1AD-02FF-4CE2-B301-0E5E0486895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5C17-8F65-4F2C-A97D-E862340DC72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Garamond"/>
              </a:rPr>
              <a:t>Presentation Outline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uccess factors for identity federation and relation to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air Information Practice Principles for Identity Management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re Information Privacy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vacy Design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Identity Federation</a:t>
            </a:r>
            <a:endParaRPr b="0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able users to securely access data, systems, or applications of another domain seamlessly and without the need for completely redundant user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1F6E-1814-4E03-9513-F57610FCF73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Identity Federation</a:t>
            </a:r>
            <a:endParaRPr b="0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A382-47ED-423B-972B-6585EE8DDE6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Diagram 6" descr=""/>
          <p:cNvPicPr/>
          <p:nvPr/>
        </p:nvPicPr>
        <p:blipFill>
          <a:blip r:embed="rId1"/>
          <a:stretch/>
        </p:blipFill>
        <p:spPr>
          <a:xfrm>
            <a:off x="781200" y="1390680"/>
            <a:ext cx="7656480" cy="4076640"/>
          </a:xfrm>
          <a:prstGeom prst="rect">
            <a:avLst/>
          </a:prstGeom>
          <a:ln w="0">
            <a:noFill/>
          </a:ln>
        </p:spPr>
      </p:pic>
      <p:sp>
        <p:nvSpPr>
          <p:cNvPr id="106" name="Hexagon 7"/>
          <p:cNvSpPr/>
          <p:nvPr/>
        </p:nvSpPr>
        <p:spPr>
          <a:xfrm>
            <a:off x="3581280" y="2666880"/>
            <a:ext cx="2057400" cy="1447920"/>
          </a:xfrm>
          <a:prstGeom prst="hexagon">
            <a:avLst>
              <a:gd name="adj" fmla="val 24998"/>
              <a:gd name="vf" fmla="val 11547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omain and Individual Privacy Assuran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Identity Federation</a:t>
            </a:r>
            <a:endParaRPr b="0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is for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greement on root id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tween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tween domain and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67CF-64AC-4120-8574-7DBEBB65386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Root Identity Agreement</a:t>
            </a:r>
            <a:endParaRPr b="0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ty theft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 Security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F40E-A335-4799-B01F-11403530A7B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Domain Trust</a:t>
            </a:r>
            <a:endParaRPr b="0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haring agre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urpose and 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ata correction and de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reach 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eline security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 credentialing/Access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cal safegu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719B-C81D-4A5A-A006-0D9386956FE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Individual Trust</a:t>
            </a:r>
            <a:endParaRPr b="0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ne person, one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curacy and time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led information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B05F-63E2-4742-9843-6CBA43D2AB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8390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Fair Information Practice Principl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0880" y="110772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C28D-DD55-4647-830A-703FE97E710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1432080"/>
          <a:ext cx="7086600" cy="3978000"/>
        </p:xfrm>
        <a:graphic>
          <a:graphicData uri="http://schemas.openxmlformats.org/drawingml/2006/table">
            <a:tbl>
              <a:tblPr/>
              <a:tblGrid>
                <a:gridCol w="2309760"/>
                <a:gridCol w="4776840"/>
              </a:tblGrid>
              <a:tr h="261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: Organization for Economic Cooperation and Develo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y safeguards</a:t>
                      </a: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information should be protected with reasonable security safeguards against risks such as loss or unauthorized access, destruction, use, modification, or disclosur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n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ublic should be informed about privacy policies and practices, and individuals should have ready means of learning about the use of personal information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 participation</a:t>
                      </a: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s should have the following rights: to know about the collection of personal information, to access that information, to request correction, and to challenge the denial of those right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abil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s controlling the collection or use of personal information should be accountable for taking steps to ensure the implementation of these principl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16:30:04Z</dcterms:created>
  <dc:creator>ferencrj</dc:creator>
  <dc:description/>
  <dc:language>en-US</dc:language>
  <cp:lastModifiedBy>walkole</cp:lastModifiedBy>
  <dcterms:modified xsi:type="dcterms:W3CDTF">2011-05-25T12:59:50Z</dcterms:modified>
  <cp:revision>437</cp:revision>
  <dc:subject/>
  <dc:title>&lt;Title&gt; American Society of Access Professionals FOIA/Privacy Act Training Workshop</dc:title>
</cp:coreProperties>
</file>