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DA1BED-050A-4EE0-9589-6507E5B0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316A32-D3DE-4F59-994F-28310151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38B27F-5E26-4E75-82F1-C4D8E80F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F8D979-770E-4A2F-8EFE-07E4CA52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1DF6F8-A92C-413A-9E96-9419C846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3BF443-FEC6-42E0-B110-D7D526EA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75B06-EC2E-439B-B612-A5E5BE06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6BC4F1-2A43-472A-8DE9-FA42A5051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01E54A-1220-48A3-8F62-9C57BAA0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6308640" cy="510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5631-4DAB-4C3C-AD8A-875928E28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06BE-31ED-4816-8390-70DBA2E0A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3BD8-1F8D-46D6-875C-0F9C53AE0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2A5B-209B-4507-856B-2484C5DD1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1C63A-5C31-401D-B6CC-BAE30765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760E-7EC3-41D3-8C83-407BF94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86C08-0C28-411A-8FF2-BC71B110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FA841-047A-4E64-8C43-AF29C24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05195-6836-42D5-B218-B9913A4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0D261-3B11-431B-AA4A-A0E09D4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30359-04CC-450B-A0DE-EA7AC36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CF31-C71D-40FB-A4E1-1090AB32F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D951B-D00F-44E1-99A3-EA573A56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44935-6EED-4ACB-8132-F558B30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03472-F815-4825-A8F8-6DD09F6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9DAB2-67F6-4C4A-AB83-8C37BF86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66879-3CF8-4034-B865-73B50349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980C-B36A-47A5-B728-EF961A117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62BD-4855-49A5-9B5B-D6E1C5D59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58C5-CA61-4D05-AAE0-8C32BCC99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08D5-3050-422D-8F38-2C5B8E356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729A-BA47-4CBD-AD69-022F02A57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05AD-C7AA-41D4-A268-1071B337F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2CF2-0737-4DC4-8B03-61D1A4F3E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564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C00-55B0-42AA-864E-FF4798AD0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0A7E-36A3-4659-9112-CBBEDFCE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http://www.aaas.org/spp/sfrl/projects/accesstodata/pictures/OMB%20Seal.jpg"/>
          <p:cNvPicPr/>
          <p:nvPr/>
        </p:nvPicPr>
        <p:blipFill>
          <a:blip r:embed="rId1"/>
          <a:stretch/>
        </p:blipFill>
        <p:spPr>
          <a:xfrm>
            <a:off x="7540560" y="530280"/>
            <a:ext cx="1206720" cy="117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3804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51a07"/>
                </a:solidFill>
                <a:latin typeface="Arial Black"/>
              </a:rPr>
              <a:t>PRIVACY ACT EXEMPTIONS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muel P. Jenkin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or, for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fense Privacy and Civil Liberties Office (DPC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odLogo"/>
          <p:cNvPicPr/>
          <p:nvPr/>
        </p:nvPicPr>
        <p:blipFill>
          <a:blip r:embed="rId2"/>
          <a:stretch/>
        </p:blipFill>
        <p:spPr>
          <a:xfrm>
            <a:off x="38088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4E3-C4E0-4615-BC24-6B9D318F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criminal law enforcement records; criminal law enforcement records compiled by non-principal function criminal law enforcement agency; coverage is less broad where individual has been denied a right, privilege, or benefit as result of information sou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tain to the provision of protective services to the President of the United States or other individual pursuant to section 3056 of Title 1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by statute to be maintained and used solely as statistical rec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458200" y="6324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D031-505A-43AF-B9F0-2942AFEE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ory material used only to determine suitability, eligibility, or qualifications for federal civilian employment or access to classified information when the material comes from confidential 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or examination material used to determine appointment or promotion of federal employees when disclosure would compromise the objectivity or fairness of the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1880" y="6400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F85A-77B9-4138-8C5E-6B83EB9AA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7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material used to identify potential for promotion in the Armed Services but only to the extent disclosure would reveal a confidential source who provided the info under an express promise of confidential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FCB8-80F1-43ED-B23C-B5D52FAA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Resource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ct of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gister July 9, 1975 Privacy Act Implementation-Guidelin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J Overview of the Privacy Act of 1974, 2004 e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 Circular A-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OMB Memor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08 – E-Gov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Acquisition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Types of Exemptions Allowed for Systems of Records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mptions are broken into three categori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Exemptions, covered under Subsection (d)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, covered under Subsection (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Exemptions, covered under Subsection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0B2B-4D56-4EC8-81C5-0A4DDAAB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 Agency may exempt a system of records from specified exemptions of the Act, all having to do with how an individual gets information about his records including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unting to the individual (c)(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of records (d), (e)(1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existence of record pertaining to him or her (e)(4)(G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ing individual of how to gain access/amendment (e)(4)(H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records, (e)(4)(I)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rules (f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873-7CB0-495D-AD81-0E22277D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Access Exemption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d)(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compiled in reasonable anticipation of civil action or proceeding; self-executing exe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General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stems of Records under General Exemptions may opt out of all Privacy Act access requirem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Exemptions intend to protect specific investigations or authorized activities by law enforcement agencies or the 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se cases, knowledge that a record about an individual is kept may alone disrupt the investigation or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421-3BB0-4E2A-977C-7FF1EA51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the Central Intelligence Ag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381880" y="6324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j)(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maintained by an agency which performs as its principal function any activity pertaining to the enforcement of criminal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29600" y="6400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Specific Exemptions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fic Exemptions are more narrow in scope, and intended to preserve the integrity of a proce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onfidential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testing and evaluation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accountability and anonymity in statistical resear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classified information which is essential to an agency’s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AP FOIA/Privacy Act Train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D00-3EB9-450C-8BE4-D987AD47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1a07"/>
                </a:solidFill>
                <a:latin typeface="Arial Black"/>
              </a:rPr>
              <a:t>Systems of Records Exempted from the Access Provisions of the Privacy Act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emption (k)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ied information under an Executive Order in the interest of national defense or foreign poli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2860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cy Act Exe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305920" y="6400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1:49:50Z</dcterms:created>
  <dc:creator>WillsTL</dc:creator>
  <dc:description/>
  <dc:language>en-US</dc:language>
  <cp:lastModifiedBy>walkole</cp:lastModifiedBy>
  <dcterms:modified xsi:type="dcterms:W3CDTF">2011-05-24T15:35:26Z</dcterms:modified>
  <cp:revision>161</cp:revision>
  <dc:subject/>
  <dc:title>PRIVACY ACT 101 Privacy Awareness Training American Society of Access Professionals FOIA/Privacy Act Training Workshop</dc:title>
</cp:coreProperties>
</file>