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6A4C21-601A-4C03-875D-6A0F13F0D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1EA733-DCE1-4027-988D-CD5D67DAB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39CEEB-D6D8-4AD3-B820-504F20305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FB5D4B-D892-4D8C-93F4-6DA23194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86DA12-244D-4842-81EF-90FA2A9A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D0A6C3-FFC1-44FC-99CB-739D11A3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AC2A9A-44DD-41B6-A4AA-56B3C9AEF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E4E6D5-F390-4B00-B3A9-12F4BD85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76704C-A622-4885-94EB-E31166FB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1F53-4944-4BB8-A4CF-D1BC1F2F6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0017-C6F3-4F66-A5DE-FCA6CC0A3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3B1B-5E2B-40EC-AA0C-3DEAA8D24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7BB8-7A30-4A37-8655-879C2F8F5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6C3E7-418D-48D9-B119-0489EA86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FBB85-D9E8-4961-8685-E107D39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27970-A8D5-4BAB-BDCB-7243F12C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33F02-C028-448A-AAE5-494A0996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60426-9401-419F-A52F-49C37703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E3D83-F4BD-4DC3-B5B7-5621C74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C5480-BFA0-4C63-8210-3BE68862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D8F9-1B0A-4C42-B7AA-8E0831239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E3289-BF66-4BC0-8D3C-7A178490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2E15D-FC50-4DE1-A5AD-82C350EF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56E2B-B155-4D11-9923-07902C31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52146-F0B5-4A29-B927-BEE01D3F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3366C-5920-48EF-BEFF-4911D9ED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9B0E-1C57-481D-A47D-6901A298C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06A8-0F58-4F19-BC57-1AF144025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0FE2-75D7-49D0-BFC6-DEE8204A0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F117-A18D-4739-9111-B0A7984AC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F6C1-FD55-451D-A99D-077C7B158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0B4A-0B06-486B-9B14-B7DECE294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E915-9A71-418A-B3BF-E201C562E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564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3181-1B4E-481A-B3D7-AB5850B3E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833-1711-4392-9799-C6EC6F00B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http://www.aaas.org/spp/sfrl/projects/accesstodata/pictures/OMB%20Seal.jpg"/>
          <p:cNvPicPr/>
          <p:nvPr/>
        </p:nvPicPr>
        <p:blipFill>
          <a:blip r:embed="rId1"/>
          <a:stretch/>
        </p:blipFill>
        <p:spPr>
          <a:xfrm>
            <a:off x="7540560" y="530280"/>
            <a:ext cx="1206720" cy="1170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3804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51a07"/>
                </a:solidFill>
                <a:latin typeface="Arial Black"/>
              </a:rPr>
              <a:t>PRIVACY ACT EXEMPTIONS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muel P. Jenkin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or, for Priv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fense Privacy and Civil Liberties Office (DPC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odLogo"/>
          <p:cNvPicPr/>
          <p:nvPr/>
        </p:nvPicPr>
        <p:blipFill>
          <a:blip r:embed="rId2"/>
          <a:stretch/>
        </p:blipFill>
        <p:spPr>
          <a:xfrm>
            <a:off x="380880" y="533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D25-8979-4C05-83D5-94A090296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criminal law enforcement records; criminal law enforcement records compiled by non-principal function criminal law enforcement agency; coverage is less broad where individual has been denied a right, privilege, or benefit as result of information sou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3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tain to the provision of protective services to the President of the United States or other individual pursuant to section 3056 of Title 1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by statute to be maintained and used solely as statistical rec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8458200" y="6324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5535-4277-4631-91AC-622FE159B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ory material used only to determine suitability, eligibility, or qualifications for federal civilian employment or access to classified information when the material comes from confidential sour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or examination material used to determine appointment or promotion of federal employees when disclosure would compromise the objectivity or fairness of the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381880" y="6400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3312-447D-467B-B746-335B17E3B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7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on material used to identify potential for promotion in the Armed Services but only to the extent disclosure would reveal a confidential source who provided the info under an express promise of confidential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C2D4-5AE7-4C53-8AAD-9EF35A1A2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Resources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Act of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Register July 9, 1975 Privacy Act Implementation-Guidelin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J Overview of the Privacy Act of 1974, 2004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B Circular A-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OMB Memor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208 – E-Gov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Acquisition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Types of Exemptions Allowed for Systems of Records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mptions are broken into three categori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Exemptions, covered under Subsection (d)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Exemptions, covered under Subsection (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Exemptions, covered under Subsection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CC17-6CE9-422A-831D-638C3E54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Agency may exempt a system of records from specified exemptions of the Act, all having to do with how an individual gets information about his records including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unting to the individual (c)(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of records (d), (e)(1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ising individual of existence of record pertaining to him or her (e)(4)(G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ising individual of how to gain access/amendment (e)(4)(H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records, (e)(4)(I)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y rules (f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1880" y="6324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B53B-CA7B-4916-A383-C2BA15F0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Access Exemption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d)(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compiled in reasonable anticipation of civil action or proceeding; self-executing exe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General Exemptions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stems of Records under General Exemptions may opt out of all Privacy Act access requirem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Exemptions intend to protect specific investigations or authorized activities by law enforcement agencies or the 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se cases, knowledge that a record about an individual is kept may alone disrupt the investigation or act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9D03-04E6-4739-9792-64DB41D2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j)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s maintained by the Central Intelligence Agen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8381880" y="6324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j)(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s maintained by an agency which performs as its principal function any activity pertaining to the enforcement of criminal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Specific Exemptions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fic Exemptions are more narrow in scope, and intended to preserve the integrity of a proces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 confidenti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 testing and evaluation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accountability and anonymity in statistical resear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 classified information which is essential to an agency’s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D935-E10C-4ED5-89BC-951C1E9A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ied information under an Executive Order in the interest of national defense or foreign poli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1:49:50Z</dcterms:created>
  <dc:creator>WillsTL</dc:creator>
  <dc:description/>
  <dc:language>en-US</dc:language>
  <cp:lastModifiedBy>walkole</cp:lastModifiedBy>
  <dcterms:modified xsi:type="dcterms:W3CDTF">2011-05-24T15:35:26Z</dcterms:modified>
  <cp:revision>161</cp:revision>
  <dc:subject/>
  <dc:title>PRIVACY ACT 101 Privacy Awareness Training American Society of Access Professionals FOIA/Privacy Act Training Workshop</dc:title>
</cp:coreProperties>
</file>