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3731-7129-425A-B1BB-D8355DABC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42D-A8B8-46CF-B8DC-6F2127BE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C1C1-D3D5-4C9A-BE27-5A72CB70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304560" y="4416120"/>
            <a:ext cx="647676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51920" y="426708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E683-1518-4958-95A4-AFC227206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-360" y="4190760"/>
            <a:ext cx="70102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304B-4ACB-4DC6-9E84-FC2BE5609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51920" y="426708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6D08-3447-471E-8308-6BA35BEA9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0EEE-F843-4F75-8082-469A6794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AF36-BB5C-4EBA-A283-00A1C7877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28BD-7DDC-4B06-9012-A57526D8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0EEE-66E1-433A-A37D-B5DEE7BA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2E8C-7A0D-4DB2-86AD-974CA0CF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6C9-893C-455B-83DA-BA0D6912D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FDB6-A297-428D-87CF-3C3C65056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7BF2-B9BE-4775-B914-665DE3DDD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EF7C-71A1-44C5-B180-DDE9D920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2386-A08D-4739-9379-48D73C2E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2FA7-A69B-4C81-BA86-EAD3B8449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8E52-E9F5-4E22-82ED-5CE8AE8C4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023A-F590-480B-B25A-A76C23E3A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BA0F-472E-4301-AE8E-191CE1E97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95F-79EF-4CD0-AD3A-EE212C01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BA8E-0AE1-439E-9A40-D1862072B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13EE-B4FC-47D4-9B8F-0B7EB9C05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069C-2070-408A-BE94-EEABFF1D0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98A8-3081-4929-A3E2-7D3A274C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ED43-15A2-4D69-BE2E-C6C0A113C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5B2B-B42E-4EAC-BC31-DF1507FB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E20C-4364-4B02-8D74-5651E05F0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3D36-C166-40C3-AFF6-A82900624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2CCF-F764-47AE-A851-B7F221103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C063-B294-4087-91F1-E27022529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228240" y="4416480"/>
            <a:ext cx="6553080" cy="46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3649-FE81-47CD-B765-F23CBF44D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228240" y="4416480"/>
            <a:ext cx="6553080" cy="46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9CEA-5D91-42C3-AB13-C0C4483D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40DD-3B35-4C7F-9B2B-DDD5F664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A0C2-1C4F-4E13-8094-2D2DB5E01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1841-80CE-4E82-8082-88F5035DE04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BBF15-C52B-4AC7-AE48-A36953F4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11B0D-55AE-41ED-B1BA-6D466F85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B88C6-8F00-4E64-AF3C-6BAD09E5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D3616-90D2-467E-95EB-DF628400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ED5D5-D01A-4558-8139-478524CD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5805-C685-4E35-958F-E0737611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C31D2-FB1F-427D-9918-E733E3DC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5B609-3DED-4202-9DDD-D315828B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58AB8-8157-44B1-982A-588BD109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FDEEA-1770-4899-872A-02A836B1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13BA-2905-4354-92FA-E5D9D516B6C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7D9BC-19A0-40B0-A448-7F70CAD3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B66D6-87B6-4462-AC05-DCC83C1E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7700F-2297-4D8F-AA27-2410004B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CCDD3-A37D-49DD-9DE5-BBB22AB6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1A434-5D19-4652-BAEF-F9054839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E53E0-3AF9-4207-B6DE-DA2EC678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FF083-3271-4B70-9270-CABBEBF0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8F018-6FB4-43B2-8449-DA165F85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49270-520F-4C93-B815-B5637230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A99EA-536D-4629-839F-B1C3DC1B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2582-116A-4467-93F2-FFE2719EA83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64DB-38CD-429B-AC25-131A1B1B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80A73-457C-45B8-A115-0B70D5D1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E9703-E94E-4DD7-893A-258020F8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A6F8A-3DD1-4413-B0C1-61D00043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3DFC0-D3D1-484C-9183-C4213E56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CBAEF-A25E-4E4E-87F7-2FF4F1FC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ABB99-47AA-4454-9395-7487785A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C278E-528D-4D52-BDC2-1B0B319F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0E058-12D6-4C4A-AC64-1574AC4E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DC838-230C-4449-B95E-6CA0446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713C-0DE1-48E8-9173-1C2B4D5A97F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5919E-E983-4D00-9A68-B5FA45C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7C26F-CD1E-4CB4-AAEC-829D097C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388B1-FFED-45E9-8894-02D6BA13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3F108-3A1C-4FD4-98AA-81E598AD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84C2F-EBC0-4210-8977-38607F9A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DAABA-9E7C-436C-AE22-D029513B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5FB85-898E-43ED-9F90-35AF06F4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E265A-E39E-4006-9824-A57C676C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ACF05-C25C-4BDB-8BC4-2A5F965B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4B364-AABF-4408-9972-529C89A8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82E3-AEA2-4E90-A740-C23511B5EC2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1CF20-1222-4ACF-BEBB-575B8C47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D2CA0-CCD1-4545-B1A2-747F4554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D763E-3F1A-43F5-98FB-B009D63D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934C0-4074-47BC-B355-DEB82A1D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6B07A-A292-489A-BFE8-0E11576C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1EDA6-B3A7-4FCA-8022-60299327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54256-766C-4464-89C8-C53EDB49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D097E-6354-47D8-8A48-88A3B013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523C1-DD62-4EDA-A3AF-D35C6CE9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8C2AB-FACC-4C5F-B60E-82D911B4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B35E-2C63-442F-84BD-4B11B432E7D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3E89F-737D-4396-A3FE-759056A5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3BE2C-CA89-4806-B869-92619D0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BAE1B-F4E6-47DC-A360-0E1F9E7F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5816E-F7D9-4972-8442-64929FD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B1A9D-7D03-447A-A557-72B9BE2A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EB976-0D6D-4987-B03A-95A30086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B9A81-6922-427C-941A-FB5B3312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4400-33C2-4D85-AF21-F462B988BD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0B02-07E8-44D8-832E-5B009AD369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1085-162A-46AD-A4F9-2D6BD438E9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1281-AD1B-4DC0-BC02-ECF50833D3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5B40-417B-48BB-AF33-F31763727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E74D-974D-406C-8896-E0EA046BAB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4800-CDFA-48AA-9204-FFA6069C42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75FF-A319-4BE6-B4B2-4F9ED3167B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055B8-933F-43A4-9964-1ADB638C1B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BFFD-D975-4246-9EE4-A1E93B3D71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D5455-754A-485E-9BF2-A78CE26B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1B030-37BA-44F5-AB81-255B7068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86FEE-CD4C-4C8B-BB4B-86706B3A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E2729-8807-40FA-AB68-CA6986C9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DF531-511B-478F-B57E-412F1122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D93B-C4FD-42F9-BC6C-7D21818565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2EFF8-4677-4013-8151-C3D11B9D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A4007-082A-49E9-A5C1-A6000905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24165-4513-4B90-8283-2F72220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50F9F-5449-46A4-9232-F845CD64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E7277-6419-4E81-B1F3-423EB5AE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A45CC-84E0-407A-B805-6F009548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E2A62-AE8C-48EF-96BA-4DC81113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B85E-18AA-41FA-94EE-9B6D28C4FF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828C-F812-40F7-94D4-BB632DC50F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603C-6B09-463E-8397-95726B7FE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3B63-B103-4DB0-92D4-478179FD76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825B-3372-4DCB-98E5-33EB3C9305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6F14-AC00-424B-9426-B9A07EFE85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7033-286B-4960-B5BE-D924959818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C233-6CF6-4662-AB40-893D739910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C4A7-8607-4F5F-B7DC-E280EEE8AB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F4A4-ACDC-4C86-B669-FEAD6EABFE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47B0-E508-428B-A674-178C961EE9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2A8A-3A19-48C5-A9A2-31965CD7BE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8F90-7D5E-464D-B9F8-95EFC4025F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4FD2-4F73-4170-9DE0-8B95A682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EAAA-716A-47A2-96BA-AED41E8A5DD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80B7-CA3F-402F-8512-A9DA024B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2FB4-8634-4950-BDFB-A3A9FA61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648CF-9D66-4BDB-A645-5D9940F2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925E-3098-40BE-8434-4D9F0104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9C98-E0E6-407C-A763-1D3E6540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A693-8A03-4BA4-9915-6A514C3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84FEF-F264-43CC-9B5A-D0893113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9523-D593-4DB5-9256-73F20D2B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3EAE-9B56-4EF5-AB35-1161ADFB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DCE30-923C-47AB-AFF2-B5333132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60A9-85BB-4F42-8A14-D65563E8C82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7DCB-F2CE-4930-BC49-4F5C5805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74BD5-9637-4212-8991-2D9FD582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63829-CB66-4F8B-92BB-4C40C49C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1E02A-C19D-432C-A632-9619C241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7B3D4-0A7F-4936-B193-6D1C5208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25AD9-9CBC-43BB-B562-BB6109D5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79637-52B2-4A5B-8ECF-D2C28ABA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CA19-0649-4498-A0AA-BB7EDC64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58A74-9BA2-49B3-940C-E03B4002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9AF30-A1CC-462F-BD00-0E4B60E7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384D-9AD1-424A-BB44-79F3BC9355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0B3C6-9AC9-47E1-AA12-6F811103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38FDA-AEF3-4A89-A8F2-6D4D4D3B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4C7D-7D74-44D5-8CEE-8FF0CDA2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0A9F2-9EBC-4E37-919B-575F0583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57251-B099-4800-ABD2-8943C659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4F9AF-6705-4492-A36E-5AE3BB9E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9A391-B4E5-4F3A-87ED-29B17F03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817E8-16DA-4AAF-9B9B-5A017BB2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315F6-3EF8-4505-A29D-8998C119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4D38E-0DD8-4A9D-89AA-711E2B53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CE87-F7A5-4E54-B2DF-4C524518ED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8128A-ABF4-44AA-B77D-263599B0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88D4A-5A1C-4027-863F-09CF5C1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AAC94-C1FE-40CC-B92F-715B5261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F7EBF-ABFE-4E88-8E1F-126FEFBA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869E8-D5C2-4A88-ACE4-081E1A4E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264F9-8244-44FB-BD49-ABB86536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86197-F197-45FE-BFF0-0D1A8556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9780D-5E93-4885-8871-B28641B2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56317-28F1-4BC9-8C4D-7BA508F2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8C31C-9C6D-4BB4-8934-5E6C4DEF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1E3D-2463-4335-9E30-C6970DC3EA2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C2076-5DB0-4228-B458-43AB9D70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3DA06-57D2-4E5C-96D3-2A7E980A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B15F8-FF2D-447D-9FBA-F3ECA4FC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85437-8E2D-47DF-A300-1B42848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736080"/>
            <a:ext cx="81532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CC0FC-C694-477B-97BA-CA2EE9DE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35360" y="3736080"/>
            <a:ext cx="39787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85340-E4E4-442F-8AAC-BFDE8797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1408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70600" y="3736080"/>
            <a:ext cx="262512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5BB35-1492-4991-AD8B-C196EFA4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B885A-345F-41EF-B797-67A27E84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2880F-D814-4D7E-BBD4-FE6B354F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3577E-1D6A-4C21-AB2D-B6D60633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A625-47AD-4788-B6D7-D0505931C5B8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DCDC-157D-4C5E-BF00-7E3F09589CD9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7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E33-74C3-4105-9E51-56AE714DDE98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90EE-3B9F-4EEF-8B96-DE843B56261F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358E-E22B-4D96-92C2-B4CBA3CC4BD2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DB4B-25FD-4328-99A6-3486AEBAA4B7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Defense Privacy &amp; Civil Liberties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5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2411-6B62-4093-A228-2A5181CDCAF1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6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4388-AA5F-4E6F-B33C-CB6C3B74966A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94F9-351C-4EB8-A857-4E6C00382EA9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8772-C6CD-4AED-9574-AA4A5F47CFAC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C983-3248-42EA-B38E-252EB261F990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76320" y="620244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E229-9739-4C96-9282-3FE8DB50CFD1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7" descr="dpclo_slide_background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2"/>
          <p:cNvSpPr/>
          <p:nvPr/>
        </p:nvSpPr>
        <p:spPr>
          <a:xfrm>
            <a:off x="1108080" y="6167880"/>
            <a:ext cx="68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e4cf"/>
                </a:solidFill>
                <a:latin typeface="Times New Roman"/>
                <a:ea typeface="ＭＳ Ｐゴシック"/>
              </a:rPr>
              <a:t>DEFENSE PRIVACY &amp; CIVIL LIBERTIE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751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3" marL="1279440" indent="-236520">
              <a:spcBef>
                <a:spcPts val="75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4" marL="1488960" indent="-182520">
              <a:spcBef>
                <a:spcPts val="751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b9a98"/>
                </a:solidFill>
                <a:latin typeface="Times New Roman Bol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7094-7CFF-452E-8C6D-9A5F9C30B2B6}" type="slidenum">
              <a:rPr b="0" lang="en-US" sz="800" spc="-1" strike="noStrike">
                <a:solidFill>
                  <a:srgbClr val="9b9a98"/>
                </a:solidFill>
                <a:latin typeface="Times New Roman Bold Ital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cons.iconarchive.com/icons/devcom/medical/128/nurse-icon.pn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icons.iconarchive.com/icons/aha-soft/people/128/boss-icon.png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hyperlink" Target="http://icons.iconarchive.com/icons/aha-soft/people/128/user-icon.png" TargetMode="External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Content Placeholder 5"/>
          <p:cNvSpPr/>
          <p:nvPr/>
        </p:nvSpPr>
        <p:spPr>
          <a:xfrm>
            <a:off x="533520" y="1447920"/>
            <a:ext cx="815328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ivacy Found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ＭＳ Ｐゴシック"/>
              </a:rPr>
              <a:t>Samuel P. Jenk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ＭＳ Ｐゴシック"/>
              </a:rPr>
              <a:t>Director for Priv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ＭＳ Ｐゴシック"/>
              </a:rPr>
              <a:t>Defense Privacy and Civil Liberties O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ty Protection and Management Ex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lando, Flor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ril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e DoD’s responsibility is to balance the government’s need to maintain information about individuals with the rights of individual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8842-E22D-4897-91A4-78D051C155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DoD SSN Use Reduction Plan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E663-6CD9-40D3-B701-779CDA486B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To eliminate, when feasible, the use of Social Security numbers (SSNs)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All uses of SSNs within the DoD, to include DoD data managed or maintained in contactor-owned, -managed, or -operated system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5F89-63E7-4331-BF26-E86C991B6C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xecutive Order 9397 (SSN), as amended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OMB </a:t>
            </a: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Memorandum M-07-16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TM 07-015-USD(P&amp;R)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USD(P&amp;R) Memo, “Updated Plan for the Removal of SSNs from DoD ID Cards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DRAFT USD(P&amp;R) DoDI 1000.hh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82AC-75D6-4FB8-BE8F-CB13588540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USD(P&amp;R) Memo, “Updated Plan for the Removal of SSNs from DoD ID Cards”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3348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DoD ID cards will no longer visibly display SSN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3348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As of May 2011, replaced SSN with the DoD ID Number (formerly known as EDI-PI) and, when applicable, the DoD Benefits Number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33480" indent="-533520">
              <a:lnSpc>
                <a:spcPct val="78000"/>
              </a:lnSpc>
              <a:spcBef>
                <a:spcPts val="11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Beginning 2012, initiate removal of the SSN from the ID cards barcod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AF41-0713-490B-9A52-E96F3D9CD0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DRAFT USD(P&amp;R) DoDI 1000.hh, “Reducing Use of Social Security Numbers (SSNs) Within DoD.”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1476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Each Component required to review systems and forms which collect SSN to determine if continued use is justified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1476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Systems or forms that do not fall under one of the approved 'use cases' will be required to develop and institute a plan to eliminate the use of the SSN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914760" indent="-522720">
              <a:lnSpc>
                <a:spcPct val="78000"/>
              </a:lnSpc>
              <a:spcBef>
                <a:spcPts val="499"/>
              </a:spcBef>
              <a:spcAft>
                <a:spcPts val="601"/>
              </a:spcAft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 Unicode MS"/>
              </a:rPr>
              <a:t>Systems with an approved use case for SSN collection will require a signed memo documenting the requirement for such us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oD SSN Use Reduction Pla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3590-CE33-42EF-990C-6939150EED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Health Insurance Portability and Accountability Act (HIPAA)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ublic Law 104-91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04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4AF2-C7E3-4A7E-85E0-F688377571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Improve the efficiency and effectiveness of the health care system by standardizing the electronic exchange of administrative and financial data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06440" indent="-37116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Covered entities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06440" indent="-37116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HIPAA defines a covered entity as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00200" indent="-264600">
              <a:spcBef>
                <a:spcPts val="64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 health care provider that conducts certain transactions in electronic form;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00200" indent="-264600">
              <a:spcBef>
                <a:spcPts val="64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 health care clearinghouse; or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00200" indent="-264600">
              <a:spcBef>
                <a:spcPts val="64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 health plan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064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66F1-E20D-49B6-9E79-AA53462DDB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HIPAA Privacy Rule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stablishes national standards to protect individuals’ medical records and other PHI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6025.18-R, “DoD Health Information Privacy Regulation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AC73-9B3C-4753-95EE-8FC505045AC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Bold Italic"/>
              </a:rPr>
              <a:t>HIPAA Security Rule.</a:t>
            </a: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Bold Italic"/>
              </a:rPr>
              <a:t>Establishes national standards to protect individuals’ electronic personal health information (ePHI) that is created, received, used, or maintained by a covered entity.</a:t>
            </a:r>
            <a:endParaRPr b="1" lang="en-US" sz="2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Bold Italic"/>
              </a:rPr>
              <a:t>DoD 8580.02-R, “DoD Health Information Security Regulation.”</a:t>
            </a:r>
            <a:endParaRPr b="1" lang="en-US" sz="2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35D8-A372-4BB2-9856-7F0FC80E03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Bold Italic"/>
              </a:rPr>
              <a:t>The purpose of this presentation is to provide an overview of relevant Federal Privacy laws and DoD regulations.</a:t>
            </a: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550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649"/>
              </a:spcBef>
              <a:buNone/>
              <a:tabLst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A5E5-B7A5-4CBB-A463-8AB92198D3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otected Health Information (PHI) is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ndividually identifiable health information which is a subset of PII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Created, received, or maintained by a covered entit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Transmitted or maintained by electronic or any other form or medium, except as otherwise contained in employment record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E502-483B-45C5-9FA6-62B771725E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PA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Picture 2" descr="http://icons.iconarchive.com/icons/devcom/medical/128/nurse-ico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42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http://icons.iconarchive.com/icons/dimension-of-deskmod/city/128/Umbrella-icon.png"/>
          <p:cNvPicPr/>
          <p:nvPr/>
        </p:nvPicPr>
        <p:blipFill>
          <a:blip r:embed="rId3"/>
          <a:stretch/>
        </p:blipFill>
        <p:spPr>
          <a:xfrm rot="1800000">
            <a:off x="2771280" y="1095480"/>
            <a:ext cx="3454560" cy="3454200"/>
          </a:xfrm>
          <a:prstGeom prst="rect">
            <a:avLst/>
          </a:prstGeom>
          <a:ln w="0">
            <a:noFill/>
          </a:ln>
        </p:spPr>
      </p:pic>
      <p:sp>
        <p:nvSpPr>
          <p:cNvPr id="620" name="TextBox 9"/>
          <p:cNvSpPr/>
          <p:nvPr/>
        </p:nvSpPr>
        <p:spPr>
          <a:xfrm rot="21091800">
            <a:off x="4019400" y="4383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Q.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0"/>
          <p:cNvSpPr/>
          <p:nvPr/>
        </p:nvSpPr>
        <p:spPr>
          <a:xfrm rot="20248200">
            <a:off x="676080" y="4406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http://icons.iconarchive.com/icons/aha-soft/people/128/boss-icon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3520" y="35053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12"/>
          <p:cNvSpPr/>
          <p:nvPr/>
        </p:nvSpPr>
        <p:spPr>
          <a:xfrm rot="20795400">
            <a:off x="6995520" y="3986280"/>
            <a:ext cx="22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Rectangle 14" descr=""/>
          <p:cNvPicPr/>
          <p:nvPr/>
        </p:nvPicPr>
        <p:blipFill>
          <a:blip r:embed="rId6"/>
          <a:stretch/>
        </p:blipFill>
        <p:spPr>
          <a:xfrm>
            <a:off x="590400" y="2762280"/>
            <a:ext cx="3616560" cy="712800"/>
          </a:xfrm>
          <a:prstGeom prst="rect">
            <a:avLst/>
          </a:prstGeom>
          <a:ln w="0">
            <a:noFill/>
          </a:ln>
        </p:spPr>
      </p:pic>
      <p:pic>
        <p:nvPicPr>
          <p:cNvPr id="625" name="Rectangle 15" descr=""/>
          <p:cNvPicPr/>
          <p:nvPr/>
        </p:nvPicPr>
        <p:blipFill>
          <a:blip r:embed="rId7"/>
          <a:stretch/>
        </p:blipFill>
        <p:spPr>
          <a:xfrm>
            <a:off x="2494080" y="1133640"/>
            <a:ext cx="4230720" cy="71424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16" descr=""/>
          <p:cNvPicPr/>
          <p:nvPr/>
        </p:nvPicPr>
        <p:blipFill>
          <a:blip r:embed="rId8"/>
          <a:stretch/>
        </p:blipFill>
        <p:spPr>
          <a:xfrm>
            <a:off x="5010120" y="2809800"/>
            <a:ext cx="4067280" cy="714600"/>
          </a:xfrm>
          <a:prstGeom prst="rect">
            <a:avLst/>
          </a:prstGeom>
          <a:ln w="0">
            <a:noFill/>
          </a:ln>
        </p:spPr>
      </p:pic>
      <p:pic>
        <p:nvPicPr>
          <p:cNvPr id="627" name="Rectangle 17" descr=""/>
          <p:cNvPicPr/>
          <p:nvPr/>
        </p:nvPicPr>
        <p:blipFill>
          <a:blip r:embed="rId9"/>
          <a:stretch/>
        </p:blipFill>
        <p:spPr>
          <a:xfrm>
            <a:off x="285840" y="4943520"/>
            <a:ext cx="4219560" cy="714240"/>
          </a:xfrm>
          <a:prstGeom prst="rect">
            <a:avLst/>
          </a:prstGeom>
          <a:ln w="0">
            <a:noFill/>
          </a:ln>
        </p:spPr>
      </p:pic>
      <p:pic>
        <p:nvPicPr>
          <p:cNvPr id="628" name="Rectangle 18" descr=""/>
          <p:cNvPicPr/>
          <p:nvPr/>
        </p:nvPicPr>
        <p:blipFill>
          <a:blip r:embed="rId10"/>
          <a:stretch/>
        </p:blipFill>
        <p:spPr>
          <a:xfrm>
            <a:off x="5237280" y="4943520"/>
            <a:ext cx="3614760" cy="7142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http://icons.iconarchive.com/icons/aha-soft/people/128/user-icon.p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2695680"/>
            <a:ext cx="1839960" cy="1839960"/>
          </a:xfrm>
          <a:prstGeom prst="rect">
            <a:avLst/>
          </a:prstGeom>
          <a:ln w="0">
            <a:noFill/>
          </a:ln>
        </p:spPr>
      </p:pic>
      <p:pic>
        <p:nvPicPr>
          <p:cNvPr id="630" name="Straight Arrow Connector 24" descr=""/>
          <p:cNvPicPr/>
          <p:nvPr/>
        </p:nvPicPr>
        <p:blipFill>
          <a:blip r:embed="rId13"/>
          <a:stretch/>
        </p:blipFill>
        <p:spPr>
          <a:xfrm>
            <a:off x="2498760" y="3638520"/>
            <a:ext cx="1414440" cy="878040"/>
          </a:xfrm>
          <a:prstGeom prst="rect">
            <a:avLst/>
          </a:prstGeom>
          <a:ln w="0">
            <a:noFill/>
          </a:ln>
        </p:spPr>
      </p:pic>
      <p:pic>
        <p:nvPicPr>
          <p:cNvPr id="631" name="Straight Arrow Connector 29" descr=""/>
          <p:cNvPicPr/>
          <p:nvPr/>
        </p:nvPicPr>
        <p:blipFill>
          <a:blip r:embed="rId14"/>
          <a:stretch/>
        </p:blipFill>
        <p:spPr>
          <a:xfrm>
            <a:off x="5162400" y="3718080"/>
            <a:ext cx="1262160" cy="804600"/>
          </a:xfrm>
          <a:prstGeom prst="rect">
            <a:avLst/>
          </a:prstGeom>
          <a:ln w="0">
            <a:noFill/>
          </a:ln>
        </p:spPr>
      </p:pic>
      <p:pic>
        <p:nvPicPr>
          <p:cNvPr id="632" name="Straight Arrow Connector 32" descr=""/>
          <p:cNvPicPr/>
          <p:nvPr/>
        </p:nvPicPr>
        <p:blipFill>
          <a:blip r:embed="rId15"/>
          <a:stretch/>
        </p:blipFill>
        <p:spPr>
          <a:xfrm>
            <a:off x="2876400" y="4705200"/>
            <a:ext cx="3395880" cy="347760"/>
          </a:xfrm>
          <a:prstGeom prst="rect">
            <a:avLst/>
          </a:prstGeom>
          <a:ln w="0">
            <a:noFill/>
          </a:ln>
        </p:spPr>
      </p:pic>
      <p:sp>
        <p:nvSpPr>
          <p:cNvPr id="63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8019-0677-40F2-B808-ADAB5B4C3B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Freedom of Information Act (FOIA)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5 USC 552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FF0B-AA9A-42C7-9DAE-0827924F73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I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Inform the public of information while appropriately protecting government interest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Executive branch government agencie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D 5400.7, “DoD Freedom of Information Act (FOIA) Program.” 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5400.7-R, “DoD Freedom of Information Act Program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38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F55A-BE12-46C1-8F5F-6245F2D685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I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ovides individuals with access to many types of records that are exempt from access under the Privacy Act. 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Unlike those of the Privacy Act, FOIA procedures are available to non-resident foreign national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2FB2-3290-4281-9332-6A87E55155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E-Government Act of 2002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ublic Law 107-347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4513-281F-426B-857C-24D85358AD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Improve internet-based technology to make it easier for citizens and businesses to interact with the government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All executive branch departments and Federal agencie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8F27-FC13-4870-8D1A-2E7C1D1A9C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otects PII agencies collect, use, maintain, or disseminate within information technology system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OMB and DoD Annual FISMA Guid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CIO Memorandum, DoD Privacy Impact Assessment (PIA) Guid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4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E8BB-8C2F-48FC-A4DF-E3CCD5E6A5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FISMA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Federal Information Security Management Act (FISMA) provides a framework to ensuring effectiveness of information security controls for Federal system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Directive 8500.1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Instruction 8500.2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Annual FISMA Guid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52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45C4-1E09-4059-9C30-751669DAA1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FISM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Federal government agencies’ information system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nformation systems operated by contractors on behalf of federal agencie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t protects: 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Federal information systems and related resource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5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FD95-363A-4C09-86E7-7F0F8B644D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Upon completion of this presentation, you should be able to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xplain the basic concepts of information privac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escribe key elements of foundational privacy laws and regulation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Explain how privacy laws and regulations interrelat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67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E9B0-B8FA-41DD-B4DA-317FE6FD11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FISM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447560"/>
            <a:ext cx="8153280" cy="40892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untitled"/>
          <p:cNvPicPr/>
          <p:nvPr/>
        </p:nvPicPr>
        <p:blipFill>
          <a:blip r:embed="rId2"/>
          <a:stretch/>
        </p:blipFill>
        <p:spPr>
          <a:xfrm>
            <a:off x="304920" y="1219320"/>
            <a:ext cx="8534160" cy="4419360"/>
          </a:xfrm>
          <a:prstGeom prst="rect">
            <a:avLst/>
          </a:prstGeom>
          <a:ln w="0">
            <a:noFill/>
          </a:ln>
        </p:spPr>
      </p:pic>
      <p:sp>
        <p:nvSpPr>
          <p:cNvPr id="659" name="TextBox 5"/>
          <p:cNvSpPr/>
          <p:nvPr/>
        </p:nvSpPr>
        <p:spPr>
          <a:xfrm>
            <a:off x="990720" y="5526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</a:rPr>
              <a:t>From Report GAO-07-837 INFORMATION SECURITY, “Despite Reported Progress, Federal Agencies Need to Address Persistent Weaknesses ,“ July 200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8E4A-FD9F-4D9B-A534-98508B4483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Government Act - PI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rivacy Impact Assessments (PIA)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n analysis of systems to identify privacy risks associated with the use of PII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eb-page privacy policy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Must include a machine-readable privacy polic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Must be consistent with the Privacy Act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Instruction 5400.16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DA38-557E-43E4-916B-16A224FBF0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aperwork Reduction Act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Public Law 104-13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CA95-5AF1-4EC6-8FD6-237B797576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perwork Reduction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Reduce the total amount of paperwork handled by the federal government and general public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Maximize utility of information 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gencies must ensure disclosure policies will honor any claims of confidentiality on forms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DD11-C2C7-49BA-9D2B-07641BC286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perwork Reduction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4886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t protects:  Information created, collected, maintained, used, disseminated, or disposed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601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8910.1-M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086F-E933-4A36-962C-4B0952476F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Records Management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36 CFR, Chapter 12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4BFB-7F92-4B3D-9D8C-E6E712DBF0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rds Managemen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Purpose:  Supports the creation, maintenance and use, and disposition of records in order to document federal policies, operations, and transactions appropriately and economically.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8268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Bold Italic"/>
              </a:rPr>
              <a:t>DoD WHS Administrative Instruction 15.</a:t>
            </a:r>
            <a:endParaRPr b="1" lang="en-US" sz="28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58C9-90B9-4661-BB68-27F23013D8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ords Managemen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cability:  Federal agencies and Executive branch of the U.S. Government. 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t protects:  All information, related to an agency’s business transaction, that is created, used, maintained, disseminated, or disposed of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7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5082-7B6C-482A-88D1-26C4120C6D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Integrating Different Laws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5399-4613-4F4C-B4FE-5F55EBCA3C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868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grating Different Law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spcBef>
                <a:spcPts val="1874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e challenge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Laws with various purposes often govern the same data at different points in the systems development life cycl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7800" indent="-363240">
              <a:spcBef>
                <a:spcPts val="1874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The solution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Focus on the FIPP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Comply with Federal law and DoD Polic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85800" indent="-25920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Consult your Privacy Office at the beginning of the SDLC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780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780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84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ACC4-4355-4332-9DC8-A9A4CE6D35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The Privacy Act of 1974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Bold Italic"/>
              </a:rPr>
              <a:t>5 USC 522a</a:t>
            </a:r>
            <a:endParaRPr b="1" lang="en-US" sz="44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879F-1964-4A81-98CD-1A2AA40AD0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76276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You should now be able to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State the purpose of each law, who it applies to, and what it protects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Recognize that laws create standards and mandate compliance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dentify how different laws relate to one another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-25632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iscuss the FIPPs as it relates to the Defense Privacy Program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6786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3938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687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4CB1-00A3-4F22-92F1-72A0B9AE2B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380880" y="121932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Paperwork Reduction Act, Public Law 104-13, May 22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8910.1-M, DoD Procedures for Management of Information Requirements, June 30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Freedom of Information Act (FOIA),  Public Law 89-554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July 4, 19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5400.7, DoD Freedom of Information (FOIA) Act Program, October 28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5400.7-R, DoD Freedom of Information Act Program, September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The Privacy Act of 1974, Public Law 93-579, December 31, 19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AFE2-7EA9-46BB-8623-600C17A0A8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Resource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45720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5400.11, DoD Privacy Program, May 8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5400.11-R, DoD Privacy Program, May 14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Health Insurance Portability and Accountability Act of 1996, Public Law 104-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6025.18-R, DoD Health Information Privacy Regulation, January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8580.02-R, DoD Health Information Security Regulation, July 12, 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E-Government Act of 2002, Public Law 107-3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Federal Information Security Management Act (FISMA)              of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A04D-5B7F-4757-963F-188265A0F9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continued)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380880" y="1219320"/>
            <a:ext cx="8763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and OMB Annual FISMA Gui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8500.1, Information Assurance, October 24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I 8500.2, Information Assurance Implementation, February 6,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 CIO Memorandum, DoD Privacy Impact Assessment (PIA) Guidance, October 28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Office of Management and Budget Circular No. A-130, Revised, Management of Federal Information Resources, November 28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oDD 5015.2, DoD Records Management Program, March 6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102E-B824-4145-9742-976D598671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"/>
          <p:cNvGraphicFramePr/>
          <p:nvPr/>
        </p:nvGraphicFramePr>
        <p:xfrm>
          <a:off x="533520" y="1447920"/>
          <a:ext cx="8076960" cy="4155840"/>
        </p:xfrm>
        <a:graphic>
          <a:graphicData uri="http://schemas.openxmlformats.org/drawingml/2006/table">
            <a:tbl>
              <a:tblPr/>
              <a:tblGrid>
                <a:gridCol w="2307960"/>
                <a:gridCol w="5769000"/>
              </a:tblGrid>
              <a:tr h="598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 Information Practice Principles (FIPPs)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ce/Aware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no personal data record keeping systems whose very existence is kept secr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ce/Con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a way for an individual to find out what information is in their file and how it is being us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/Partici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a way for an individual to correct information in his or her rec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ty/Sec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organization creating, maintaining, using or dissemination personally identifiable information must ensure the reliability of the data for its intended use and must take precautions to prevent misu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orcement/Re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must be a way for an individual to prevent personal information obtained for one purpose from being used for another purpose without his or her cons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848d"/>
                      </a:solidFill>
                    </a:lnL>
                    <a:lnR w="5760">
                      <a:solidFill>
                        <a:srgbClr val="7e848d"/>
                      </a:solidFill>
                    </a:lnR>
                    <a:lnT w="5760">
                      <a:solidFill>
                        <a:srgbClr val="7e848d"/>
                      </a:solidFill>
                    </a:lnT>
                    <a:lnB w="5760">
                      <a:solidFill>
                        <a:srgbClr val="7e848d"/>
                      </a:solidFill>
                    </a:lnB>
                    <a:solidFill>
                      <a:srgbClr val="ecedee"/>
                    </a:solidFill>
                  </a:tcPr>
                </a:tc>
              </a:tr>
            </a:tbl>
          </a:graphicData>
        </a:graphic>
      </p:graphicFrame>
      <p:sp>
        <p:nvSpPr>
          <p:cNvPr id="571" name="Text Box 26"/>
          <p:cNvSpPr/>
          <p:nvPr/>
        </p:nvSpPr>
        <p:spPr>
          <a:xfrm>
            <a:off x="636840" y="5715000"/>
            <a:ext cx="472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NIST Guide to Protecting the Confidentiality of (PII) (NIST SP 800-122, 4/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CB47-1CB7-4FDE-8B13-66D3805CF0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 code of fair information practices which mandates how Government agencies shall collect, maintain, use, and disseminate  personally identifiable information (PII) about individuals that is maintained in systems of records (SOR)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7E5E-DD51-4F7F-B6FE-23E085A4BD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Applies to: Executive Branch Agencies.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Implemented by: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D 5400.11, “DoD Privacy Program.”  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624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DoD 5400.11-R, “DoD Privacy Program.”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79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EBC4-C637-4000-93EC-BD2D0D5732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</a:rPr>
              <a:t>What is PII?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Information which can be used to distinguish or trace an individual’s identity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2" marL="1004760" indent="-255600">
              <a:spcBef>
                <a:spcPts val="1199"/>
              </a:spcBef>
              <a:buClr>
                <a:srgbClr val="800000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Bold Italic"/>
              </a:rPr>
              <a:t>Including name, social security number, date and place of birth, mother’s maiden name, biometric information.</a:t>
            </a:r>
            <a:endParaRPr b="1" lang="en-US" sz="24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</a:rPr>
              <a:t>Any other personal information which is linked or linkable to a specified individual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D526-D8E3-4564-AF89-B621C8CAC8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Privacy Ac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What is a Record?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A collection or grouping of information about an individual that is maintained by a DoD Component.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marL="419040" indent="-382680">
              <a:spcBef>
                <a:spcPts val="1199"/>
              </a:spcBef>
              <a:buClr>
                <a:srgbClr val="8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What is a SOR?</a:t>
            </a:r>
            <a:endParaRPr b="1" lang="en-US" sz="30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spcBef>
                <a:spcPts val="1199"/>
              </a:spcBef>
              <a:buClr>
                <a:srgbClr val="8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A group of records which are under the control of a DoD Component that are 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etrieved</a:t>
            </a:r>
            <a:r>
              <a:rPr b="1" lang="en-US" sz="2600" spc="-1" strike="noStrike">
                <a:solidFill>
                  <a:srgbClr val="000000"/>
                </a:solidFill>
                <a:latin typeface="Times New Roman Bold Italic"/>
                <a:ea typeface="Arial"/>
              </a:rPr>
              <a:t> by name, SSN, or other personal identifier</a:t>
            </a: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  <a:p>
            <a:pPr lvl="1" marL="72216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 Bold Italic"/>
            </a:endParaRPr>
          </a:p>
        </p:txBody>
      </p:sp>
      <p:sp>
        <p:nvSpPr>
          <p:cNvPr id="585" name="TextBox 4"/>
          <p:cNvSpPr/>
          <p:nvPr/>
        </p:nvSpPr>
        <p:spPr>
          <a:xfrm>
            <a:off x="2286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6C84-8AAC-456E-A603-6F1CC882BB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6:36:44Z</dcterms:created>
  <dc:creator>colejk</dc:creator>
  <dc:description/>
  <dc:language>en-US</dc:language>
  <cp:lastModifiedBy>walkole</cp:lastModifiedBy>
  <dcterms:modified xsi:type="dcterms:W3CDTF">2011-05-25T17:30:14Z</dcterms:modified>
  <cp:revision>337</cp:revision>
  <dc:subject/>
  <dc:title>Slide 1</dc:title>
</cp:coreProperties>
</file>