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BDC-75A7-4F17-9036-B042B078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275A-23AC-41BB-8D5D-943916ACD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7A92-7EB5-46FE-A943-F760B388C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304560" y="4416120"/>
            <a:ext cx="647676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51920" y="426708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A293-42B4-4927-AEB2-AB5EC9890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-360" y="4190760"/>
            <a:ext cx="7010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F7DE-5732-4406-B10D-8522E523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51920" y="426708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32A1-4B5D-45EA-8D3A-D9D767A9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2B12-0CC1-4729-8E0D-1700AFD0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A292-76E3-4E94-8949-E1E8D524F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DE15-4C0E-4818-A9BC-3240E519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A4C4-E2CF-4A91-AC7A-FBDA491A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8CAA-9E5C-4505-B281-043786A5B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76BA-20CD-46F3-B1B6-2FF57489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E549-ADB0-484C-9FC2-FC9D17EB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48AA-8C40-40F3-81AB-C14EBEB4D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4249-E35E-4702-BFA2-3060BC00D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6676-EA1A-4C90-9D22-8DE1460CF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7C92-127D-4A7B-A8E2-D2EFF504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7F95-2CB9-4B94-B515-939A832D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21C7-6C6D-4E6E-BC67-3252CFDF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AA36-213F-4B29-A19E-B634B61F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540A-1B50-4241-AA39-3798E6385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2168-453A-4A79-9730-098B2E8D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DAB6-F707-41A2-893A-F718C2BC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F32E-228C-4101-8CCC-A6314959F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7E0-A7C1-4637-B378-94CEE1F27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8751-572C-4C4A-B627-6D4AD027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F362-A4C9-46BE-8D4A-78A80C4B2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A0CB-5AF5-4385-B588-601BD0BB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E1B5-4B43-4FA7-86C9-44C375CE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183F-D3EC-4138-8AD0-74757192A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EC11-9E8C-4756-9032-8DEB8F0D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228240" y="4416480"/>
            <a:ext cx="655308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AD4-4598-472C-8690-A39279DE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228240" y="4416480"/>
            <a:ext cx="655308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4795-4818-44B7-8A2E-7FBA318A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332C-466A-4E35-BE59-0092EDD7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82C7-D6CE-4C3D-A8B1-0B2BF826A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B4CB-5D3D-4302-B3D7-0BA51624466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97A2-48AB-4141-8DB5-76989BC4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3FEA3-D582-4DB8-A80C-8C1CA73B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1961E-2C26-4C11-AA95-055188B0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30D4D-004F-4A43-B1B3-C139563E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DC0BD-34C0-4023-ADEE-2214F039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2FE9B-C384-48FB-AC6A-70DA1F06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D82E1-F25B-426D-90E3-F0240CF4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EFF20-3D9C-4AEA-BFA6-431384DD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32FB0-9AC6-494D-9D62-AC7FCDDB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CC4CF-CE42-4D2B-989A-CA7BE381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940E-0EB3-4FFF-B03D-C5462502C82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3AD39-F5EE-4763-9BAE-2EB19A9C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CE48-BCC4-41F9-91E1-ACFA31EA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9ADA4-9FDF-432C-AB07-0EC525CB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891F-1F80-45D1-B4A9-6374F85A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2A8F5-A6C9-4EA5-959B-54AA9B9B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7DB33-4AAB-42BD-9477-3F52A4DB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0AB9E-B37C-49BA-970F-407EB34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9B105-C929-4311-B825-B44D93AC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0EC27-5106-42D0-8497-024763C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20894-F1A2-4D53-853B-951F06D7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9940-DCE3-44CB-817C-016E9FC0AB1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69380-2AB1-4A73-83D5-D624A12E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2BD0B-433F-4070-B6F5-510A2B1A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1007A-E9EC-4BBA-939F-3F476D72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9C15C-9D26-43FD-8F0A-0A86FFC2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D72B7-DAF8-4E90-89BB-8E9155C6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06DA6-994E-413E-9678-9C45027A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99168-DB95-4705-BD86-AF92722C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0DE45-CB4A-4EFC-81AC-77EAE465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C61F1-6E15-4159-BCCA-172F27A8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E97A5-F680-47D6-A83F-68C75D5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293A-EDCB-4018-8769-11D4E22258D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C966A-E6B4-4CDF-ADBA-8172324A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5D645-06C2-456E-9C54-458CC3CC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E7079-19C2-4BBF-8095-66D567C2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5A71B-2AE4-4CD2-9C36-B9E04ED8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4629E-B1DC-40E4-ACF9-D2C6D214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69063-066A-485F-89BA-54BFC361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D895E-860E-4A2A-84DD-DAD946FA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1BDCD-1DD5-424A-B818-F62CD48E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84BD3-181D-4ECC-BFB3-6B7402E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327EA-490B-47BA-B77C-7A5F782F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E85B-2F97-4EE4-958E-59A84B00DF4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56D08-18E2-484C-A9F9-7042217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28B96-D126-4517-8C5A-FCF6BF7C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40BD3-67C2-47EB-975D-D03E1396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3A4A6-28B9-45E5-815F-E1514BAA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82F1D-7E7F-4CC4-955B-52D0800C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A20BA-8108-44D9-B1B2-2F74976B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F5682-E56D-4285-A5FC-FB205A11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F2BED-3A5F-4867-9BD8-863E3412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B926F-4710-434E-B54A-6B7B1C47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A028D-02AB-472B-AB7E-07A8DFAF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9D30-9336-4EAA-AEC8-3D4784A397C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9415A-D935-4526-A314-E82E706B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62810-73CE-4083-A5CB-C28A6B3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9A09D-4A00-4931-81E5-67FED692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17019-FBD2-4A21-B456-99BAB089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ED2A1-5CE5-408F-A136-925379E1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93063-CDB6-40CD-B9C4-84A0E3FE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C6209-6FDA-44F1-A852-65DC3BA9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3154-C717-438D-99F2-CC322BF7D7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1940-2615-48CA-9CE1-9862F792FA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5228-5A45-426B-B69F-F98886EA87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F379-3C89-4014-9212-BFE5BCEB4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BD39-5E4F-42B0-B4B8-5CE15045B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13F5-9B2C-4BA3-9727-B4B708F734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7A92-EC03-486E-80D4-91838E3E92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719A-6849-4E78-9F78-4F67F9D068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75B0-F6CD-4C86-8D09-5CE568BD5A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7941-186A-4392-892E-A9D360EAB0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BAC62-7F1A-4FA1-BAA7-ADA46E47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901C-3876-4111-9FB5-AD571AD6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31341-72E5-4742-B63A-8FD45732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F3664-B3FF-4029-B0EC-7FEAD75E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EEEC0-A9EF-4378-914E-51B5868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D376-8D88-4B39-9181-54267AA333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0B1AD-C268-4F59-B146-8DB0DB64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1F92F-CA45-4066-90EE-F8C388FA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D1CE4-F7A3-44FC-B381-3B390A5B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8234D-840C-4BB1-9BFF-618BC6D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D0797-0475-4A22-BBCD-D5F9109C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83CFA-0839-4BB2-9D44-C2F55396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C4626-7DC5-4FDD-9F60-91FE25C4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FB20-B764-4E3D-8B5F-BFC6C06002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BA7E-A60B-480E-B2F7-93288BE811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97ED-2400-471E-A10A-F46CB1D64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1808-27FA-4125-9080-D3792656E3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039E-08CA-4E7E-915F-3808C5C70E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DE76-AA49-4335-8877-41C2EB9E20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303E-AAA4-4298-BCDF-B8A07FCE87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60D9-C698-4CE4-BEF6-771EE8829E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970D-94E9-41F3-B702-7017C1806F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F329-4E11-4FEA-8835-9A3CD14061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7745-E13B-41A4-9F73-F1CF663081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1AA0-561F-4D81-B17D-B968C93509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1324-2BC1-4C67-87A3-DBC7D1ED4C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67E2-7900-4E38-A90F-59089DE8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603B-CE94-49C8-9CF5-D59CBFF62F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E2B7-1F82-4D72-8697-27EDA94E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5A40-7B65-4FF6-9934-433CB7B8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A54C-E4B5-447C-BB75-BE73115C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92670-10CC-4B82-8D30-9447023D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497D-986C-4E03-8952-5B85D082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A6A4B-B373-48AD-ACF4-A6B7AE79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EA43-21C4-4C9A-9F41-2648FA23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17919-E5AF-4C10-8793-43CC8B4F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AA41-EA56-4BC7-9994-888BE6B4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5BCFE-9107-488C-B5DD-F3C908E2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9E55-50F9-430D-9552-B88FA7093F1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892B-3FF7-495C-8BBC-DD874E5D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FB44-2C33-44C8-813E-4ECF7713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3A689-70AF-444A-B00B-4F4674E5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A8AC-3E9D-43A9-895C-A9B50A48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98046-C707-4D7A-A0AB-69842FFD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5DDB9-CB82-4818-A019-14B40724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EF43-CFAC-4AFD-A9E0-6CB7A8EC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A0668-804D-40AC-A2AC-832B4F73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5D0B-0018-4AC8-ABB9-81656C8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A7DC-AE79-4694-9BD1-510690BF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5A01-2C3C-47A7-83CF-62B83A5BF6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A60E-ACA5-4658-BCA4-3AB0FE9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A9730-44A1-40CD-A8F4-828E836B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6841-1369-426D-B815-EA7D3976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9B3C8-6285-4199-B5BD-FEC519BF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B028C-1257-4854-95D3-9DF37062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C7D19-DD31-4175-B75D-5CDA8B48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99501-6801-4C87-AE6A-6BBAEA13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24B64-9AD6-4212-9335-6D5ACEC7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1B9FC-6C8C-4B20-BCAC-CEDD2A54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1A515-298A-497F-B282-C2707749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4657-13CE-429A-AD67-8B113B3421E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84E3F-B174-438E-A0F0-F1CDB41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F8B64-D48E-48F2-B887-5F4E8680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EF8BA-E28B-4233-8815-897319D6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B2642-DBAF-4406-8A65-D34264CC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00FB8-B12B-4FAC-A369-9CFC145C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6C97C-530E-4803-B58F-29D89A15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F337-F0BB-49E7-8F6B-3BEAD06F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5AEDB-A120-4000-B8DB-A6583023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B6E45-15C4-4864-9CC0-87559F9F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27DB3-AF03-451A-8912-0FB3A222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9E66-0F3F-4D67-B286-99020E03302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878D1-3737-4C60-B4BD-7C9D7464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EE376-9DCD-4D64-9431-B1302DD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5FF2-9621-4D79-88B1-2311EE12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E102-A6CA-4E08-A023-589C4B88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2EE0A-7B6A-40A6-B790-B18241C8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766A2-7400-450C-91FB-678C22E5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5274-AF91-405A-825F-246D214B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B5CA6-975C-4A96-9868-C79FEB2C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FE471-580E-494F-A910-87A634B6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EE580-53FF-4487-AF31-8A8A2663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E37-D0BD-4C77-9987-2C7EF3861BE1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DB6A-5FC5-4CF9-89C1-E9088C9C1BBD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7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013C-EF6E-4E04-AD12-2DC5020A6645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5718-6F64-471B-A293-1D62568229BC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E326-0EB1-43F0-845D-02B6B7AA84D2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520B-D431-4BC5-9E00-3F9C65448C71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Defense Privacy &amp; Civil Liberties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5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855D-C5DA-4BD0-87D6-FE68E14F99EC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6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4234-D866-4BF5-B1FC-D608BFC693FF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BF41-27CC-47B5-AF40-91DFBB502603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2220-9501-48EE-8E95-1ADA38395EC9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2253-D3B3-4C31-9BB0-B40315F10229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2964-7F53-49EC-9F1E-B935553F5090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D4A4-2629-4773-BA81-C66319500AB1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cons.iconarchive.com/icons/devcom/medical/128/nurse-icon.pn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icons.iconarchive.com/icons/aha-soft/people/128/boss-icon.png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hyperlink" Target="http://icons.iconarchive.com/icons/aha-soft/people/128/user-icon.png" TargetMode="Externa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Content Placeholder 5"/>
          <p:cNvSpPr/>
          <p:nvPr/>
        </p:nvSpPr>
        <p:spPr>
          <a:xfrm>
            <a:off x="533520" y="1447920"/>
            <a:ext cx="81532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vacy Found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ＭＳ Ｐゴシック"/>
              </a:rPr>
              <a:t>Samuel P. Jenk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ＭＳ Ｐゴシック"/>
              </a:rPr>
              <a:t>Director for Priv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ＭＳ Ｐゴシック"/>
              </a:rPr>
              <a:t>Defense Privacy and Civil Liberties O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ty Protection and Management Ex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lando, Flor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ril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e DoD’s responsibility is to balance the government’s need to maintain information about individuals with the rights of individual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A8D2-A58C-490F-9CE4-D94EEF6B55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DoD SSN Use Reduction Plan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B1FD-5591-4CB1-A86F-A608BB11B4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To eliminate, when feasible, the use of Social Security numbers (SSNs)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All uses of SSNs within the DoD, to include DoD data managed or maintained in contactor-owned, -managed, or -operated system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A79B-2910-4A4A-B20C-873880A629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xecutive Order 9397 (SSN), as amended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OMB </a:t>
            </a: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Memorandum M-07-16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TM 07-015-USD(P&amp;R)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USD(P&amp;R) Memo, “Updated Plan for the Removal of SSNs from DoD ID Cards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DRAFT USD(P&amp;R) DoDI 1000.hh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EED9-4A7F-438C-860E-A8D1C2AFD6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USD(P&amp;R) Memo, “Updated Plan for the Removal of SSNs from DoD ID Cards”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3348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DoD ID cards will no longer visibly display SSN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3348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As of May 2011, replaced SSN with the DoD ID Number (formerly known as EDI-PI) and, when applicable, the DoD Benefits Number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3348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Beginning 2012, initiate removal of the SSN from the ID cards barcod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2DAE-82E3-4A4F-9AF7-D0D5C3E75F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DRAFT USD(P&amp;R) DoDI 1000.hh, “Reducing Use of Social Security Numbers (SSNs) Within DoD.”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1476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Each Component required to review systems and forms which collect SSN to determine if continued use is justified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1476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Systems or forms that do not fall under one of the approved 'use cases' will be required to develop and institute a plan to eliminate the use of the SSN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1476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Systems with an approved use case for SSN collection will require a signed memo documenting the requirement for such us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BD9-9BD1-403A-89BB-4BD0F7D6D4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Health Insurance Portability and Accountability Act (HIPAA)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ublic Law 104-91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A043-1974-4EA0-9D40-DD0754608B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Improve the efficiency and effectiveness of the health care system by standardizing the electronic exchange of administrative and financial data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06440" indent="-37116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Covered entities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06440" indent="-37116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HIPAA defines a covered entity as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00200" indent="-264600">
              <a:spcBef>
                <a:spcPts val="64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 health care provider that conducts certain transactions in electronic form;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00200" indent="-264600">
              <a:spcBef>
                <a:spcPts val="64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 health care clearinghouse; or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00200" indent="-264600">
              <a:spcBef>
                <a:spcPts val="64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 health plan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064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9D13-5AD3-4F0E-880F-5B5801EB67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HIPAA Privacy Rule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stablishes national standards to protect individuals’ medical records and other PHI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6025.18-R, “DoD Health Information Privacy Regulation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45D5-26D2-49EC-9514-0F7D4D0628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Bold Italic"/>
              </a:rPr>
              <a:t>HIPAA Security Rule.</a:t>
            </a: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Bold Italic"/>
              </a:rPr>
              <a:t>Establishes national standards to protect individuals’ electronic personal health information (ePHI) that is created, received, used, or maintained by a covered entity.</a:t>
            </a:r>
            <a:endParaRPr b="1" lang="en-US" sz="2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Bold Italic"/>
              </a:rPr>
              <a:t>DoD 8580.02-R, “DoD Health Information Security Regulation.”</a:t>
            </a:r>
            <a:endParaRPr b="1" lang="en-US" sz="2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30A4-3734-4818-9952-37EF7F0AC9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old Italic"/>
              </a:rPr>
              <a:t>The purpose of this presentation is to provide an overview of relevant Federal Privacy laws and DoD regulations.</a:t>
            </a: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550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649"/>
              </a:spcBef>
              <a:buNone/>
              <a:tabLst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D9B6-BD04-4E2C-BDA1-52740FD9A3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otected Health Information (PHI) is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ndividually identifiable health information which is a subset of PII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Created, received, or maintained by a covered entit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Transmitted or maintained by electronic or any other form or medium, except as otherwise contained in employment record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DE7D-3243-46E6-89CA-457953FFDA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2" descr="http://icons.iconarchive.com/icons/devcom/medical/128/nurse-ic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http://icons.iconarchive.com/icons/dimension-of-deskmod/city/128/Umbrella-icon.png"/>
          <p:cNvPicPr/>
          <p:nvPr/>
        </p:nvPicPr>
        <p:blipFill>
          <a:blip r:embed="rId3"/>
          <a:stretch/>
        </p:blipFill>
        <p:spPr>
          <a:xfrm rot="1800000">
            <a:off x="2771280" y="1095480"/>
            <a:ext cx="3454560" cy="3454200"/>
          </a:xfrm>
          <a:prstGeom prst="rect">
            <a:avLst/>
          </a:prstGeom>
          <a:ln w="0">
            <a:noFill/>
          </a:ln>
        </p:spPr>
      </p:pic>
      <p:sp>
        <p:nvSpPr>
          <p:cNvPr id="620" name="TextBox 9"/>
          <p:cNvSpPr/>
          <p:nvPr/>
        </p:nvSpPr>
        <p:spPr>
          <a:xfrm rot="21091800">
            <a:off x="4019400" y="438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Q.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0"/>
          <p:cNvSpPr/>
          <p:nvPr/>
        </p:nvSpPr>
        <p:spPr>
          <a:xfrm rot="20248200">
            <a:off x="676080" y="4406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http://icons.iconarchive.com/icons/aha-soft/people/128/boss-icon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3520" y="35053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12"/>
          <p:cNvSpPr/>
          <p:nvPr/>
        </p:nvSpPr>
        <p:spPr>
          <a:xfrm rot="20795400">
            <a:off x="6995520" y="3986280"/>
            <a:ext cx="22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Rectangle 14" descr=""/>
          <p:cNvPicPr/>
          <p:nvPr/>
        </p:nvPicPr>
        <p:blipFill>
          <a:blip r:embed="rId6"/>
          <a:stretch/>
        </p:blipFill>
        <p:spPr>
          <a:xfrm>
            <a:off x="590400" y="2762280"/>
            <a:ext cx="3616560" cy="712800"/>
          </a:xfrm>
          <a:prstGeom prst="rect">
            <a:avLst/>
          </a:prstGeom>
          <a:ln w="0">
            <a:noFill/>
          </a:ln>
        </p:spPr>
      </p:pic>
      <p:pic>
        <p:nvPicPr>
          <p:cNvPr id="625" name="Rectangle 15" descr=""/>
          <p:cNvPicPr/>
          <p:nvPr/>
        </p:nvPicPr>
        <p:blipFill>
          <a:blip r:embed="rId7"/>
          <a:stretch/>
        </p:blipFill>
        <p:spPr>
          <a:xfrm>
            <a:off x="2494080" y="1133640"/>
            <a:ext cx="4230720" cy="71424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16" descr=""/>
          <p:cNvPicPr/>
          <p:nvPr/>
        </p:nvPicPr>
        <p:blipFill>
          <a:blip r:embed="rId8"/>
          <a:stretch/>
        </p:blipFill>
        <p:spPr>
          <a:xfrm>
            <a:off x="5010120" y="2809800"/>
            <a:ext cx="4067280" cy="714600"/>
          </a:xfrm>
          <a:prstGeom prst="rect">
            <a:avLst/>
          </a:prstGeom>
          <a:ln w="0">
            <a:noFill/>
          </a:ln>
        </p:spPr>
      </p:pic>
      <p:pic>
        <p:nvPicPr>
          <p:cNvPr id="627" name="Rectangle 17" descr=""/>
          <p:cNvPicPr/>
          <p:nvPr/>
        </p:nvPicPr>
        <p:blipFill>
          <a:blip r:embed="rId9"/>
          <a:stretch/>
        </p:blipFill>
        <p:spPr>
          <a:xfrm>
            <a:off x="285840" y="4943520"/>
            <a:ext cx="4219560" cy="714240"/>
          </a:xfrm>
          <a:prstGeom prst="rect">
            <a:avLst/>
          </a:prstGeom>
          <a:ln w="0">
            <a:noFill/>
          </a:ln>
        </p:spPr>
      </p:pic>
      <p:pic>
        <p:nvPicPr>
          <p:cNvPr id="628" name="Rectangle 18" descr=""/>
          <p:cNvPicPr/>
          <p:nvPr/>
        </p:nvPicPr>
        <p:blipFill>
          <a:blip r:embed="rId10"/>
          <a:stretch/>
        </p:blipFill>
        <p:spPr>
          <a:xfrm>
            <a:off x="5237280" y="4943520"/>
            <a:ext cx="3614760" cy="7142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http://icons.iconarchive.com/icons/aha-soft/people/128/user-icon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2695680"/>
            <a:ext cx="1839960" cy="1839960"/>
          </a:xfrm>
          <a:prstGeom prst="rect">
            <a:avLst/>
          </a:prstGeom>
          <a:ln w="0">
            <a:noFill/>
          </a:ln>
        </p:spPr>
      </p:pic>
      <p:pic>
        <p:nvPicPr>
          <p:cNvPr id="630" name="Straight Arrow Connector 24" descr=""/>
          <p:cNvPicPr/>
          <p:nvPr/>
        </p:nvPicPr>
        <p:blipFill>
          <a:blip r:embed="rId13"/>
          <a:stretch/>
        </p:blipFill>
        <p:spPr>
          <a:xfrm>
            <a:off x="2498760" y="3638520"/>
            <a:ext cx="1414440" cy="878040"/>
          </a:xfrm>
          <a:prstGeom prst="rect">
            <a:avLst/>
          </a:prstGeom>
          <a:ln w="0">
            <a:noFill/>
          </a:ln>
        </p:spPr>
      </p:pic>
      <p:pic>
        <p:nvPicPr>
          <p:cNvPr id="631" name="Straight Arrow Connector 29" descr=""/>
          <p:cNvPicPr/>
          <p:nvPr/>
        </p:nvPicPr>
        <p:blipFill>
          <a:blip r:embed="rId14"/>
          <a:stretch/>
        </p:blipFill>
        <p:spPr>
          <a:xfrm>
            <a:off x="5162400" y="3718080"/>
            <a:ext cx="1262160" cy="804600"/>
          </a:xfrm>
          <a:prstGeom prst="rect">
            <a:avLst/>
          </a:prstGeom>
          <a:ln w="0">
            <a:noFill/>
          </a:ln>
        </p:spPr>
      </p:pic>
      <p:pic>
        <p:nvPicPr>
          <p:cNvPr id="632" name="Straight Arrow Connector 32" descr=""/>
          <p:cNvPicPr/>
          <p:nvPr/>
        </p:nvPicPr>
        <p:blipFill>
          <a:blip r:embed="rId15"/>
          <a:stretch/>
        </p:blipFill>
        <p:spPr>
          <a:xfrm>
            <a:off x="2876400" y="4705200"/>
            <a:ext cx="3395880" cy="347760"/>
          </a:xfrm>
          <a:prstGeom prst="rect">
            <a:avLst/>
          </a:prstGeom>
          <a:ln w="0">
            <a:noFill/>
          </a:ln>
        </p:spPr>
      </p:pic>
      <p:sp>
        <p:nvSpPr>
          <p:cNvPr id="63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1F86-23B4-4C2E-8CB9-388D07AF6A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Freedom of Information Act (FOIA)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5 USC 552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2517-C9C7-48A0-BE9C-D646A51C84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I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Inform the public of information while appropriately protecting government interest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Executive branch government agencie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D 5400.7, “DoD Freedom of Information Act (FOIA) Program.” 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5400.7-R, “DoD Freedom of Information Act Program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38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9C58-153C-4539-B922-F4ECFEB173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I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ovides individuals with access to many types of records that are exempt from access under the Privacy Act. 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Unlike those of the Privacy Act, FOIA procedures are available to non-resident foreign national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0394-4AD9-4F7D-9C18-42696C96B5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E-Government Act of 2002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ublic Law 107-347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5709-5461-4D84-8D98-817D70C414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Improve internet-based technology to make it easier for citizens and businesses to interact with the government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All executive branch departments and Federal agencie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343B-9620-473B-A26C-F9A725415B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otects PII agencies collect, use, maintain, or disseminate within information technology system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OMB and DoD Annual FISMA Guid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CIO Memorandum, DoD Privacy Impact Assessment (PIA) Guid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BDC2-007A-40A1-A325-2A41E98E73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FISMA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ederal Information Security Management Act (FISMA) provides a framework to ensuring effectiveness of information security controls for Federal system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Directive 8500.1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Instruction 8500.2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Annual FISMA Guid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52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6901-B39D-410A-99D0-ED81204A7E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FISM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Federal government agencies’ information system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nformation systems operated by contractors on behalf of federal agencie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t protects: 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Federal information systems and related resource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65F8-851F-462A-A773-BA46CEC6BD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Upon completion of this presentation, you should be able to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xplain the basic concepts of information privac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escribe key elements of foundational privacy laws and regulation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xplain how privacy laws and regulations interrelat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E0F4-889C-42A5-9D54-E1DA0791D7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FISM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447560"/>
            <a:ext cx="8153280" cy="40892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untitled"/>
          <p:cNvPicPr/>
          <p:nvPr/>
        </p:nvPicPr>
        <p:blipFill>
          <a:blip r:embed="rId2"/>
          <a:stretch/>
        </p:blipFill>
        <p:spPr>
          <a:xfrm>
            <a:off x="304920" y="1219320"/>
            <a:ext cx="8534160" cy="4419360"/>
          </a:xfrm>
          <a:prstGeom prst="rect">
            <a:avLst/>
          </a:prstGeom>
          <a:ln w="0">
            <a:noFill/>
          </a:ln>
        </p:spPr>
      </p:pic>
      <p:sp>
        <p:nvSpPr>
          <p:cNvPr id="659" name="TextBox 5"/>
          <p:cNvSpPr/>
          <p:nvPr/>
        </p:nvSpPr>
        <p:spPr>
          <a:xfrm>
            <a:off x="990720" y="5526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</a:rPr>
              <a:t>From Report GAO-07-837 INFORMATION SECURITY, “Despite Reported Progress, Federal Agencies Need to Address Persistent Weaknesses ,“ July 200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BD4C-80EE-4F0A-BCB7-2E2EF242DB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PI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ivacy Impact Assessments (PIA)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n analysis of systems to identify privacy risks associated with the use of PII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eb-page privacy policy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Must include a machine-readable privacy polic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Must be consistent with the Privacy Act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Instruction 5400.16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169D-EC70-4382-86C7-FAF13F105B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aperwork Reduction Act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ublic Law 104-13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9C0C-81B4-4798-BDCE-C166DFBA4F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perwork Reduction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Reduce the total amount of paperwork handled by the federal government and general public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Maximize utility of information 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gencies must ensure disclosure policies will honor any claims of confidentiality on forms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12A8-D17E-49C7-BA6C-CC7FC32E55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perwork Reduction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4886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t protects:  Information created, collected, maintained, used, disseminated, or disposed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8910.1-M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29B-FB34-4C96-A4ED-1A30FF869E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Records Management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36 CFR, Chapter 12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3946-EF58-4655-87BC-C7930CA511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rds Managemen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Supports the creation, maintenance and use, and disposition of records in order to document federal policies, operations, and transactions appropriately and economically.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8268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Bold Italic"/>
              </a:rPr>
              <a:t>DoD WHS Administrative Instruction 15.</a:t>
            </a: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0395-E6C7-444F-8226-9296BF8A33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rds Managemen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Federal agencies and Executive branch of the U.S. Government.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t protects:  All information, related to an agency’s business transaction, that is created, used, maintained, disseminated, or disposed of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3547-452F-4EA4-B704-1BE6232767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Integrating Different Laws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F220-8C4B-4514-A613-FEF8C574A7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868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grating Different Law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spcBef>
                <a:spcPts val="1874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e challenge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Laws with various purposes often govern the same data at different points in the systems development life cycl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7800" indent="-363240">
              <a:spcBef>
                <a:spcPts val="1874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e solution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Focus on the FIPP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Comply with Federal law and DoD Polic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Consult your Privacy Office at the beginning of the SDLC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780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780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84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2C96-8677-46EC-B4EB-E69B9022B0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The Privacy Act of 1974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5 USC 522a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4D03-53B7-437E-BE61-C4FABE54BC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You should now be able to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State the purpose of each law, who it applies to, and what it protect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Recognize that laws create standards and mandate compli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dentify how different laws relate to one another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iscuss the FIPPs as it relates to the Defense Privacy Program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38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87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EC12-3C44-4D3A-A006-ECC143B64D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380880" y="121932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Paperwork Reduction Act, Public Law 104-13, May 22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8910.1-M, DoD Procedures for Management of Information Requirements, June 30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Freedom of Information Act (FOIA),  Public Law 89-554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July 4, 19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5400.7, DoD Freedom of Information (FOIA) Act Program, October 28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5400.7-R, DoD Freedom of Information Act Program, September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The Privacy Act of 1974, Public Law 93-579, December 31,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C753-FE4B-48AB-A96C-44A17809CA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Resour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4572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5400.11, DoD Privacy Program, May 8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5400.11-R, DoD Privacy Program, May 14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Health Insurance Portability and Accountability Act of 1996, Public Law 104-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6025.18-R, DoD Health Information Privacy Regulation, January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8580.02-R, DoD Health Information Security Regulation, July 12, 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E-Government Act of 2002, Public Law 107-3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Federal Information Security Management Act (FISMA)              of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1914-E408-4414-A68C-7540CC7CEE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continued)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380880" y="12193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and OMB Annual FISMA Gui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8500.1, Information Assurance, October 24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I 8500.2, Information Assurance Implementation, February 6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CIO Memorandum, DoD Privacy Impact Assessment (PIA) Guidance, October 28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Office of Management and Budget Circular No. A-130, Revised, Management of Federal Information Resources, November 28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5015.2, DoD Records Management Program, March 6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39C8-7661-4129-B428-E9405A6595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533520" y="1447920"/>
          <a:ext cx="8076960" cy="4155840"/>
        </p:xfrm>
        <a:graphic>
          <a:graphicData uri="http://schemas.openxmlformats.org/drawingml/2006/table">
            <a:tbl>
              <a:tblPr/>
              <a:tblGrid>
                <a:gridCol w="2307960"/>
                <a:gridCol w="5769000"/>
              </a:tblGrid>
              <a:tr h="598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Information Practice Principles (FIPPs)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ce/Aware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no personal data record keeping systems whose very existence is kept secr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ce/Con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a way for an individual to find out what information is in their file and how it is being us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/Partici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a way for an individual to correct information in his or her rec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ty/Sec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organization creating, maintaining, using or dissemination personally identifiable information must ensure the reliability of the data for its intended use and must take precautions to prevent misu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rcement/Re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a way for an individual to prevent personal information obtained for one purpose from being used for another purpose without his or her cons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</a:tbl>
          </a:graphicData>
        </a:graphic>
      </p:graphicFrame>
      <p:sp>
        <p:nvSpPr>
          <p:cNvPr id="571" name="Text Box 26"/>
          <p:cNvSpPr/>
          <p:nvPr/>
        </p:nvSpPr>
        <p:spPr>
          <a:xfrm>
            <a:off x="636840" y="5715000"/>
            <a:ext cx="472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NIST Guide to Protecting the Confidentiality of (PII) (NIST SP 800-122, 4/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6E32-694B-4C34-A1DF-844A19F191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 code of fair information practices which mandates how Government agencies shall collect, maintain, use, and disseminate  personally identifiable information (PII) about individuals that is maintained in systems of records (SOR)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4B0A-6FDB-4C8F-9970-5D3E159996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es to: Executive Branch Agencie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D 5400.11, “DoD Privacy Program.”  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5400.11-R, “DoD Privacy Program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B951-0019-48A4-A67F-EFDDB214C0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s PII?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nformation which can be used to distinguish or trace an individual’s identit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1199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Bold Italic"/>
              </a:rPr>
              <a:t>Including name, social security number, date and place of birth, mother’s maiden name, biometric information.</a:t>
            </a:r>
            <a:endParaRPr b="1" lang="en-US" sz="2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ny other personal information which is linked or linkable to a specified individual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A503-640A-4AA3-AC5F-B052C99D17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What is a Record?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A collection or grouping of information about an individual that is maintained by a DoD Component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What is a SOR?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A group of records which are under the control of a DoD Component that are 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etrieved</a:t>
            </a: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 by name, SSN, or other personal identifier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EFC8-B7CB-46A9-831E-7FD1D6A632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6:36:44Z</dcterms:created>
  <dc:creator>colejk</dc:creator>
  <dc:description/>
  <dc:language>en-US</dc:language>
  <cp:lastModifiedBy>walkole</cp:lastModifiedBy>
  <dcterms:modified xsi:type="dcterms:W3CDTF">2011-05-25T17:30:14Z</dcterms:modified>
  <cp:revision>337</cp:revision>
  <dc:subject/>
  <dc:title>Slide 1</dc:title>
</cp:coreProperties>
</file>