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551a07"/>
                </a:solidFill>
                <a:latin typeface="Arial Black"/>
              </a:rPr>
              <a:t>Click to move the slide</a:t>
            </a:r>
            <a:endParaRPr b="0" i="1" lang="en-US" sz="4100" spc="-1" strike="noStrike">
              <a:solidFill>
                <a:srgbClr val="551a07"/>
              </a:solidFill>
              <a:latin typeface="Arial Black"/>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A70580-D2F3-4429-B663-49ED12AFC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laws assign privacy responsibility to senior agency officials. The earliest of these laws is the Paperwork Reduction Act of 1980, which, as amended, directs agency heads to assign a CIO with responsibility for carrying out the agency’s information resources management activities to improve agency productivity, efficiency, and effectiveness.7 The authorities behind these responsibilities require agency’s to undertake responsibility for implementing and enforcing applicable privacy policies, procedures, standards, and guidelines, and to assume responsibility and accountability for compliance with and coordinated management of the Privacy Act of 1974 and related information managemen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potential civil or criminal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the causes of bre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267080"/>
            <a:ext cx="6308640" cy="5029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 cited for not aligning all quarterly reporting for PIA/SORN complaints and actions associated with them.  While agencies have had the responsibility for many years to establish management structures to ensure coordinated implementation of privacy policy and compliance with the Privacy Act, recent laws and guidance have significantly changed requirements for privacy oversight and management. These laws and guidance vary in scope and specificity, but they all require the designation of a senior agency official with overall responsibility for privacy protection and compliance with statutory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opting varied assignments for key privacy functions, not all agencies gave their SAOPs responsibility for all key privacy functions. As a result, agencies may not be implementing privacy protections consistently. While the particulars of privacy management may vary according to the size of the agency and the sensitivity of its mission, agencies generally would likely benefit from having SAOPs that serve as central focal points for privacy matters and have oversight of all key functions, as required by law and guidance. Such focal points can help ensure that agency activities provide consistent privacy prot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sure that their SAOPs function effectively as central focal points for privacy management, we recommend that the Attorney General and the Secretaries of Commerce, Defense, Health and Human Services, Labor, and Treasury take steps to ensure that their SAOPs have oversight over all key privacy func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privacy laws and guidance set minimum requirements for agencies, they may not consistently protect personally identifiable information in all circumstances of its collection and use throughout the federal government and may not fully adhere to key privacy principles. Based on discussions with privacy experts and agency officials, as well as analysis of laws and related guidance, GAO identified issues in three major areas: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OMB requirement – Data submitted via online application</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pplying privacy protections consistently to all federal collection and use of personal information</a:t>
            </a:r>
            <a:r>
              <a:rPr b="0" lang="en-US" sz="1200" spc="-1" strike="noStrike">
                <a:solidFill>
                  <a:srgbClr val="000000"/>
                </a:solidFill>
                <a:latin typeface="Arial"/>
              </a:rPr>
              <a:t>. The Privacy Act’s definition of a “system of records,” which sets the scope of the act’s protections, does not always apply whenever personal information is obtained and processed by federal agencies. For example, if agencies do not retrieve personal information by identifier, the act’s protections do not apply. This has led experts to agree that the Privacy Act’s system-of-records construct is too narrowly defined. An alternative for addressing these issues could include revising the system-of-records definition to cover all personally identifiable information collected, used, and maintained systematically by the federal gover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suring that use of personally identifiable information is limited to a stated purpose</a:t>
            </a:r>
            <a:r>
              <a:rPr b="0" i="1" lang="en-US" sz="1200" spc="-1" strike="noStrike">
                <a:solidFill>
                  <a:srgbClr val="000000"/>
                </a:solidFill>
                <a:latin typeface="Arial"/>
              </a:rPr>
              <a:t>. </a:t>
            </a:r>
            <a:r>
              <a:rPr b="0" lang="en-US" sz="1200" spc="-1" strike="noStrike">
                <a:solidFill>
                  <a:srgbClr val="000000"/>
                </a:solidFill>
                <a:latin typeface="Arial"/>
              </a:rPr>
              <a:t>According to the Fair Information Practices, the use of personal information should be limited to a specified purpose. Yet current laws and guidance impose only modest requirements for describing the purposes for personal information and limiting how it is used. For example, agencies are not required to be specific in formulating purpose descriptions in their public notices. Overly broad specifications of purpose could allow for unnecessarily broad ranges of uses, thus calling into question whether meaningful limitations had been imposed. Alternatives for addressing these issues include setting specific limits on use of information within agencies and requiring agencies to establish formal agreements with external governmental entities before sharing personally identifiable information with th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ablishing effective mechanisms for informing the public about privacy protections</a:t>
            </a:r>
            <a:r>
              <a:rPr b="0" i="1" lang="en-US" sz="1200" spc="-1" strike="noStrike">
                <a:solidFill>
                  <a:srgbClr val="000000"/>
                </a:solidFill>
                <a:latin typeface="Arial"/>
              </a:rPr>
              <a:t>. </a:t>
            </a:r>
            <a:r>
              <a:rPr b="0" lang="en-US" sz="1200" spc="-1" strike="noStrike">
                <a:solidFill>
                  <a:srgbClr val="000000"/>
                </a:solidFill>
                <a:latin typeface="Arial"/>
              </a:rPr>
              <a:t>Public notices are a primary means of establishing accountability for privacy protections and giving individuals a measure of control over the use of their personal information. Although the </a:t>
            </a:r>
            <a:r>
              <a:rPr b="0" i="1" lang="en-US" sz="1200" spc="-1" strike="noStrike">
                <a:solidFill>
                  <a:srgbClr val="000000"/>
                </a:solidFill>
                <a:latin typeface="Arial"/>
              </a:rPr>
              <a:t>Federal Register </a:t>
            </a:r>
            <a:r>
              <a:rPr b="0" lang="en-US" sz="1200" spc="-1" strike="noStrike">
                <a:solidFill>
                  <a:srgbClr val="000000"/>
                </a:solidFill>
                <a:latin typeface="Arial"/>
              </a:rPr>
              <a:t>is the government’s official vehicle for issuing public notices, critics have questioned whether system-of-records notices published in the </a:t>
            </a:r>
            <a:r>
              <a:rPr b="0" i="1" lang="en-US" sz="1200" spc="-1" strike="noStrike">
                <a:solidFill>
                  <a:srgbClr val="000000"/>
                </a:solidFill>
                <a:latin typeface="Arial"/>
              </a:rPr>
              <a:t>Federal Register </a:t>
            </a:r>
            <a:r>
              <a:rPr b="0" lang="en-US" sz="1200" spc="-1" strike="noStrike">
                <a:solidFill>
                  <a:srgbClr val="000000"/>
                </a:solidFill>
                <a:latin typeface="Arial"/>
              </a:rPr>
              <a:t>effectively inform the public about government uses of personal information. Options for addressing concerns about public notices include requiring that purpose, collection limitations, and use limitations are better addressed in the content of privacy notices, and revising the Privacy Act to require that all notices be published on a standard Web site, with an address such as www.privacy.gov.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B Has Primary Responsibility for Oversight of the Privacy, E-Government, and Paperwork Reduction Act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vacy Act gives OMB responsibility for developing guidelines and providing “continuing assistance to and oversight of” agencies’ implementation of the Privacy Ac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Government Act of 2002 also assigns OMB responsibility for developing privacy impact assessment guidance and ensuring agency implementation of the privacy impact assessment requirement. In July 1975, OMB published guidance for implementing the provisions of the Privacy Ac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n, OMB has periodically issued additional guidance, including guidance to assist agencies in complying with the Computer Matching and Privacy Protection Act16 and guidance to agencies on conducting privacy impact assessments. </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current laws and guidance governing the federal n have gaps and other potential shortcomings in three broad categories: (1) the Privacy Act and E-Government Act do not always provide protections for federal uses of personal information, (2) laws and guidance may not effectively limit agency collection and use of personal information to specific purposes, and (3) Privacy Act may not include effective mechanisms for informing the public.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ssessing the appropriate balance between the needs of the federal government to collect personally identifiable information for the programmatic purposes and the assurances that individuals should have that their information is being sufficiently protected and properly used, Congress should consider amending applicable laws, such as the Privacy Act and the E-Government Act, according to the alternatives outlined in our report, including revising the scope of the laws to cover all personally identifiable information collected, used, and maintained by the federal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requirements to ensure that the collection and use of personally identifiable information is limited to a stated purpose and establishing additional mechanisms for informing the public about privacy protections by revising requirements for the structure and publication of public notic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menting on a draft of our report, OMB officials noted that they shared our concerns about privacy and stated they believe it would be important for Congress to consider potential amend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Privacy Act and the E-Government Act in the broader context of all existing privacy and related laws that Congress has en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deral Government requires appropriate information about its citizens to carry out its diverse missions mandated by the laws of the United States. Long mindful of the potential for misuse of Federal records on individuals, the United States has adopted a comprehensive approach to limiting the Government's collection, use, and disclosure of personal information. Protections afforded such information include the Privacy Act of 1974, the Computer Matching and Privacy Protection Act of 1988, the Paperwork Reduction Act of 1995, and the Principles for Providing and Using Personal Information ("Privacy Princi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 {6) of the Privacy Act of 1974 requires 0MB to issue "guidelines and regulations" to help the agencies implement the Act's provisions. They issued comprehensive Guidelines in 1975 and have updated them on an ad hoc basis since then. We all share the gov’t-wide committed to protecting the privacy of information about Americans. These guidance documents addresses privacy protections of how personally identifiable information about individuals is handled and protected within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guarding personally identifiable information in the possession of the government and preventing its unauthorized, misuse and/or breach are essential to ensure the government retains the trust of the American public. This is a responsibility shared by officials accountable for administering operational and privacy and security programs, legal counsel, Agencies’ Inspectors General and other law enforcement, and public and legislative affairs. It is also a function of applicable laws, such as the Federal Information Security Management Act of 2002 (FISMA)2 and the Privacy Act of 197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rious OMB Memos over the years have require agencies to develop policies concerning the responsibilities of individuals authorized to access personally identifiabl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framework set forth in the attachments, agencies may implement more stringent policies and procedures reflecting the mission of the agency. While this framework identifies a number of steps to greatly reduce the risks related to a data breach of personally identifiable information, it is important to emphasize that a few simple and cost-effective steps may well deliver the greatest benefit, such a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reducing the volume of collected and retained information to the minimum necessar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limiting access10 to only those individuals who must have such access;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using encryption, strong authentication procedures, and other security controls to make information unusable by unauthorized individual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5: This memorandum reemphasized responsibilities under law and policy to appropriately safeguard sensitive personally identifiable information and train employees on their responsibilities in this area. Specific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les of conduct for persons involved in the design, development, operation, or maintenance of any system of records, or maintaining any record, and instruct each such person with respect to such rules and the requirements of [the Privacy Act], including any other rules and procedures adopted pursuant to this [Act] and the penalties for noncompliance”, 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6: Recommending all departments and agencies take the following ac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 all data on mobile computers/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remote access only with two-factor authent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time-out” function for remote access and mobile devices requiring user re-authentication after 30 minutes inactivity; 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all computer-readable data extracts from databases holding sensitiv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9: This memorandum provided updated guidance remind agencies on requirements for the reporting of security incidents involving personally identifiable information and to you of existing requiremen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533160" y="4190760"/>
            <a:ext cx="6476760" cy="52578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to develop and implement a breach notification policy and plan, including policy for the notification of the public, and provides the elements that must be included in the policies, including the incident reporting requirements of M-06-19. Restates recommendations of M-06-16 as requirements. Requires agencies to establish an agency response team to ensure adequate coverage and implementation of the pla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to review and reduce the volume of personally identifiable information to the minimum necessary and reduce the use of Social Security numb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s incident reporting and handling requireme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breach notification policy and plan to lay out employees’ roles and responsibilities for handling breaches of personally identifiable information, as well as relationships with contractors or partn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encies were required to review their existing requirements with respect to Privacy and Security include existing and new requirements for Incident Reporting and Handling as well as External Breach Notific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this document requires agencies to develop policies concerning the responsibilities of individuals authorized to access personally identifiable inform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the framework set forth in the attachments, agencies were instructed that they may implement more stringent policies and procedures reflecting the mission of the agenc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hile this framework identifies a number of steps to greatly reduce the risks related to a data breach of personally identifiable information, it is important to emphasize that a few simple and cost-effective steps may well deliver the greatest benefit, such a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reducing the volume of collected and retained information to the minimum necessary;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limiting access to only those individuals who must have such access; and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using encryption, strong authentication procedures, and other security controls to make information unusable by unauthorized individuals.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Privacy Act to work effectively, it is imperative that each agency and each of us properly maintain its systems of records and ensure that the public is adequately informed about the systems of records the agency maintains and the uses that are being made of the records in those systems. We must be diligent in our efforts to protect personally identifiable information for the individuals who entrust their information to our organiz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s = people, facilities, technology, lack of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is the net negative impact of the exercise of a vulnerability, considering both the probability and the impact of occurrence. Risk management is the process of identifying risk, assessing risk, and taking steps to reduce risk to an acceptable level. This guide provides a foundation for the development of an effective risk management program, containing both the definitions and the practical guidance necessary for assessing and mitigating risks identified within IT systems. The ultimate goal is to help organizations to better manage IT-related mission risks. Every organization has a mission. In this digital era, as organizations use automated information technology (IT) systems</a:t>
            </a:r>
            <a:r>
              <a:rPr b="0" i="1" lang="en-US" sz="1200" spc="-1" strike="noStrike">
                <a:solidFill>
                  <a:srgbClr val="000000"/>
                </a:solidFill>
                <a:latin typeface="Arial"/>
              </a:rPr>
              <a:t>1 </a:t>
            </a:r>
            <a:r>
              <a:rPr b="0" lang="en-US" sz="1200" spc="-1" strike="noStrike">
                <a:solidFill>
                  <a:srgbClr val="000000"/>
                </a:solidFill>
                <a:latin typeface="Arial"/>
              </a:rPr>
              <a:t>to process their information for better support of their missions, risk management plays a critical role in protecting an organization’s information assets, and therefore its mission, from IT-related risk.</a:t>
            </a: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ffective risk management process is an important component of a successful IT security program. The principal goal of an organization’s risk management process should be to protect the </a:t>
            </a:r>
            <a:r>
              <a:rPr b="0" i="1" lang="en-US" sz="1200" spc="-1" strike="noStrike">
                <a:solidFill>
                  <a:srgbClr val="000000"/>
                </a:solidFill>
                <a:latin typeface="Arial"/>
              </a:rPr>
              <a:t>organization and its ability to perform their mission</a:t>
            </a:r>
            <a:r>
              <a:rPr b="0" lang="en-US" sz="1200" spc="-1" strike="noStrike">
                <a:solidFill>
                  <a:srgbClr val="000000"/>
                </a:solidFill>
                <a:latin typeface="Arial"/>
              </a:rPr>
              <a:t>, not just its IT assets. Therefore, the risk management process should not be treated primarily as a technical function carried out by the IT experts who operate and manage the IT system, but as an essential management function of the organization.</a:t>
            </a: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management is the process that information system managers apply to balance the operational and economic costs of protective measures for their information and information systems with the gains in capabilities and improved support of organizational mission that result from the use of efficient protection procedures. As part of the risk management process, organizations select and apply security controls for their information and information systems. The security controls are assessed and monitored to assure continued efficiency and effectiven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guarding personally identifiable information in the possession of the government and preventing its unauthorized, misuse and/or breach are essential to ensure the government retains the trust of the American public. This is a responsibility shared by officials accountable for administering operational and privacy and security programs, legal counsel, Agencies’ Inspectors General and other law enforcement, and public and legislative affairs. It is also a function of applicable laws, such as the Federal Information Security Management Act of 2002 (FISMA) and the Privacy Act of 197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nel who support or use the risk management process for their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personnel inclu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ior management, the mission owners, who make decisions about the IT secu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g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deral Chief Information Officers, who ensure the implementation of ris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for agency IT systems and the security provided for thes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esignated Approving Authority (DAA), who is responsible for the fin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 on whether to allow operation of an IT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IT security program manager, who implements the security progr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system security officers (ISSO), who are responsible for IT secu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system owners of system software and/or hardware used to support IT fun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owners of data stored, processed, and transmitted by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or functional managers, who are responsible for the IT procurement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ical support personnel (e.g., network, system, application, and databa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ors; computer specialists; data security analysts), who manage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er security for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system and application programmers, who develop and maintain code that cou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fect system and data integ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quality assurance personnel, who test and ensure the integrity of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system auditors, who audit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consultants, who support clients in risk managemen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s = people, facilities, technology, lack of training</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cies must review their current holdings of all personally identifiable information and ensure, to the maximum extent practicable, such holdings are accurate, relevant, timely, and complete, and reduce them to the minimum necessary for the proper performance of a documented agency fun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ted to protecting the privacy of the American people. This guidance document addresses privacy protections when Americans interact with their government. The guidance directs agencies to conduct reviews of how information about individuals is handled within their agency when they use information technology (IT) to collect new information, or when agencies develop or buy new IT systems to handle collections of personally identifiable information. Agencies are also directed to describe how the government handles information that individuals provide electronically, so that the American public has assurances that personal information is protec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vacy objective of the E-Government Act complements the National Strategy to Secure Cyberspace. As the National Strategy indicates, cyberspace security programs that strengthen protections for privacy and other civil liberties, together with strong privacy policies and practices in the federal agencies, will ensure that information is handled in a manner that maximizes both privacy and secur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bjective of performing risk management is to enable the organization to accomplish its mission(s) (1) by better securing the IT systems that store, process, or transmit organizational information; (2) by enabling management to make well-informed risk management decisions to justify the expenditures that are part of an IT budget; and (3) by assisting management in authorizing (or accrediting) the IT systems</a:t>
            </a:r>
            <a:r>
              <a:rPr b="1" i="1" lang="en-US" sz="1200" spc="-1" strike="noStrike">
                <a:solidFill>
                  <a:srgbClr val="000000"/>
                </a:solidFill>
                <a:latin typeface="Arial"/>
              </a:rPr>
              <a:t> </a:t>
            </a:r>
            <a:r>
              <a:rPr b="1" lang="en-US" sz="1200" spc="-1" strike="noStrike">
                <a:solidFill>
                  <a:srgbClr val="000000"/>
                </a:solidFill>
                <a:latin typeface="Arial"/>
              </a:rPr>
              <a:t>on the basis of the supporting documentation resulting from the performance of risk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190760"/>
            <a:ext cx="6308640" cy="44082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Complia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based access and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anag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account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as foundation to complianc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guarding personally identifiable information in the possession of the government and preventing its breach are essential to ensure the government retains the trust of the American public.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responsibility shared by officials accountable for administering operational and privacy and security programs, legal counsel, Agencies’ Inspectors General and other law enforcement, and public and legislative affair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is also a function of applicable laws, such as the Federal Information Security Management Act of 2002 (FISMA)2 and the Privacy Act of 1974.</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640" y="4416120"/>
            <a:ext cx="63086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 among the stakeholders is essential to ensure that we have a unified approach to protecting the personally identifiable information about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 this we cannot be certain that our efforts attain the objectives we set and that are imposed upon 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growing concern about the harmful consequences that computerized data systems could have on the privacy of personal information, in 1972 the Secretary of Health, Education and Welfare commissioned an advisory committee to examine to what extent limitations should be placed on the application of computer technology to record keeping about peop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mmittee’s final report proposed a set of principles for protecting the privacy and security of personal information, known as the Fair Information Practices. These practices were intended to address what the committee termed a poor level of protection afforded to privacy under then-existing law, and they underlie the major provisions of the Privacy Act, which was enacted the following yea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port recommends the enactment of a Federal "Code of Fair Information Practice" for all automated personal data systems. The Code rests on five basic principles that would be given legal effect as "safeguard requirements" for automated personal data system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no personal data record keeping systems whose very existence is secre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find out what information about him is in a record and how it is used.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prevent information about him that was obtained for one purpose from being used or made available for other purposes without his consen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correct or amend a record of identifiable information about him.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rganization creating, maintaining, using, or disseminating records of identifiable personal data must assure the reliability of the data for their intended use and must take precautions to prevent misuse of the 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vised version of the Fair Information Practices was developed in 1980 by the Organization for Economic Cooperation and Development (OECD) and has been widely adopted. This version of the principles was reaffirmed by OECD ministers in a 1998 declaration and further endorsed in a 2006 OECD re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air Information Practices are, with some variation, the basis of privacy laws and related policies in many countries, including the United States, Germany, Sweden, Australia, and New Zealand, as well as the European Union.10 They are also reflected in a variety of federal agency policy statements, beginning with an endorsement of the OECD principles by the Department of Commerce in 198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air Information Practices are not legal requirements but provide a framework of principles for balancing the need for privacy with other public policy interests, such as national security, law enforcement, and administrative efficiency. Striking that balance varies among countries and among types of information.</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you develop ‘X’ (e.g., policy, training, compliance measure, etc.), continue to evaluate and revisit i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the mess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k training opportunities for your own training to become </a:t>
            </a:r>
            <a:r>
              <a:rPr b="1" lang="en-US" sz="1400" spc="-1" strike="noStrike">
                <a:solidFill>
                  <a:srgbClr val="000000"/>
                </a:solidFill>
                <a:latin typeface="Arial"/>
              </a:rPr>
              <a:t>	</a:t>
            </a:r>
            <a:r>
              <a:rPr b="1" lang="en-US" sz="1400" spc="-1" strike="noStrike">
                <a:solidFill>
                  <a:srgbClr val="000000"/>
                </a:solidFill>
                <a:latin typeface="Arial"/>
              </a:rPr>
              <a:t>better agents of our progra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stigate and report findings associated with breach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ke appropriate ac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 with stakeholders and individu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304920" y="4800600"/>
            <a:ext cx="6308640" cy="373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 Limitation</a:t>
            </a:r>
            <a:r>
              <a:rPr b="0" lang="en-US" sz="1200" spc="-1" strike="noStrike">
                <a:solidFill>
                  <a:srgbClr val="000000"/>
                </a:solidFill>
                <a:latin typeface="Arial"/>
              </a:rPr>
              <a:t>— There should be limits to the collection of personal data and data should only be obtained/collected by lawful and fair means and, when appropriate, with the knowledge or consent of the data sub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Quality</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ersonal data should be relevant to the purposes for which they are be used and, to the extent necessary for those purposes, should be accurate, complete, relevant and kept-up-to-d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Specification</a:t>
            </a:r>
            <a:r>
              <a:rPr b="0" lang="en-US" sz="1200" spc="-1" strike="noStrike">
                <a:solidFill>
                  <a:srgbClr val="000000"/>
                </a:solidFill>
                <a:latin typeface="Arial"/>
              </a:rPr>
              <a:t>—The purposes for which personal data are collected should be specified not later than at the time of data collection and the subsequent use limited to the fulfillment of those purposes or such others as are not incompatible with those purposes and as are specified on each occasion of change of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Limitation</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ersonal data should not be disclosed, made available or otherwise used for purposes other than those specified in accordance with [the Purpose Specification Principle] except: (a) with the consent of the data subject; or (b) by the authority of la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Safeguard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Reasonable security safeguards and controls must be built to protect against data loss, unauthorized access and modification, destruction, use, or other threats to data in a network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sonal data should be protected by reasonable security safeguards against such risks as loss or unauthorized access, destruction, use, modification or disclosure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ness</a:t>
            </a:r>
            <a:r>
              <a:rPr b="0" lang="en-US" sz="1200" spc="-1" strike="noStrike">
                <a:solidFill>
                  <a:srgbClr val="000000"/>
                </a:solidFill>
                <a:latin typeface="Arial"/>
              </a:rPr>
              <a:t>— Protecting privacy requires a broad and universal policy and practice of transparency and openness about the practices and policies with respect to the way personal data is handled. Means should be readily available for establishing the existence and nature of personal data and the main purposes of their use, as well as the identity and usual residence of the data contro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 Participation Control. </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Individuals should control and have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ain from a data controller confirmation of whether or not the data controller has data relating to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0066"/>
                </a:solidFill>
                <a:latin typeface="Arial"/>
              </a:rPr>
              <a:t>Have communicated to him/her</a:t>
            </a:r>
            <a:r>
              <a:rPr b="0" lang="en-US" sz="1200" spc="-1" strike="noStrike">
                <a:solidFill>
                  <a:srgbClr val="000000"/>
                </a:solidFill>
                <a:latin typeface="Arial"/>
              </a:rPr>
              <a:t>, data relating to him within a reasonable time; at a charge, if any, that is not excessive; in a reasonable manner; and in a form that is readily intelligible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given reasons if a request is denied and to be able to challenge such 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llenge data relating to him/her and have personal data erased, rectified, completed or am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ability Oversight. </a:t>
            </a:r>
            <a:r>
              <a:rPr b="0" lang="en-US" sz="1200" spc="-1" strike="noStrike">
                <a:solidFill>
                  <a:srgbClr val="000000"/>
                </a:solidFill>
                <a:latin typeface="Arial"/>
              </a:rPr>
              <a:t>— Violators and data controllers should be held accountable or complying with measures that give effect to the principles stat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ty's security program addresses the following matters related to protection of personal inform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iodic risk assessments – Including PI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and documentation of the security requirements of authorized us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ing access, the nature of that access, and who authorizes such ac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unauthorized access by using effective physical and logical access contro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dures to add new users, modify the access levels of existing users, and remove users who no longer need ac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of responsibility and accountability for secur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of responsibility and accountability for system changes and maintena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ing system software upgrades and patch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 evaluating, and authorizing system principles before implemen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ing how complaints and requests relating to privacy and security issues are resolv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ing errors and omissions, security breaches, and other incide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s to detect actual and attempted attacks or intrusions into systems and to proactively test security procedures (for example, penetration tes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ing training and other resources to support its security poli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 for the handling of exceptions and situations not specifically addressed in its system processing integrity and related system security poli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 recovery plans and related tes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 for the identification of, and consistency with, applicable laws and regulations, defined commitments, service-level agreements, and other contrac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quirement that users, management, and third parties confirm (initially and annually) their understanding of and agreement to comply with the entity's privacy policies and procedures related to the security of personal inform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ty's security program prevents access to personal information in computers, media, and paper-based information that are no longer in active use by the organization (e.g., computers, media and paper-based information in storage, sold, or otherwise disposed of).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640" y="4416120"/>
            <a:ext cx="63086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ring the discussion of these GAO reports to highlight concerns that have been addressed by the U.S. Gov’t throughout the yeas that the Privacy Act has been i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cy Act established the U.S. Privacy Protection Study Commission (PPSC) to evaluate the statute of the implementation of the Privacy Act and to issue a report containing recommendations for its improvemen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issued its final report and ceased operation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77 PPSC report concluded that the Act</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result in the benefits Congress intended.</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language that was unclear.</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d too heavily on the definition of a ‘system of record’ that was restricted to databases where information is retrieved by personal identifier.</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the publication of notices in the Federal Register that were ineffective since public readership is very limited and the notices lack sufficient detai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laws set varying roles and responsibilities for senior agency privacy officials. Despite much variation, all of these laws require agencies to assign overall responsibility for privacy protection and compliance to a senior agency official. In addition, Office of Management and Budget guidance directs agencies to designate a senior agency official for privacy with specific responsi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were to (1) describe laws and guidance that set requirements for senior privacy officials within federal agencie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 reviewed and analyzed laws and OMB guidance that assign agency-wide privacy responsibilities to senior officials within feder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scribe the organizational structures used by agencies to address privacy requirements and assess whether senior officials have oversight over key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nalyzed policies and procedures at these agencies, and interviewed senior agency privacy officials to identify the privacy management structures used at each of these agencies and the roles and responsibilities of senior privacy officials. The agencies included in this review (Departments of Commerce, Defense, Health and Human Services, Homeland Security, Justice, Labor, State, Treasury, Transportation, and Veterans Affairs, as well as the Social Security Administration and the U.S. Agency for International Development) are major agencies with statutorily designated privacy officers, have a central mission for which the collection of personally identifiable information is a critical component, or have implemented a unique organizational privacy structure. We examined and compared agency management structures for fulfilling privacy responsibilities and assessed the differences in roles and responsibilities of privacy officers based on the differences in agencies’ organizational structures. We conducted this performance audit from September 2007 to May 2008 in accordance with generally accepted government auditing standards. Those standards require that we plan and perform the audit to obtain sufficient, appropriate evidence to provide a reasonable basis for our findings and conclusions based on our audit objectives. We believe that the evidence obtained provides a reasonable basis for our findings and conclusions based on our audit objectiv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830D56-A810-4CA2-9F80-9671975D1B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4D5C3-EA9A-420B-9FC2-8C49F239A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ED371A-FA3B-468C-94CC-1EDA10386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845B50-C9D2-4587-A8D3-2159CE2825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0E21E-00FC-4809-BB21-D93A08739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03A0E-8D9C-43D3-B818-99AC6F009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C2BCC-5C60-480C-8CFF-C83F3CFE4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51D82-4432-4B48-88F8-DAF28DCBF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5BDFB-19F5-4573-B290-4EC5E06DB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90720" y="533160"/>
            <a:ext cx="716256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606A9-965B-408E-8D6E-0DFA587CC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993BE-80A3-4E23-977C-12856D064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511FE3-D22A-48CB-8967-EC34523C5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87018-B8A7-4E69-AFC2-64D976BAB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C93E7-148C-4EE8-B2FF-19A2D9E18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4D2D0-5873-422E-9E77-7410EFB3A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B8284-9B80-4BA2-B705-2ACD02752F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A49C4C-FB23-4DF7-B621-EA209E716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2910D8-C5D3-4CA5-A564-76B002CB04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B74D5D-CFAD-42D1-A934-D86F5B036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C2F4A9-FFA9-4555-8F99-FD20D6CF2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720" y="533160"/>
            <a:ext cx="716256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A6E3BC-6D02-47DE-9410-0315282BFC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EFD67-68DA-42EE-B0A2-3A6669A59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C0020-EEA6-40BB-A944-ED53DA3F95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B98FD0-2465-4077-B987-66E7B5611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ftr" idx="1"/>
          </p:nvPr>
        </p:nvSpPr>
        <p:spPr>
          <a:xfrm>
            <a:off x="2285640" y="6400800"/>
            <a:ext cx="42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ense Privacy Offic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3843-7FBD-4677-87BD-0F50A8C74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168120" y="228600"/>
            <a:ext cx="8823600" cy="6095880"/>
            <a:chOff x="168120" y="228600"/>
            <a:chExt cx="8823600" cy="6095880"/>
          </a:xfrm>
        </p:grpSpPr>
        <p:sp>
          <p:nvSpPr>
            <p:cNvPr id="5" name=""/>
            <p:cNvSpPr/>
            <p:nvPr/>
          </p:nvSpPr>
          <p:spPr>
            <a:xfrm>
              <a:off x="168120" y="228600"/>
              <a:ext cx="8823600" cy="6095880"/>
            </a:xfrm>
            <a:prstGeom prst="roundRect">
              <a:avLst>
                <a:gd name="adj" fmla="val 11046"/>
              </a:avLst>
            </a:prstGeom>
            <a:noFill/>
            <a:ln w="284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62120" y="1709640"/>
              <a:ext cx="769608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551a07"/>
                </a:solidFill>
                <a:latin typeface="Arial Black"/>
              </a:rPr>
              <a:t>Click to edit the title text format</a:t>
            </a:r>
            <a:endParaRPr b="0" i="1" lang="en-US" sz="4100" spc="-1" strike="noStrike">
              <a:solidFill>
                <a:srgbClr val="551a07"/>
              </a:solidFill>
              <a:latin typeface="Arial Black"/>
            </a:endParaRPr>
          </a:p>
        </p:txBody>
      </p:sp>
      <p:sp>
        <p:nvSpPr>
          <p:cNvPr id="47" name="PlaceHolder 2"/>
          <p:cNvSpPr>
            <a:spLocks noGrp="1"/>
          </p:cNvSpPr>
          <p:nvPr>
            <p:ph type="dt" idx="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969E-EA66-4F36-BFC4-14086B145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3880"/>
            <a:ext cx="82296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i="1" lang="en-US" sz="1400" spc="-1" strike="noStrike">
                <a:solidFill>
                  <a:srgbClr val="551a07"/>
                </a:solidFill>
                <a:latin typeface="Arial Black"/>
              </a:rPr>
              <a:t> </a:t>
            </a:r>
            <a:r>
              <a:rPr b="0" i="1" lang="en-US" sz="1600" spc="-1" strike="noStrike">
                <a:solidFill>
                  <a:srgbClr val="000000"/>
                </a:solidFill>
                <a:latin typeface="Arial Black"/>
              </a:rPr>
              <a:t>Annual Army FOIA/Privacy/Records Management Conference</a:t>
            </a:r>
            <a:br>
              <a:rPr sz="1600"/>
            </a:br>
            <a:r>
              <a:rPr b="0" i="1" lang="en-US" sz="1000" spc="-1" strike="noStrike">
                <a:solidFill>
                  <a:srgbClr val="000000"/>
                </a:solidFill>
                <a:latin typeface="Arial Black"/>
              </a:rPr>
              <a:t> </a:t>
            </a:r>
            <a:br>
              <a:rPr sz="900"/>
            </a:br>
            <a:r>
              <a:rPr b="0" i="1" lang="en-US" sz="3600" spc="-1" strike="noStrike">
                <a:solidFill>
                  <a:srgbClr val="000000"/>
                </a:solidFill>
                <a:latin typeface="Arial Black"/>
              </a:rPr>
              <a:t>Privacy</a:t>
            </a:r>
            <a:br>
              <a:rPr sz="2400"/>
            </a:br>
            <a:r>
              <a:rPr b="0" i="1" lang="en-US" sz="2800" spc="-1" strike="noStrike">
                <a:solidFill>
                  <a:srgbClr val="000000"/>
                </a:solidFill>
                <a:latin typeface="Arial Black"/>
              </a:rPr>
              <a:t>Leadership – Accountability - Action</a:t>
            </a:r>
            <a:br>
              <a:rPr sz="4500"/>
            </a:br>
            <a:endParaRPr b="0" i="1" lang="en-US" sz="2800" spc="-1" strike="noStrike">
              <a:solidFill>
                <a:srgbClr val="551a07"/>
              </a:solidFill>
              <a:latin typeface="Arial Black"/>
            </a:endParaRPr>
          </a:p>
        </p:txBody>
      </p:sp>
      <p:sp>
        <p:nvSpPr>
          <p:cNvPr id="95" name="PlaceHolder 2"/>
          <p:cNvSpPr>
            <a:spLocks noGrp="1"/>
          </p:cNvSpPr>
          <p:nvPr>
            <p:ph type="subTitle"/>
          </p:nvPr>
        </p:nvSpPr>
        <p:spPr>
          <a:xfrm>
            <a:off x="1523880" y="3504960"/>
            <a:ext cx="6019920" cy="190476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sented by</a:t>
            </a:r>
            <a:endParaRPr b="0" lang="en-US" sz="2000" spc="-1" strike="noStrike">
              <a:solidFill>
                <a:srgbClr val="000000"/>
              </a:solidFill>
              <a:latin typeface="Arial"/>
            </a:endParaRPr>
          </a:p>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uel P. Jenkins, Direc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 Privacy Office</a:t>
            </a:r>
            <a:endParaRPr b="0" lang="en-US" sz="2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ttp://www.defenselink.mil/privacy/</a:t>
            </a:r>
            <a:endParaRPr b="0" lang="en-US" sz="15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vember 2009</a:t>
            </a:r>
            <a:endParaRPr b="0" lang="en-US" sz="1600" spc="-1" strike="noStrike">
              <a:solidFill>
                <a:srgbClr val="000000"/>
              </a:solidFill>
              <a:latin typeface="Arial"/>
            </a:endParaRPr>
          </a:p>
        </p:txBody>
      </p:sp>
      <p:pic>
        <p:nvPicPr>
          <p:cNvPr id="96" name="" descr=""/>
          <p:cNvPicPr/>
          <p:nvPr/>
        </p:nvPicPr>
        <p:blipFill>
          <a:blip r:embed="rId1"/>
          <a:stretch/>
        </p:blipFill>
        <p:spPr>
          <a:xfrm>
            <a:off x="380880" y="533520"/>
            <a:ext cx="1143000" cy="1143000"/>
          </a:xfrm>
          <a:prstGeom prst="rect">
            <a:avLst/>
          </a:prstGeom>
          <a:ln w="0">
            <a:noFill/>
          </a:ln>
        </p:spPr>
      </p:pic>
      <p:pic>
        <p:nvPicPr>
          <p:cNvPr id="97" name="" descr=""/>
          <p:cNvPicPr/>
          <p:nvPr/>
        </p:nvPicPr>
        <p:blipFill>
          <a:blip r:embed="rId2"/>
          <a:stretch/>
        </p:blipFill>
        <p:spPr>
          <a:xfrm>
            <a:off x="7315200" y="5335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19810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0" name="Text Box 2"/>
          <p:cNvSpPr/>
          <p:nvPr/>
        </p:nvSpPr>
        <p:spPr>
          <a:xfrm>
            <a:off x="380880" y="175248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21" name="Text Box 4"/>
          <p:cNvSpPr/>
          <p:nvPr/>
        </p:nvSpPr>
        <p:spPr>
          <a:xfrm>
            <a:off x="685800" y="2406600"/>
            <a:ext cx="815328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ing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ix (6) broad categories of SAOP responsibilities as defined by federal laws and guidance</a:t>
            </a:r>
            <a:endParaRPr b="0" lang="en-US" sz="1800" spc="-1" strike="noStrike">
              <a:solidFill>
                <a:srgbClr val="000000"/>
              </a:solidFill>
              <a:latin typeface="Arial"/>
            </a:endParaRPr>
          </a:p>
        </p:txBody>
      </p:sp>
      <p:sp>
        <p:nvSpPr>
          <p:cNvPr id="122" name="Text Box 5"/>
          <p:cNvSpPr/>
          <p:nvPr/>
        </p:nvSpPr>
        <p:spPr>
          <a:xfrm>
            <a:off x="838080" y="3340080"/>
            <a:ext cx="3429000" cy="11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ing PIA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ying with the Privacy Act</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ing and evaluating the privacy implications of agency policies, regulations and initiatives</a:t>
            </a:r>
            <a:endParaRPr b="0" lang="en-US" sz="1400" spc="-1" strike="noStrike">
              <a:solidFill>
                <a:srgbClr val="000000"/>
              </a:solidFill>
              <a:latin typeface="Arial"/>
            </a:endParaRPr>
          </a:p>
        </p:txBody>
      </p:sp>
      <p:sp>
        <p:nvSpPr>
          <p:cNvPr id="123" name="Text Box 6"/>
          <p:cNvSpPr/>
          <p:nvPr/>
        </p:nvSpPr>
        <p:spPr>
          <a:xfrm>
            <a:off x="4419720" y="3340080"/>
            <a:ext cx="4114800" cy="13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ing reports on the status of privacy protection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ing that redress procedures are in place</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ing that employees and contractors receive appropriate training</a:t>
            </a:r>
            <a:endParaRPr b="0" lang="en-US" sz="1400" spc="-1" strike="noStrike">
              <a:solidFill>
                <a:srgbClr val="000000"/>
              </a:solidFill>
              <a:latin typeface="Arial"/>
            </a:endParaRPr>
          </a:p>
        </p:txBody>
      </p:sp>
      <p:sp>
        <p:nvSpPr>
          <p:cNvPr id="124" name="Text Box 7"/>
          <p:cNvSpPr/>
          <p:nvPr/>
        </p:nvSpPr>
        <p:spPr>
          <a:xfrm>
            <a:off x="685800" y="4402080"/>
            <a:ext cx="8153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have varying organizational structures to address privacy responsibilities.  Evolving  requirements in law and guidance have resulted in fragmented assignment of privacy functions across organizational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agencies have given their designated SAOP full oversight over all privacy related functions.  This may lead to ineffective SAOPs.</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F5ABE9D-4D1F-4247-9AB5-E908BE58A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3"/>
          <p:cNvSpPr/>
          <p:nvPr/>
        </p:nvSpPr>
        <p:spPr>
          <a:xfrm>
            <a:off x="1774800" y="30492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7" name="Text Box 2"/>
          <p:cNvSpPr/>
          <p:nvPr/>
        </p:nvSpPr>
        <p:spPr>
          <a:xfrm>
            <a:off x="380880" y="172080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28" name="Text Box 4"/>
          <p:cNvSpPr/>
          <p:nvPr/>
        </p:nvSpPr>
        <p:spPr>
          <a:xfrm>
            <a:off x="533520" y="2422440"/>
            <a:ext cx="8153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ensure SAOPs function effectively as central focal points for privacy management, the Attorney General and the Secretaries of Commerce, </a:t>
            </a:r>
            <a:r>
              <a:rPr b="1" i="1" lang="en-US" sz="2000" spc="-1" strike="noStrike">
                <a:solidFill>
                  <a:srgbClr val="000000"/>
                </a:solidFill>
                <a:latin typeface="Arial"/>
              </a:rPr>
              <a:t>Defense</a:t>
            </a:r>
            <a:r>
              <a:rPr b="0" lang="en-US" sz="2000" spc="-1" strike="noStrike">
                <a:solidFill>
                  <a:srgbClr val="000000"/>
                </a:solidFill>
                <a:latin typeface="Arial"/>
              </a:rPr>
              <a:t>, Health and Human Services, Labor and Treasury should take steps to ensure that their SAOPs have oversight over all key privac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Note</a:t>
            </a:r>
            <a:r>
              <a:rPr b="0" i="1" lang="en-US" sz="2000" spc="-1" strike="noStrike">
                <a:solidFill>
                  <a:srgbClr val="000000"/>
                </a:solidFill>
                <a:latin typeface="Arial"/>
              </a:rPr>
              <a:t>:  DoD provided written comments that did not state whether it agreed or disagreed with the GAO recommendation, however, the agency stated that its privacy management structures were adequat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153184B-6B6E-46B4-872A-04879AAC3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3"/>
          <p:cNvSpPr/>
          <p:nvPr/>
        </p:nvSpPr>
        <p:spPr>
          <a:xfrm>
            <a:off x="1752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0" name="Text Box 2"/>
          <p:cNvSpPr/>
          <p:nvPr/>
        </p:nvSpPr>
        <p:spPr>
          <a:xfrm>
            <a:off x="304920" y="1765440"/>
            <a:ext cx="8305560" cy="448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GAO-08-536</a:t>
            </a:r>
            <a:r>
              <a:rPr b="1" i="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ivacy: Alternatives Exist for Enhancing Protection of Personally Identifiable Information</a:t>
            </a:r>
            <a:r>
              <a:rPr b="1" i="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ttp://www.gao.gov/new.items/d08536.pd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y 2008</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F1EA00A-90C0-4D6A-AA68-8E872A7C2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2120" y="1905120"/>
            <a:ext cx="7696080" cy="4038480"/>
          </a:xfrm>
          <a:prstGeom prst="rect">
            <a:avLst/>
          </a:prstGeom>
          <a:noFill/>
          <a:ln w="0">
            <a:noFill/>
          </a:ln>
        </p:spPr>
        <p:txBody>
          <a:bodyPr lIns="100080" rIns="100080" tIns="50760" bIns="5076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
          <p:cNvSpPr/>
          <p:nvPr/>
        </p:nvSpPr>
        <p:spPr>
          <a:xfrm>
            <a:off x="2133720" y="1219320"/>
            <a:ext cx="1371600" cy="1143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3"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Text Box 2"/>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35" name="Text Box 4"/>
          <p:cNvSpPr/>
          <p:nvPr/>
        </p:nvSpPr>
        <p:spPr>
          <a:xfrm>
            <a:off x="533520" y="2514600"/>
            <a:ext cx="815328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O analyzed privacy laws and guidance (Privacy Act, E-Gov Act, Paperwork Reduction Act and OMB guidance), compared them with the Fair Information Practices, and obtained perspectives from federal agencies and an expert fo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not consistently protect personally identifiable information (PII) in all circumstances of its collection and use throughout the federal government and may not fully adhere to key privacy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discussions with privacy experts, agency officials, and analysis of laws and related guidance, the GAO identified three major area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7E87F88-76DE-484D-96F4-B41ACE673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345840" y="1141920"/>
            <a:ext cx="2501640" cy="38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803” Report</a:t>
            </a:r>
            <a:endParaRPr b="0" lang="en-US" sz="2400" spc="-1" strike="noStrike">
              <a:solidFill>
                <a:srgbClr val="000000"/>
              </a:solidFill>
              <a:latin typeface="Arial"/>
            </a:endParaRPr>
          </a:p>
        </p:txBody>
      </p:sp>
      <p:sp>
        <p:nvSpPr>
          <p:cNvPr id="137" name=""/>
          <p:cNvSpPr/>
          <p:nvPr/>
        </p:nvSpPr>
        <p:spPr>
          <a:xfrm>
            <a:off x="1752480" y="5562720"/>
            <a:ext cx="838440" cy="533160"/>
          </a:xfrm>
          <a:prstGeom prst="ellipse">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9" name="Text Box 5"/>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0" name="Text Box 4"/>
          <p:cNvSpPr/>
          <p:nvPr/>
        </p:nvSpPr>
        <p:spPr>
          <a:xfrm>
            <a:off x="533520" y="2629080"/>
            <a:ext cx="8153280" cy="30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pplying privacy protections consistently to all federal collection and use of personal information</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vacy Act’s definition of a “system of records” (any grouping of records containing personal information retrieved by individual identifier), which sets the scope of the Act’s protections, does not always apply whenever personal information is obtained and processed by federal agenci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gencies do not retrieve personal information by identifier, the Act’s protections do not apply.</a:t>
            </a: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0434627-46F3-4F34-9725-AACAF9A27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3"/>
          <p:cNvSpPr/>
          <p:nvPr/>
        </p:nvSpPr>
        <p:spPr>
          <a:xfrm>
            <a:off x="17524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 </a:t>
            </a:r>
            <a:endParaRPr b="0" lang="en-US" sz="4000" spc="-1" strike="noStrike">
              <a:solidFill>
                <a:srgbClr val="000000"/>
              </a:solidFill>
              <a:latin typeface="Arial"/>
            </a:endParaRPr>
          </a:p>
        </p:txBody>
      </p:sp>
      <p:sp>
        <p:nvSpPr>
          <p:cNvPr id="142" name="Text Box 5"/>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3" name="Rectangle 6"/>
          <p:cNvSpPr/>
          <p:nvPr/>
        </p:nvSpPr>
        <p:spPr>
          <a:xfrm>
            <a:off x="380880" y="2616120"/>
            <a:ext cx="8229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Ensuring that collection and use of personally identifiable information is limited to a stated purpose</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purpose specification, collection limitation, and use limitation principles, the collection of personal information should be limited, and its use should be limited to a specified purpos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laws and guidance impose only modest requirements for describing the purposes for collecting and using personal information and limiting how that information is collected and us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are not required to be specific in formulating purpose descriptions in their public notic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DE6169-2341-4BD7-8FA8-9EB810A01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5562720"/>
            <a:ext cx="838440" cy="533160"/>
          </a:xfrm>
          <a:prstGeom prst="ellipse">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Text Box 2"/>
          <p:cNvSpPr/>
          <p:nvPr/>
        </p:nvSpPr>
        <p:spPr>
          <a:xfrm>
            <a:off x="182880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Text Box 4"/>
          <p:cNvSpPr/>
          <p:nvPr/>
        </p:nvSpPr>
        <p:spPr>
          <a:xfrm>
            <a:off x="380880" y="167652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7" name="Text Box 3"/>
          <p:cNvSpPr/>
          <p:nvPr/>
        </p:nvSpPr>
        <p:spPr>
          <a:xfrm>
            <a:off x="533520" y="2438280"/>
            <a:ext cx="81532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Establishing effective mechanisms for informing the public about privacy protections</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openness principle, the public should be informed about privacy polices and practices, and the accountability principle calls for those who control the collection or use of personal information to be held accountable for taking steps to ensure privacy prot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notices are a primary means of establishing accountability for privacy protections and giving individuals a measure of control over the use of their personal inform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concerns have been raised that Privacy Act notices may not serve this function well.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EEB4C1-EBD5-4C39-B268-3B8BD60A7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 Box 2"/>
          <p:cNvSpPr/>
          <p:nvPr/>
        </p:nvSpPr>
        <p:spPr>
          <a:xfrm>
            <a:off x="1752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50" name="Text Box 4"/>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51" name="Text Box 3"/>
          <p:cNvSpPr/>
          <p:nvPr/>
        </p:nvSpPr>
        <p:spPr>
          <a:xfrm>
            <a:off x="533520" y="2438280"/>
            <a:ext cx="815328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commend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se issues—particularly those dealing with limitations on collection and use as well as mechanisms for informing the public—could be addressed by OMB through revisions or supplements to guid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 actions by OMB would not have the benefit of public deliberations regarding how best to achieve an appropriate balance between the government’s need to collect, process and share PI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s of individuals to know about such collections and be assured that they are only for limited purposes and 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65725B-ED00-47D2-A860-D43F9A2757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1828800" y="30492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53" name="Text Box 6"/>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54" name="Text Box 4"/>
          <p:cNvSpPr/>
          <p:nvPr/>
        </p:nvSpPr>
        <p:spPr>
          <a:xfrm>
            <a:off x="533520" y="2498760"/>
            <a:ext cx="815328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con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tter approach is to amend applicable laws, such as the Privacy Act and the E-Government A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 scope of the laws to cover all PII collected, used, and maintained by the federal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requirements to ensure that the collection and use of PII is limited to a stated pur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additional mechanisms for informing the public about privacy protections by revising requirements for the structure and publication of public not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D261AE8-67D9-4464-A724-23574F2BD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457200" y="2362320"/>
            <a:ext cx="8305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E3D52D1B-EE47-4C46-A276-6E3849D9B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73"/>
          <p:cNvSpPr/>
          <p:nvPr/>
        </p:nvSpPr>
        <p:spPr>
          <a:xfrm>
            <a:off x="1698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entation Topics</a:t>
            </a:r>
            <a:endParaRPr b="0" lang="en-US" sz="4000" spc="-1" strike="noStrike">
              <a:solidFill>
                <a:srgbClr val="000000"/>
              </a:solidFill>
              <a:latin typeface="Arial"/>
            </a:endParaRPr>
          </a:p>
        </p:txBody>
      </p:sp>
      <p:sp>
        <p:nvSpPr>
          <p:cNvPr id="99" name="Text Box 57"/>
          <p:cNvSpPr/>
          <p:nvPr/>
        </p:nvSpPr>
        <p:spPr>
          <a:xfrm>
            <a:off x="1219320" y="2057400"/>
            <a:ext cx="7391160" cy="3531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INFORMATION PRACTICE PRINCIPLES</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O REPORTS</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ND REPORTING</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LL TO LEADERSHIP</a:t>
            </a:r>
            <a:endParaRPr b="0" lang="en-US" sz="2400" spc="-1" strike="noStrike">
              <a:solidFill>
                <a:srgbClr val="000000"/>
              </a:solidFill>
              <a:latin typeface="Arial"/>
            </a:endParaRPr>
          </a:p>
          <a:p>
            <a:pPr marL="34776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37B5D45-CA2F-4824-9825-E1791661EA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3"/>
          <p:cNvSpPr/>
          <p:nvPr/>
        </p:nvSpPr>
        <p:spPr>
          <a:xfrm>
            <a:off x="914400" y="22860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p:txBody>
      </p:sp>
      <p:sp>
        <p:nvSpPr>
          <p:cNvPr id="157" name="Text Box 116"/>
          <p:cNvSpPr/>
          <p:nvPr/>
        </p:nvSpPr>
        <p:spPr>
          <a:xfrm>
            <a:off x="609480" y="1736640"/>
            <a:ext cx="8077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moranda for Privacy</a:t>
            </a:r>
            <a:endParaRPr b="0" lang="en-US" sz="2000" spc="-1" strike="noStrike">
              <a:solidFill>
                <a:srgbClr val="000000"/>
              </a:solidFill>
              <a:latin typeface="Arial"/>
            </a:endParaRPr>
          </a:p>
        </p:txBody>
      </p:sp>
      <p:graphicFrame>
        <p:nvGraphicFramePr>
          <p:cNvPr id="158" name=""/>
          <p:cNvGraphicFramePr/>
          <p:nvPr/>
        </p:nvGraphicFramePr>
        <p:xfrm>
          <a:off x="380880" y="2209680"/>
          <a:ext cx="8305920" cy="3562560"/>
        </p:xfrm>
        <a:graphic>
          <a:graphicData uri="http://schemas.openxmlformats.org/drawingml/2006/table">
            <a:tbl>
              <a:tblPr/>
              <a:tblGrid>
                <a:gridCol w="1305000"/>
                <a:gridCol w="1233360"/>
                <a:gridCol w="2227320"/>
                <a:gridCol w="3540240"/>
              </a:tblGrid>
              <a:tr h="30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2/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guarding Personally Identifiable Infor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e Senior Official for Privacy at each agency to conduct a review of agency policies and processes, and take corrective action as appropriate, to ensure adequate safeguards to prevent the intentional or negligent misuse of, or unauthorized access to, personally identifiable inform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Sensitive Agency Inform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NII responsibilit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Incidents Involving Personally Identifiable Information and Incorporating the Cost for Security in Agency Information Technology Investment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responsibility required policy on reporting PII incidences to the United States-Computer Emergency response Team (US-CERT) within 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 of discovery of the incident.  Requirement incorporated in DoD 5400.11-R, DoD Privacy Progra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C4216032-B685-467B-A315-0E013B5AA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98"/>
          <p:cNvSpPr/>
          <p:nvPr/>
        </p:nvSpPr>
        <p:spPr>
          <a:xfrm>
            <a:off x="609480" y="1752480"/>
            <a:ext cx="8077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moranda for Privacy (continued)</a:t>
            </a:r>
            <a:endParaRPr b="0" lang="en-US" sz="2000" spc="-1" strike="noStrike">
              <a:solidFill>
                <a:srgbClr val="000000"/>
              </a:solidFill>
              <a:latin typeface="Arial"/>
            </a:endParaRPr>
          </a:p>
        </p:txBody>
      </p:sp>
      <p:graphicFrame>
        <p:nvGraphicFramePr>
          <p:cNvPr id="160" name=""/>
          <p:cNvGraphicFramePr/>
          <p:nvPr/>
        </p:nvGraphicFramePr>
        <p:xfrm>
          <a:off x="609480" y="2295360"/>
          <a:ext cx="8001000" cy="2990880"/>
        </p:xfrm>
        <a:graphic>
          <a:graphicData uri="http://schemas.openxmlformats.org/drawingml/2006/table">
            <a:tbl>
              <a:tblPr/>
              <a:tblGrid>
                <a:gridCol w="1258920"/>
                <a:gridCol w="1258920"/>
                <a:gridCol w="2075040"/>
                <a:gridCol w="3408120"/>
              </a:tblGrid>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43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7-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guarding Against and Responding to the Breach of Personally Identifiable In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gencies to develop a policy for handling breaches of personally identifiable information as well as policies concerning the responsibilities of individuals authorized to access such inform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Text Box 3"/>
          <p:cNvSpPr/>
          <p:nvPr/>
        </p:nvSpPr>
        <p:spPr>
          <a:xfrm>
            <a:off x="914400" y="22860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346EE897-2A0D-4CDA-9506-56CC4193F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514240"/>
            <a:ext cx="792504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 CALL TO LEADERSHIP:</a:t>
            </a:r>
            <a:br>
              <a:rPr sz="4400"/>
            </a:br>
            <a:br>
              <a:rPr sz="2000"/>
            </a:br>
            <a:r>
              <a:rPr b="0" lang="en-US" sz="4400" spc="-1" strike="noStrike">
                <a:solidFill>
                  <a:srgbClr val="000000"/>
                </a:solidFill>
                <a:latin typeface="Arial Black"/>
              </a:rPr>
              <a:t>What Does All This Mean To A Privacy Leader?</a:t>
            </a:r>
            <a:endParaRPr b="0" lang="en-US" sz="4400" spc="-1" strike="noStrike">
              <a:solidFill>
                <a:srgbClr val="551a07"/>
              </a:solidFill>
              <a:latin typeface="Arial Black"/>
            </a:endParaRPr>
          </a:p>
        </p:txBody>
      </p:sp>
      <p:sp>
        <p:nvSpPr>
          <p:cNvPr id="163"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038E389-19D7-4E02-9081-2F287167E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6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
          <p:cNvSpPr/>
          <p:nvPr/>
        </p:nvSpPr>
        <p:spPr>
          <a:xfrm>
            <a:off x="762120" y="2286000"/>
            <a:ext cx="7924680" cy="26668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isks are constantly evolving.  It’s our collective responsibility to stay informed.</a:t>
            </a:r>
            <a:endParaRPr b="0" lang="en-US" sz="3200" spc="-1" strike="noStrike">
              <a:solidFill>
                <a:srgbClr val="000000"/>
              </a:solidFill>
              <a:latin typeface="Arial"/>
            </a:endParaRPr>
          </a:p>
          <a:p>
            <a:pPr marL="294840" indent="-29484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 </a:t>
            </a:r>
            <a:r>
              <a:rPr b="1" lang="en-US" sz="3300" spc="-1" strike="noStrike">
                <a:solidFill>
                  <a:srgbClr val="000000"/>
                </a:solidFill>
                <a:latin typeface="Arial"/>
              </a:rPr>
              <a:t>Help stakeholders understand assessments of potential impact and likelihood of harm when collecting information and managing breaches.</a:t>
            </a:r>
            <a:endParaRPr b="0" lang="en-US" sz="3300" spc="-1" strike="noStrike">
              <a:solidFill>
                <a:srgbClr val="000000"/>
              </a:solidFill>
              <a:latin typeface="Arial"/>
            </a:endParaRPr>
          </a:p>
          <a:p>
            <a:pPr marL="294840" indent="-29484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294840" indent="-2948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74885D-E2C4-43B5-BD8B-B1D058BC8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304920" y="1752480"/>
            <a:ext cx="8458200" cy="609840"/>
          </a:xfrm>
          <a:prstGeom prst="rect">
            <a:avLst/>
          </a:prstGeom>
          <a:noFill/>
          <a:ln w="0">
            <a:noFill/>
          </a:ln>
        </p:spPr>
        <p:style>
          <a:lnRef idx="0"/>
          <a:fillRef idx="0"/>
          <a:effectRef idx="0"/>
          <a:fontRef idx="minor"/>
        </p:style>
        <p:txBody>
          <a:bodyPr lIns="90000" rIns="90000" tIns="46800" bIns="46800" anchor="t">
            <a:normAutofit fontScale="78000"/>
          </a:bodyPr>
          <a:p>
            <a:pPr marL="267480" indent="1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IST recommends and encourages close coordination with </a:t>
            </a:r>
            <a:r>
              <a:rPr b="1" lang="en-US" sz="2700" spc="-1" strike="noStrike" u="sng">
                <a:solidFill>
                  <a:srgbClr val="000000"/>
                </a:solidFill>
                <a:uFillTx/>
                <a:latin typeface="Arial"/>
              </a:rPr>
              <a:t>STAKEHOLDERS</a:t>
            </a:r>
            <a:r>
              <a:rPr b="1" lang="en-US" sz="2700" spc="-1" strike="noStrike">
                <a:solidFill>
                  <a:srgbClr val="000000"/>
                </a:solidFill>
                <a:latin typeface="Arial"/>
              </a:rPr>
              <a:t> to include:</a:t>
            </a:r>
            <a:endParaRPr b="0" lang="en-US" sz="2700" spc="-1" strike="noStrike">
              <a:solidFill>
                <a:srgbClr val="000000"/>
              </a:solidFill>
              <a:latin typeface="Arial"/>
            </a:endParaRPr>
          </a:p>
        </p:txBody>
      </p:sp>
      <p:sp>
        <p:nvSpPr>
          <p:cNvPr id="168" name="Text Box 5"/>
          <p:cNvSpPr/>
          <p:nvPr/>
        </p:nvSpPr>
        <p:spPr>
          <a:xfrm>
            <a:off x="974880" y="2666880"/>
            <a:ext cx="359712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 Offic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Information Offic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o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Leadership</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 Line Staff</a:t>
            </a:r>
            <a:endParaRPr b="0" lang="en-US" sz="2000" spc="-1" strike="noStrike">
              <a:solidFill>
                <a:srgbClr val="000000"/>
              </a:solidFill>
              <a:latin typeface="Arial"/>
            </a:endParaRPr>
          </a:p>
        </p:txBody>
      </p:sp>
      <p:sp>
        <p:nvSpPr>
          <p:cNvPr id="169" name="Text Box 6"/>
          <p:cNvSpPr/>
          <p:nvPr/>
        </p:nvSpPr>
        <p:spPr>
          <a:xfrm>
            <a:off x="4643640" y="2651040"/>
            <a:ext cx="359424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ecurity Offic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unse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emb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s of your servic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government agencies</a:t>
            </a:r>
            <a:endParaRPr b="0" lang="en-US" sz="2000" spc="-1" strike="noStrike">
              <a:solidFill>
                <a:srgbClr val="000000"/>
              </a:solidFill>
              <a:latin typeface="Arial"/>
            </a:endParaRPr>
          </a:p>
        </p:txBody>
      </p:sp>
      <p:sp>
        <p:nvSpPr>
          <p:cNvPr id="170" name="Text Box 7"/>
          <p:cNvSpPr/>
          <p:nvPr/>
        </p:nvSpPr>
        <p:spPr>
          <a:xfrm>
            <a:off x="595440" y="5943600"/>
            <a:ext cx="48729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endParaRPr b="0" lang="en-US" sz="1000" spc="-1" strike="noStrike">
              <a:solidFill>
                <a:srgbClr val="000000"/>
              </a:solidFill>
              <a:latin typeface="Arial"/>
            </a:endParaRPr>
          </a:p>
        </p:txBody>
      </p:sp>
      <p:sp>
        <p:nvSpPr>
          <p:cNvPr id="17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3" name="PlaceHolder 2"/>
          <p:cNvSpPr>
            <a:spLocks noGrp="1"/>
          </p:cNvSpPr>
          <p:nvPr>
            <p:ph type="sldNum" idx="2"/>
          </p:nvPr>
        </p:nvSpPr>
        <p:spPr/>
        <p:txBody>
          <a:bodyPr/>
          <a:p>
            <a:fld id="{714061E7-2B15-4C60-B830-264C5FF8E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7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
          <p:cNvSpPr/>
          <p:nvPr/>
        </p:nvSpPr>
        <p:spPr>
          <a:xfrm>
            <a:off x="762120" y="1828800"/>
            <a:ext cx="7696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ssemble a useful PII inventory.</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onsider a risk-based approach (e.g., Privacy Threshold Analysis).</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Know which specific collections, which permissible uses apply and what dissemination/disclosure is allowed of your PII.</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FCF7C7-D68B-4CF9-ADC8-23B7DE6206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2800" spc="-1" strike="noStrike">
                <a:solidFill>
                  <a:srgbClr val="000000"/>
                </a:solidFill>
                <a:latin typeface="Arial Black"/>
              </a:rPr>
              <a:t>A CALL TO LEADERSHIP</a:t>
            </a:r>
            <a:endParaRPr b="0" lang="en-US" sz="2800" spc="-1" strike="noStrike">
              <a:solidFill>
                <a:srgbClr val="551a07"/>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 name=""/>
          <p:cNvSpPr/>
          <p:nvPr/>
        </p:nvSpPr>
        <p:spPr>
          <a:xfrm>
            <a:off x="838080" y="1752480"/>
            <a:ext cx="80773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  </a:t>
            </a:r>
            <a:r>
              <a:rPr b="1" lang="en-US" sz="3300" spc="-1" strike="noStrike">
                <a:solidFill>
                  <a:srgbClr val="000000"/>
                </a:solidFill>
                <a:latin typeface="Arial"/>
              </a:rPr>
              <a:t>Promote tools and preventive practices that bring greater focus on the “insider threat”. </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78" name=""/>
          <p:cNvGrpSpPr/>
          <p:nvPr/>
        </p:nvGrpSpPr>
        <p:grpSpPr>
          <a:xfrm>
            <a:off x="471600" y="3718080"/>
            <a:ext cx="8443800" cy="2074680"/>
            <a:chOff x="471600" y="3718080"/>
            <a:chExt cx="8443800" cy="2074680"/>
          </a:xfrm>
        </p:grpSpPr>
        <p:sp>
          <p:nvSpPr>
            <p:cNvPr id="179" name=""/>
            <p:cNvSpPr/>
            <p:nvPr/>
          </p:nvSpPr>
          <p:spPr>
            <a:xfrm>
              <a:off x="4357800" y="3718080"/>
              <a:ext cx="4557600" cy="161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User account housekeeping</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ules of behavior</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arning banner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raining and Awareness</a:t>
              </a:r>
              <a:endParaRPr b="0" lang="en-US" sz="2500" spc="-1" strike="noStrike">
                <a:solidFill>
                  <a:srgbClr val="000000"/>
                </a:solidFill>
                <a:latin typeface="Arial"/>
              </a:endParaRPr>
            </a:p>
          </p:txBody>
        </p:sp>
        <p:sp>
          <p:nvSpPr>
            <p:cNvPr id="180" name=""/>
            <p:cNvSpPr/>
            <p:nvPr/>
          </p:nvSpPr>
          <p:spPr>
            <a:xfrm>
              <a:off x="471600" y="3718080"/>
              <a:ext cx="3898800" cy="12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FAR clause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Us/MOA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ccess agreements</a:t>
              </a:r>
              <a:endParaRPr b="0" lang="en-US" sz="2500" spc="-1" strike="noStrike">
                <a:solidFill>
                  <a:srgbClr val="000000"/>
                </a:solidFill>
                <a:latin typeface="Arial"/>
              </a:endParaRPr>
            </a:p>
          </p:txBody>
        </p:sp>
        <p:sp>
          <p:nvSpPr>
            <p:cNvPr id="181" name=""/>
            <p:cNvSpPr/>
            <p:nvPr/>
          </p:nvSpPr>
          <p:spPr>
            <a:xfrm>
              <a:off x="474120" y="4937040"/>
              <a:ext cx="3909600" cy="855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eb content monitoring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ools</a:t>
              </a:r>
              <a:endParaRPr b="0" lang="en-US" sz="2500" spc="-1" strike="noStrike">
                <a:solidFill>
                  <a:srgbClr val="000000"/>
                </a:solidFill>
                <a:latin typeface="Arial"/>
              </a:endParaRPr>
            </a:p>
          </p:txBody>
        </p:sp>
      </p:grpSp>
      <p:sp>
        <p:nvSpPr>
          <p:cNvPr id="4" name="PlaceHolder 3"/>
          <p:cNvSpPr>
            <a:spLocks noGrp="1"/>
          </p:cNvSpPr>
          <p:nvPr>
            <p:ph type="sldNum" idx="2"/>
          </p:nvPr>
        </p:nvSpPr>
        <p:spPr/>
        <p:txBody>
          <a:bodyPr/>
          <a:p>
            <a:fld id="{BD4D1C85-2E47-4653-B334-118B675F38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12"/>
          <p:cNvSpPr/>
          <p:nvPr/>
        </p:nvSpPr>
        <p:spPr>
          <a:xfrm>
            <a:off x="2059920" y="1752480"/>
            <a:ext cx="483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cy – Security Interface</a:t>
            </a:r>
            <a:endParaRPr b="0" lang="en-US" sz="2800" spc="-1" strike="noStrike">
              <a:solidFill>
                <a:srgbClr val="000000"/>
              </a:solidFill>
              <a:latin typeface="Arial"/>
            </a:endParaRPr>
          </a:p>
        </p:txBody>
      </p:sp>
      <p:sp>
        <p:nvSpPr>
          <p:cNvPr id="184" name="Oval 5"/>
          <p:cNvSpPr/>
          <p:nvPr/>
        </p:nvSpPr>
        <p:spPr>
          <a:xfrm>
            <a:off x="3657600" y="2362320"/>
            <a:ext cx="441972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6"/>
          <p:cNvSpPr/>
          <p:nvPr/>
        </p:nvSpPr>
        <p:spPr>
          <a:xfrm>
            <a:off x="1600200" y="2971800"/>
            <a:ext cx="2133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meeting the information requirements of the DoD while ensuring the protection of the rights of the individual in the collection, use and dissemina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I.</a:t>
            </a:r>
            <a:endParaRPr b="0" lang="en-US" sz="1600" spc="-1" strike="noStrike">
              <a:solidFill>
                <a:srgbClr val="000000"/>
              </a:solidFill>
              <a:latin typeface="Arial"/>
            </a:endParaRPr>
          </a:p>
        </p:txBody>
      </p:sp>
      <p:sp>
        <p:nvSpPr>
          <p:cNvPr id="186" name="Text Box 8"/>
          <p:cNvSpPr/>
          <p:nvPr/>
        </p:nvSpPr>
        <p:spPr>
          <a:xfrm>
            <a:off x="3657600" y="3255840"/>
            <a:ext cx="175248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ivacy’s success is dependent on establishment of a basic foundation for information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Text Box 7"/>
          <p:cNvSpPr/>
          <p:nvPr/>
        </p:nvSpPr>
        <p:spPr>
          <a:xfrm>
            <a:off x="5715000" y="3048120"/>
            <a:ext cx="1981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protecting the information and information systems supporting the operations and assets of an organization.</a:t>
            </a:r>
            <a:endParaRPr b="0" lang="en-US" sz="1600" spc="-1" strike="noStrike">
              <a:solidFill>
                <a:srgbClr val="000000"/>
              </a:solidFill>
              <a:latin typeface="Arial"/>
            </a:endParaRPr>
          </a:p>
        </p:txBody>
      </p:sp>
      <p:sp>
        <p:nvSpPr>
          <p:cNvPr id="188" name="Text Box 9"/>
          <p:cNvSpPr/>
          <p:nvPr/>
        </p:nvSpPr>
        <p:spPr>
          <a:xfrm>
            <a:off x="2593080" y="25146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CY</a:t>
            </a:r>
            <a:endParaRPr b="0" lang="en-US" sz="1800" spc="-1" strike="noStrike">
              <a:solidFill>
                <a:srgbClr val="000000"/>
              </a:solidFill>
              <a:latin typeface="Arial"/>
            </a:endParaRPr>
          </a:p>
        </p:txBody>
      </p:sp>
      <p:sp>
        <p:nvSpPr>
          <p:cNvPr id="189" name="Text Box 10"/>
          <p:cNvSpPr/>
          <p:nvPr/>
        </p:nvSpPr>
        <p:spPr>
          <a:xfrm>
            <a:off x="5107320" y="2529000"/>
            <a:ext cx="133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19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91"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92" name="Oval 5"/>
          <p:cNvSpPr/>
          <p:nvPr/>
        </p:nvSpPr>
        <p:spPr>
          <a:xfrm>
            <a:off x="990720" y="2362320"/>
            <a:ext cx="44193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056C1AE-4BED-40C5-B7CE-B1BAA1905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5"/>
          <p:cNvSpPr/>
          <p:nvPr/>
        </p:nvSpPr>
        <p:spPr>
          <a:xfrm>
            <a:off x="1523880" y="898560"/>
            <a:ext cx="6553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Rectangle 4"/>
          <p:cNvSpPr/>
          <p:nvPr/>
        </p:nvSpPr>
        <p:spPr>
          <a:xfrm>
            <a:off x="457200" y="1771560"/>
            <a:ext cx="8153280" cy="4474440"/>
          </a:xfrm>
          <a:prstGeom prst="rect">
            <a:avLst/>
          </a:prstGeom>
          <a:noFill/>
          <a:ln w="0">
            <a:noFill/>
          </a:ln>
        </p:spPr>
        <p:style>
          <a:lnRef idx="0"/>
          <a:fillRef idx="0"/>
          <a:effectRef idx="0"/>
          <a:fontRef idx="minor"/>
        </p:style>
        <p:txBody>
          <a:bodyPr lIns="90000" rIns="90000" tIns="46800" bIns="46800" anchor="t">
            <a:spAutoFit/>
          </a:bodyPr>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 coordination among privacy officers, chief information officers, information security officers, and legal counsel are essential when addressing PII issue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the confidentiality of PII requires knowledge of information systems, information security, privacy, and legal requirement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s regarding the applicability of a particular law, regulation, or other mandate should be made in consultation with an organization’s legal counsel and privacy officer because relevant laws, regulations, and other mandates are often complex and change over time.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new policies often require the implementation of technical security controls to enforce the policies. Close coordination of the relevant experts helps to prevent PII breaches by ensuring proper interpretation and implementation of requirement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96"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CDFBBCE-B763-4446-A67C-BA54F6045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5"/>
          <p:cNvSpPr/>
          <p:nvPr/>
        </p:nvSpPr>
        <p:spPr>
          <a:xfrm>
            <a:off x="1600200" y="822240"/>
            <a:ext cx="655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Rectangle 4"/>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me privacy objectives are only partially supported by the security objectives or are fully independent of the security objectives.</a:t>
            </a:r>
            <a:endParaRPr b="0" lang="en-US" sz="2000" spc="-1" strike="noStrike">
              <a:solidFill>
                <a:srgbClr val="000000"/>
              </a:solidFill>
              <a:latin typeface="Arial"/>
            </a:endParaRPr>
          </a:p>
        </p:txBody>
      </p:sp>
      <p:grpSp>
        <p:nvGrpSpPr>
          <p:cNvPr id="199" name="Group 5"/>
          <p:cNvGrpSpPr/>
          <p:nvPr/>
        </p:nvGrpSpPr>
        <p:grpSpPr>
          <a:xfrm>
            <a:off x="1329840" y="2590920"/>
            <a:ext cx="6592320" cy="3503880"/>
            <a:chOff x="1329840" y="2590920"/>
            <a:chExt cx="6592320" cy="3503880"/>
          </a:xfrm>
        </p:grpSpPr>
        <p:grpSp>
          <p:nvGrpSpPr>
            <p:cNvPr id="200" name="Group 6"/>
            <p:cNvGrpSpPr/>
            <p:nvPr/>
          </p:nvGrpSpPr>
          <p:grpSpPr>
            <a:xfrm>
              <a:off x="1329840" y="2590920"/>
              <a:ext cx="6592320" cy="3503880"/>
              <a:chOff x="1329840" y="2590920"/>
              <a:chExt cx="6592320" cy="3503880"/>
            </a:xfrm>
          </p:grpSpPr>
          <p:grpSp>
            <p:nvGrpSpPr>
              <p:cNvPr id="201" name="Group 7"/>
              <p:cNvGrpSpPr/>
              <p:nvPr/>
            </p:nvGrpSpPr>
            <p:grpSpPr>
              <a:xfrm>
                <a:off x="1707840" y="3188160"/>
                <a:ext cx="5790960" cy="2906640"/>
                <a:chOff x="1707840" y="3188160"/>
                <a:chExt cx="5790960" cy="2906640"/>
              </a:xfrm>
            </p:grpSpPr>
            <p:sp>
              <p:nvSpPr>
                <p:cNvPr id="202" name="Rectangle 8"/>
                <p:cNvSpPr/>
                <p:nvPr/>
              </p:nvSpPr>
              <p:spPr>
                <a:xfrm>
                  <a:off x="1707840" y="3188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endParaRPr b="0" lang="en-US" sz="1400" spc="-1" strike="noStrike">
                    <a:solidFill>
                      <a:srgbClr val="000000"/>
                    </a:solidFill>
                    <a:latin typeface="Arial"/>
                  </a:endParaRPr>
                </a:p>
              </p:txBody>
            </p:sp>
            <p:sp>
              <p:nvSpPr>
                <p:cNvPr id="203" name="Rectangle 9"/>
                <p:cNvSpPr/>
                <p:nvPr/>
              </p:nvSpPr>
              <p:spPr>
                <a:xfrm>
                  <a:off x="1707840" y="3799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ation</a:t>
                  </a:r>
                  <a:endParaRPr b="0" lang="en-US" sz="1400" spc="-1" strike="noStrike">
                    <a:solidFill>
                      <a:srgbClr val="000000"/>
                    </a:solidFill>
                    <a:latin typeface="Arial"/>
                  </a:endParaRPr>
                </a:p>
              </p:txBody>
            </p:sp>
            <p:sp>
              <p:nvSpPr>
                <p:cNvPr id="204" name="Rectangle 10"/>
                <p:cNvSpPr/>
                <p:nvPr/>
              </p:nvSpPr>
              <p:spPr>
                <a:xfrm>
                  <a:off x="1707840" y="4411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uracy</a:t>
                  </a:r>
                  <a:endParaRPr b="0" lang="en-US" sz="1400" spc="-1" strike="noStrike">
                    <a:solidFill>
                      <a:srgbClr val="000000"/>
                    </a:solidFill>
                    <a:latin typeface="Arial"/>
                  </a:endParaRPr>
                </a:p>
              </p:txBody>
            </p:sp>
            <p:sp>
              <p:nvSpPr>
                <p:cNvPr id="205" name="Rectangle 11"/>
                <p:cNvSpPr/>
                <p:nvPr/>
              </p:nvSpPr>
              <p:spPr>
                <a:xfrm>
                  <a:off x="1707840" y="5024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a:t>
                  </a:r>
                  <a:endParaRPr b="0" lang="en-US" sz="1400" spc="-1" strike="noStrike">
                    <a:solidFill>
                      <a:srgbClr val="000000"/>
                    </a:solidFill>
                    <a:latin typeface="Arial"/>
                  </a:endParaRPr>
                </a:p>
              </p:txBody>
            </p:sp>
            <p:sp>
              <p:nvSpPr>
                <p:cNvPr id="206" name="Rectangle 12"/>
                <p:cNvSpPr/>
                <p:nvPr/>
              </p:nvSpPr>
              <p:spPr>
                <a:xfrm>
                  <a:off x="1707840" y="5635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 Red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Correction</a:t>
                  </a:r>
                  <a:endParaRPr b="0" lang="en-US" sz="1400" spc="-1" strike="noStrike">
                    <a:solidFill>
                      <a:srgbClr val="000000"/>
                    </a:solidFill>
                    <a:latin typeface="Arial"/>
                  </a:endParaRPr>
                </a:p>
              </p:txBody>
            </p:sp>
            <p:sp>
              <p:nvSpPr>
                <p:cNvPr id="207" name="Rectangle 13"/>
                <p:cNvSpPr/>
                <p:nvPr/>
              </p:nvSpPr>
              <p:spPr>
                <a:xfrm>
                  <a:off x="5974920" y="3188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dentiality</a:t>
                  </a:r>
                  <a:endParaRPr b="0" lang="en-US" sz="1400" spc="-1" strike="noStrike">
                    <a:solidFill>
                      <a:srgbClr val="000000"/>
                    </a:solidFill>
                    <a:latin typeface="Arial"/>
                  </a:endParaRPr>
                </a:p>
              </p:txBody>
            </p:sp>
            <p:sp>
              <p:nvSpPr>
                <p:cNvPr id="208" name="Rectangle 14"/>
                <p:cNvSpPr/>
                <p:nvPr/>
              </p:nvSpPr>
              <p:spPr>
                <a:xfrm>
                  <a:off x="5974920" y="4106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ity</a:t>
                  </a:r>
                  <a:endParaRPr b="0" lang="en-US" sz="1400" spc="-1" strike="noStrike">
                    <a:solidFill>
                      <a:srgbClr val="000000"/>
                    </a:solidFill>
                    <a:latin typeface="Arial"/>
                  </a:endParaRPr>
                </a:p>
              </p:txBody>
            </p:sp>
            <p:sp>
              <p:nvSpPr>
                <p:cNvPr id="209" name="Rectangle 15"/>
                <p:cNvSpPr/>
                <p:nvPr/>
              </p:nvSpPr>
              <p:spPr>
                <a:xfrm>
                  <a:off x="5974920" y="510048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ility</a:t>
                  </a:r>
                  <a:endParaRPr b="0" lang="en-US" sz="1400" spc="-1" strike="noStrike">
                    <a:solidFill>
                      <a:srgbClr val="000000"/>
                    </a:solidFill>
                    <a:latin typeface="Arial"/>
                  </a:endParaRPr>
                </a:p>
              </p:txBody>
            </p:sp>
          </p:grpSp>
          <p:sp>
            <p:nvSpPr>
              <p:cNvPr id="210" name="Text Box 16"/>
              <p:cNvSpPr/>
              <p:nvPr/>
            </p:nvSpPr>
            <p:spPr>
              <a:xfrm>
                <a:off x="1329840" y="2612880"/>
                <a:ext cx="221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ivacy Objectives</a:t>
                </a:r>
                <a:endParaRPr b="0" lang="en-US" sz="1800" spc="-1" strike="noStrike">
                  <a:solidFill>
                    <a:srgbClr val="000000"/>
                  </a:solidFill>
                  <a:latin typeface="Arial"/>
                </a:endParaRPr>
              </a:p>
            </p:txBody>
          </p:sp>
          <p:sp>
            <p:nvSpPr>
              <p:cNvPr id="211" name="Text Box 17"/>
              <p:cNvSpPr/>
              <p:nvPr/>
            </p:nvSpPr>
            <p:spPr>
              <a:xfrm>
                <a:off x="5621400" y="2590920"/>
                <a:ext cx="23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urity Objectives</a:t>
                </a:r>
                <a:endParaRPr b="0" lang="en-US" sz="1800" spc="-1" strike="noStrike">
                  <a:solidFill>
                    <a:srgbClr val="000000"/>
                  </a:solidFill>
                  <a:latin typeface="Arial"/>
                </a:endParaRPr>
              </a:p>
            </p:txBody>
          </p:sp>
        </p:grpSp>
        <p:sp>
          <p:nvSpPr>
            <p:cNvPr id="212" name="Line 18"/>
            <p:cNvSpPr/>
            <p:nvPr/>
          </p:nvSpPr>
          <p:spPr>
            <a:xfrm>
              <a:off x="3200400" y="335592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9"/>
            <p:cNvSpPr/>
            <p:nvPr/>
          </p:nvSpPr>
          <p:spPr>
            <a:xfrm>
              <a:off x="3200400" y="3432600"/>
              <a:ext cx="2743200" cy="91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0"/>
            <p:cNvSpPr/>
            <p:nvPr/>
          </p:nvSpPr>
          <p:spPr>
            <a:xfrm flipV="1">
              <a:off x="3200400" y="3432240"/>
              <a:ext cx="2743200" cy="61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1"/>
            <p:cNvSpPr/>
            <p:nvPr/>
          </p:nvSpPr>
          <p:spPr>
            <a:xfrm>
              <a:off x="3200400" y="4121280"/>
              <a:ext cx="2743200" cy="30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2"/>
            <p:cNvSpPr/>
            <p:nvPr/>
          </p:nvSpPr>
          <p:spPr>
            <a:xfrm>
              <a:off x="3200400" y="4197240"/>
              <a:ext cx="2743200" cy="107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3"/>
            <p:cNvSpPr/>
            <p:nvPr/>
          </p:nvSpPr>
          <p:spPr>
            <a:xfrm flipV="1">
              <a:off x="3200400" y="4503600"/>
              <a:ext cx="274320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 name="Line 24"/>
            <p:cNvSpPr/>
            <p:nvPr/>
          </p:nvSpPr>
          <p:spPr>
            <a:xfrm>
              <a:off x="3200400" y="4656240"/>
              <a:ext cx="2743200" cy="68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5"/>
            <p:cNvSpPr/>
            <p:nvPr/>
          </p:nvSpPr>
          <p:spPr>
            <a:xfrm>
              <a:off x="3200400" y="5191920"/>
              <a:ext cx="2743200" cy="22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6"/>
            <p:cNvSpPr/>
            <p:nvPr/>
          </p:nvSpPr>
          <p:spPr>
            <a:xfrm flipV="1">
              <a:off x="3200400" y="3508560"/>
              <a:ext cx="2743200" cy="229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7"/>
            <p:cNvSpPr/>
            <p:nvPr/>
          </p:nvSpPr>
          <p:spPr>
            <a:xfrm flipV="1">
              <a:off x="3200400" y="5498280"/>
              <a:ext cx="2743200" cy="382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8"/>
            <p:cNvSpPr/>
            <p:nvPr/>
          </p:nvSpPr>
          <p:spPr>
            <a:xfrm>
              <a:off x="2514600" y="358560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9"/>
            <p:cNvSpPr/>
            <p:nvPr/>
          </p:nvSpPr>
          <p:spPr>
            <a:xfrm>
              <a:off x="2514600" y="419724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30"/>
            <p:cNvSpPr/>
            <p:nvPr/>
          </p:nvSpPr>
          <p:spPr>
            <a:xfrm>
              <a:off x="2514600" y="4809600"/>
              <a:ext cx="0" cy="30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31"/>
            <p:cNvSpPr/>
            <p:nvPr/>
          </p:nvSpPr>
          <p:spPr>
            <a:xfrm>
              <a:off x="2514600" y="542160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2"/>
            <p:cNvSpPr/>
            <p:nvPr/>
          </p:nvSpPr>
          <p:spPr>
            <a:xfrm>
              <a:off x="6705720" y="3585600"/>
              <a:ext cx="0" cy="61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33"/>
            <p:cNvSpPr/>
            <p:nvPr/>
          </p:nvSpPr>
          <p:spPr>
            <a:xfrm>
              <a:off x="6705720" y="4503600"/>
              <a:ext cx="0" cy="68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229"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2D559A8-B8BB-49F5-A2C3-AD987A253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457200" y="2362320"/>
            <a:ext cx="8305920" cy="3310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ir Information Practice Principles</a:t>
            </a:r>
            <a:r>
              <a:rPr b="1" lang="en-US" sz="3300" spc="-1" strike="noStrike">
                <a:solidFill>
                  <a:srgbClr val="551a07"/>
                </a:solidFill>
                <a:latin typeface="Arial"/>
              </a:rPr>
              <a:t> </a:t>
            </a:r>
            <a:endParaRPr b="0" lang="en-US" sz="3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738B990-7826-4882-86F5-77B246831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4"/>
          <p:cNvSpPr/>
          <p:nvPr/>
        </p:nvSpPr>
        <p:spPr>
          <a:xfrm>
            <a:off x="838080" y="1793880"/>
            <a:ext cx="7925040" cy="3995640"/>
          </a:xfrm>
          <a:prstGeom prst="rect">
            <a:avLst/>
          </a:prstGeom>
          <a:noFill/>
          <a:ln w="0">
            <a:noFill/>
          </a:ln>
        </p:spPr>
        <p:style>
          <a:lnRef idx="0"/>
          <a:fillRef idx="0"/>
          <a:effectRef idx="0"/>
          <a:fontRef idx="minor"/>
        </p:style>
        <p:txBody>
          <a:bodyPr lIns="90000" rIns="90000" tIns="46800" bIns="46800" anchor="t">
            <a:spAutoFit/>
          </a:bodyPr>
          <a:p>
            <a:pPr marL="225360" algn="ct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ting It Into Action</a:t>
            </a:r>
            <a:endParaRPr b="0" lang="en-US" sz="2000" spc="-1" strike="noStrike">
              <a:solidFill>
                <a:srgbClr val="000000"/>
              </a:solidFill>
              <a:latin typeface="Arial"/>
            </a:endParaRPr>
          </a:p>
          <a:p>
            <a:pPr marL="225360">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t the flow of PII both inside and leaving your organization.</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points of exit.</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 and categorize PII identified in your flowchart.</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your flowchart with the CIO and other stakeholders.</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the flowchart annually.</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osswalk information technology, privacy and information                                 </a:t>
            </a:r>
            <a:r>
              <a:rPr b="0" lang="en-US" sz="1800" spc="-1" strike="noStrike">
                <a:solidFill>
                  <a:srgbClr val="000000"/>
                </a:solidFill>
                <a:latin typeface="Arial"/>
              </a:rPr>
              <a:t>	</a:t>
            </a:r>
            <a:r>
              <a:rPr b="0" lang="en-US" sz="1800" spc="-1" strike="noStrike">
                <a:solidFill>
                  <a:srgbClr val="000000"/>
                </a:solidFill>
                <a:latin typeface="Arial"/>
              </a:rPr>
              <a:t>assurance  policies.</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decision flowchart to assess the risk level of PII.</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ild privacy in during the early stages of the syste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velopment life cycle.</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train, train …</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y on top of the latest technology trend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232"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7B17C3C7-7F4B-4997-99AF-02C68E1119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2800" spc="-1" strike="noStrike">
                <a:solidFill>
                  <a:srgbClr val="000000"/>
                </a:solidFill>
                <a:latin typeface="Arial Black"/>
              </a:rPr>
              <a:t>A CALL TO LEADERSHIP</a:t>
            </a:r>
            <a:endParaRPr b="0" lang="en-US" sz="2800" spc="-1" strike="noStrike">
              <a:solidFill>
                <a:srgbClr val="551a07"/>
              </a:solidFill>
              <a:latin typeface="Arial Black"/>
            </a:endParaRPr>
          </a:p>
        </p:txBody>
      </p:sp>
      <p:sp>
        <p:nvSpPr>
          <p:cNvPr id="23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
          <p:cNvSpPr/>
          <p:nvPr/>
        </p:nvSpPr>
        <p:spPr>
          <a:xfrm>
            <a:off x="685800" y="1752480"/>
            <a:ext cx="7620120" cy="28958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vacy Act of 1974</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vacy Impact Assessments</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iance Reporting</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each Management</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the list goes on …</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Job Is Never Don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069C7AE9-8F54-4114-A28C-F4BB6EC68E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762120" y="1752120"/>
            <a:ext cx="7696080" cy="403884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estions/Comment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2" marL="1143000" indent="0">
              <a:spcAft>
                <a:spcPts val="21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Aft>
                <a:spcPts val="21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1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Arial"/>
            </a:endParaRPr>
          </a:p>
          <a:p>
            <a:pPr lvl="3" marL="1600200" indent="0">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pic>
        <p:nvPicPr>
          <p:cNvPr id="237" name="" descr=""/>
          <p:cNvPicPr/>
          <p:nvPr/>
        </p:nvPicPr>
        <p:blipFill>
          <a:blip r:embed="rId1"/>
          <a:stretch/>
        </p:blipFill>
        <p:spPr>
          <a:xfrm>
            <a:off x="1523880" y="3048120"/>
            <a:ext cx="6400800" cy="2484360"/>
          </a:xfrm>
          <a:prstGeom prst="rect">
            <a:avLst/>
          </a:prstGeom>
          <a:ln w="19080">
            <a:solidFill>
              <a:srgbClr val="000000"/>
            </a:solidFill>
            <a:miter/>
          </a:ln>
        </p:spPr>
      </p:pic>
      <p:sp>
        <p:nvSpPr>
          <p:cNvPr id="3" name="PlaceHolder 2"/>
          <p:cNvSpPr>
            <a:spLocks noGrp="1"/>
          </p:cNvSpPr>
          <p:nvPr>
            <p:ph type="sldNum" idx="2"/>
          </p:nvPr>
        </p:nvSpPr>
        <p:spPr/>
        <p:txBody>
          <a:bodyPr/>
          <a:p>
            <a:fld id="{4D708610-BABF-4CFB-B038-97F60F521C4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6"/>
          <p:cNvSpPr/>
          <p:nvPr/>
        </p:nvSpPr>
        <p:spPr>
          <a:xfrm>
            <a:off x="762120" y="1692360"/>
            <a:ext cx="8001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report “Alternatives Exist for Enhancing Protection of Personally Identifiable Information”  May 2008 provides a representation of Fair Information Practice Principles.</a:t>
            </a:r>
            <a:endParaRPr b="0" lang="en-US" sz="1400" spc="-1" strike="noStrike">
              <a:solidFill>
                <a:srgbClr val="000000"/>
              </a:solidFill>
              <a:latin typeface="Arial"/>
            </a:endParaRPr>
          </a:p>
        </p:txBody>
      </p:sp>
      <p:graphicFrame>
        <p:nvGraphicFramePr>
          <p:cNvPr id="102" name=""/>
          <p:cNvGraphicFramePr/>
          <p:nvPr/>
        </p:nvGraphicFramePr>
        <p:xfrm>
          <a:off x="1066680" y="2286000"/>
          <a:ext cx="7086600" cy="3929040"/>
        </p:xfrm>
        <a:graphic>
          <a:graphicData uri="http://schemas.openxmlformats.org/drawingml/2006/table">
            <a:tbl>
              <a:tblPr/>
              <a:tblGrid>
                <a:gridCol w="2024280"/>
                <a:gridCol w="5062320"/>
              </a:tblGrid>
              <a:tr h="4143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ir Information Practice Principle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 limi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lection of personal information should be limited, should be obtained by lawful and fair means, and, where appropriate, with the knowledge or consent of the individu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relevant to the purpose for which it is collected, and should be accurate, complete, and current as needed for that purpo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 specification</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s for the collection of personal information should be disclosed before collection and upon any change to that purpose, and its use should be limited to those purposes and compatible purpos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limitation</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not be disclosed or otherwise used for other than a specified purpose without consent of the individual or legal authorit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Text Box 2"/>
          <p:cNvSpPr/>
          <p:nvPr/>
        </p:nvSpPr>
        <p:spPr>
          <a:xfrm>
            <a:off x="1295280" y="365040"/>
            <a:ext cx="6553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Information Practice Principles</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D65F0E8E-055F-4866-BCB2-48456BFD1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1295280" y="365040"/>
            <a:ext cx="6553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Information Practice Principles</a:t>
            </a:r>
            <a:endParaRPr b="0" lang="en-US" sz="4000" spc="-1" strike="noStrike">
              <a:solidFill>
                <a:srgbClr val="000000"/>
              </a:solidFill>
              <a:latin typeface="Arial"/>
            </a:endParaRPr>
          </a:p>
        </p:txBody>
      </p:sp>
      <p:sp>
        <p:nvSpPr>
          <p:cNvPr id="105" name="Text Box 26"/>
          <p:cNvSpPr/>
          <p:nvPr/>
        </p:nvSpPr>
        <p:spPr>
          <a:xfrm>
            <a:off x="914400" y="1752480"/>
            <a:ext cx="7696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report “Alternatives Exist for Enhancing Protection of Personally Identifiable Information”  May 2008 provides a representation of Fair Information Practice Principles.</a:t>
            </a:r>
            <a:endParaRPr b="0" lang="en-US" sz="1400" spc="-1" strike="noStrike">
              <a:solidFill>
                <a:srgbClr val="000000"/>
              </a:solidFill>
              <a:latin typeface="Arial"/>
            </a:endParaRPr>
          </a:p>
        </p:txBody>
      </p:sp>
      <p:graphicFrame>
        <p:nvGraphicFramePr>
          <p:cNvPr id="106" name=""/>
          <p:cNvGraphicFramePr/>
          <p:nvPr/>
        </p:nvGraphicFramePr>
        <p:xfrm>
          <a:off x="914400" y="2362320"/>
          <a:ext cx="7391520" cy="3736800"/>
        </p:xfrm>
        <a:graphic>
          <a:graphicData uri="http://schemas.openxmlformats.org/drawingml/2006/table">
            <a:tbl>
              <a:tblPr/>
              <a:tblGrid>
                <a:gridCol w="2112840"/>
                <a:gridCol w="5278680"/>
              </a:tblGrid>
              <a:tr h="4352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ir Information Practice Principles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safeguards</a:t>
                      </a:r>
                      <a:r>
                        <a:rPr b="1"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protected with reasonable security safeguards against risks such as loss or unauthorized access, destruction, use, modification, or disclosur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should be informed about privacy policies and practices, and individuals should have ready means of learning about the use of personal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particip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should have the following rights: to know about the collection of personal information, to access that information, to request correction, and to challenge the denial of those righ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abilit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controlling the collection or use of personal information should be accountable for taking steps to ensure the implementation of these principl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1F81F60C-5C67-4D33-91C4-EEF243A45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2"/>
          <p:cNvSpPr/>
          <p:nvPr/>
        </p:nvSpPr>
        <p:spPr>
          <a:xfrm>
            <a:off x="2133720" y="762120"/>
            <a:ext cx="525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urity Objectives</a:t>
            </a:r>
            <a:endParaRPr b="0" lang="en-US" sz="4000" spc="-1" strike="noStrike">
              <a:solidFill>
                <a:srgbClr val="000000"/>
              </a:solidFill>
              <a:latin typeface="Arial"/>
            </a:endParaRPr>
          </a:p>
        </p:txBody>
      </p:sp>
      <p:sp>
        <p:nvSpPr>
          <p:cNvPr id="108" name="Rectangle 28"/>
          <p:cNvSpPr/>
          <p:nvPr/>
        </p:nvSpPr>
        <p:spPr>
          <a:xfrm>
            <a:off x="685800" y="1676520"/>
            <a:ext cx="8001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eserving authorized restrictions on information access and disclosure, including means for protecting personal privacy and proprietary inform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arding against improper information modification or destruction, and includes ensuring information non-repudiation and authenticity…” A loss of </a:t>
            </a:r>
            <a:r>
              <a:rPr b="0" i="1" lang="en-US" sz="2000" spc="-1" strike="noStrike">
                <a:solidFill>
                  <a:srgbClr val="000000"/>
                </a:solidFill>
                <a:latin typeface="Arial"/>
              </a:rPr>
              <a:t>integrity </a:t>
            </a:r>
            <a:r>
              <a:rPr b="0" lang="en-US" sz="2000" spc="-1" strike="noStrike">
                <a:solidFill>
                  <a:srgbClr val="000000"/>
                </a:solidFill>
                <a:latin typeface="Arial"/>
              </a:rPr>
              <a:t>is the unauthorized modification or destruction of inform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nsuring timely and reliable access to and use of information…” A loss of </a:t>
            </a:r>
            <a:r>
              <a:rPr b="0" i="1" lang="en-US" sz="2000" spc="-1" strike="noStrike">
                <a:solidFill>
                  <a:srgbClr val="000000"/>
                </a:solidFill>
                <a:latin typeface="Arial"/>
              </a:rPr>
              <a:t>availability </a:t>
            </a:r>
            <a:r>
              <a:rPr b="0" lang="en-US" sz="2000" spc="-1" strike="noStrike">
                <a:solidFill>
                  <a:srgbClr val="000000"/>
                </a:solidFill>
                <a:latin typeface="Arial"/>
              </a:rPr>
              <a:t>is the disruption of access to or use of information or an information system.</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8B1B4F0-8004-4C11-843D-597530C33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457200" y="2362320"/>
            <a:ext cx="8305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O Reports</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5B4FA3D3-6E52-42C2-96FC-9A4947DE1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3"/>
          <p:cNvSpPr/>
          <p:nvPr/>
        </p:nvSpPr>
        <p:spPr>
          <a:xfrm>
            <a:off x="17524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2" name="Text Box 2"/>
          <p:cNvSpPr/>
          <p:nvPr/>
        </p:nvSpPr>
        <p:spPr>
          <a:xfrm>
            <a:off x="380880" y="1765440"/>
            <a:ext cx="8305920" cy="44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GAO-08-603</a:t>
            </a:r>
            <a:r>
              <a:rPr b="1" i="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ivacy:  Agencies Should Ensure That Designated Senior Officials Have Oversight of Key Func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ttp://www.gao.gov/new.items/d08603.pdf</a:t>
            </a:r>
            <a:r>
              <a:rPr b="0"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y 2008</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0DB3EACA-AA46-4CE2-9965-24BA7CF94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Text Box 2"/>
          <p:cNvSpPr/>
          <p:nvPr/>
        </p:nvSpPr>
        <p:spPr>
          <a:xfrm>
            <a:off x="380880" y="175248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15" name="Text Box 4"/>
          <p:cNvSpPr/>
          <p:nvPr/>
        </p:nvSpPr>
        <p:spPr>
          <a:xfrm>
            <a:off x="533520" y="2286000"/>
            <a:ext cx="8153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describe laws and guidance that set requirements for senior agency official for privacy (SAOP) within federal agen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describe the organizational structures used by agencies to address privacy requirements and assess whether SAOPs have oversight over ke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analyzed the laws, related guidance, policies and procedures relating to key privacy functions at 12 agencies</a:t>
            </a:r>
            <a:endParaRPr b="0" lang="en-US" sz="2000" spc="-1" strike="noStrike">
              <a:solidFill>
                <a:srgbClr val="000000"/>
              </a:solidFill>
              <a:latin typeface="Arial"/>
            </a:endParaRPr>
          </a:p>
        </p:txBody>
      </p:sp>
      <p:sp>
        <p:nvSpPr>
          <p:cNvPr id="116" name="Text Box 5"/>
          <p:cNvSpPr/>
          <p:nvPr/>
        </p:nvSpPr>
        <p:spPr>
          <a:xfrm>
            <a:off x="985680" y="5381640"/>
            <a:ext cx="2402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and Human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land Security</a:t>
            </a:r>
            <a:endParaRPr b="0" lang="en-US" sz="1400" spc="-1" strike="noStrike">
              <a:solidFill>
                <a:srgbClr val="000000"/>
              </a:solidFill>
              <a:latin typeface="Arial"/>
            </a:endParaRPr>
          </a:p>
        </p:txBody>
      </p:sp>
      <p:sp>
        <p:nvSpPr>
          <p:cNvPr id="117" name="Text Box 6"/>
          <p:cNvSpPr/>
          <p:nvPr/>
        </p:nvSpPr>
        <p:spPr>
          <a:xfrm>
            <a:off x="3656520" y="5381640"/>
            <a:ext cx="884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y</a:t>
            </a:r>
            <a:endParaRPr b="0" lang="en-US" sz="1400" spc="-1" strike="noStrike">
              <a:solidFill>
                <a:srgbClr val="000000"/>
              </a:solidFill>
              <a:latin typeface="Arial"/>
            </a:endParaRPr>
          </a:p>
        </p:txBody>
      </p:sp>
      <p:sp>
        <p:nvSpPr>
          <p:cNvPr id="118" name="Text Box 7"/>
          <p:cNvSpPr/>
          <p:nvPr/>
        </p:nvSpPr>
        <p:spPr>
          <a:xfrm>
            <a:off x="4942080" y="5381640"/>
            <a:ext cx="3566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terans Affai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Security Admin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gency for International Develop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425AF010-1C01-401F-90DD-523073C808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1:49:50Z</dcterms:created>
  <dc:creator>WillsTL</dc:creator>
  <dc:description/>
  <dc:language>en-US</dc:language>
  <cp:lastModifiedBy>jacksoja</cp:lastModifiedBy>
  <dcterms:modified xsi:type="dcterms:W3CDTF">2009-11-18T15:07:36Z</dcterms:modified>
  <cp:revision>130</cp:revision>
  <dc:subject/>
  <dc:title>PRIVACY ACT 101 Privacy Awareness Training American Society of Access Professionals FOIA/Privacy Act Training Workshop</dc:title>
</cp:coreProperties>
</file>