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5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D8F1-CB2F-4003-AF99-DB790470F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BB3E-4AE7-41EE-8C50-801B939BD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0" y="4122360"/>
            <a:ext cx="6858000" cy="433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9EC7-27D4-48A0-B8C9-9925C0D54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0CB1-F157-4E01-8AE2-7F976990C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374760"/>
            <a:ext cx="4570200" cy="3429000"/>
          </a:xfrm>
          <a:prstGeom prst="rect">
            <a:avLst/>
          </a:prstGeom>
          <a:ln w="0">
            <a:noFill/>
          </a:ln>
        </p:spPr>
      </p:sp>
      <p:sp>
        <p:nvSpPr>
          <p:cNvPr id="701" name="PlaceHolder 2"/>
          <p:cNvSpPr>
            <a:spLocks noGrp="1"/>
          </p:cNvSpPr>
          <p:nvPr>
            <p:ph type="body"/>
          </p:nvPr>
        </p:nvSpPr>
        <p:spPr>
          <a:xfrm>
            <a:off x="0" y="3822480"/>
            <a:ext cx="6858000" cy="53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106B-949A-450D-84A6-5D12152E0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0" y="419724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F40D-F6F6-4105-A326-F7C69611F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5DB1-4DEE-4FE0-913D-611E157D9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EDB1-3BB4-4392-90A0-51873020D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CFE4-4FE8-48D0-8B0B-27FE61DF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555920" y="0"/>
            <a:ext cx="3795480" cy="2847960"/>
          </a:xfrm>
          <a:prstGeom prst="rect">
            <a:avLst/>
          </a:prstGeom>
          <a:ln w="0">
            <a:noFill/>
          </a:ln>
        </p:spPr>
      </p:sp>
      <p:sp>
        <p:nvSpPr>
          <p:cNvPr id="716" name="PlaceHolder 2"/>
          <p:cNvSpPr>
            <a:spLocks noGrp="1"/>
          </p:cNvSpPr>
          <p:nvPr>
            <p:ph type="body"/>
          </p:nvPr>
        </p:nvSpPr>
        <p:spPr>
          <a:xfrm>
            <a:off x="0" y="2922120"/>
            <a:ext cx="6858000" cy="60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E395-67A8-414C-9316-6AEC55971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6C38-CACB-4501-B8A5-6C7BEF0C5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330200" y="674640"/>
            <a:ext cx="4097520" cy="3073320"/>
          </a:xfrm>
          <a:prstGeom prst="rect">
            <a:avLst/>
          </a:prstGeom>
          <a:ln w="0">
            <a:noFill/>
          </a:ln>
        </p:spPr>
      </p:sp>
      <p:sp>
        <p:nvSpPr>
          <p:cNvPr id="719" name="PlaceHolder 2"/>
          <p:cNvSpPr>
            <a:spLocks noGrp="1"/>
          </p:cNvSpPr>
          <p:nvPr>
            <p:ph type="body"/>
          </p:nvPr>
        </p:nvSpPr>
        <p:spPr>
          <a:xfrm>
            <a:off x="0" y="3822840"/>
            <a:ext cx="6858000" cy="52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DE61-295C-4559-BD83-8A92D2785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0" y="4122720"/>
            <a:ext cx="6858000" cy="50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A4D1-5724-45A1-9340-613B2D808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53B0-557A-4381-A940-68859ABD7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2641-B784-4C21-A2E0-2AA0EC479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2035-88CE-4F99-A6F2-88A67CB3C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E2E0-D8AE-4721-9E7F-A2E065CDF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5422-7CC1-40E8-8D06-482F89D27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6577-D78B-452E-8AF0-D88C09C32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0404-68E5-4AC7-8A10-2D5274BB2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0C1B-813B-4383-93A4-B5228F83A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FA7C-84AC-4178-BC07-607034F77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24A3-F4EF-4465-94DB-2BE74E157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A8FE-75B5-48EC-9766-A095C751F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5EF1-84FA-49F4-814F-285CDCE4A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48C9-4C73-4530-8463-68A5866C1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0" y="412272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1C10-0F52-46FA-BC25-939E905F3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169E-F7CD-4A8A-9876-985BB1B6E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032B-AA6D-4E6C-8982-C068191F5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FA25-11EF-4C5D-91FC-096DEE923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004BD-9A92-4357-A41F-6B98A57BE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F5098165-9055-4BBC-8CEF-8F4309A1608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EB5EF-EA7F-412D-A2A6-4DFC03CB4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6EAAA-2403-459F-A153-A11D7B859F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DA73B-742D-4717-AFC6-29630B142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039FE-C2C2-4FF5-AEF6-9B3A1F8AF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6AF47-A1A9-430B-AB64-062C661DA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42DFB-4917-4D7D-8F79-374D0492C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635F4C-32D9-4508-9B2E-F93CFEA0A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96F895-FDDE-4959-8B79-CAD50E1ED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7AB449-7054-4BC1-9F8B-10B7860808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4F6224-BCFF-475B-B9BE-E96CF30C9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1"/>
          </p:nvPr>
        </p:nvSpPr>
        <p:spPr/>
        <p:txBody>
          <a:bodyPr/>
          <a:p>
            <a:fld id="{2B804F73-2823-4B4D-AB4D-C9138441518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89"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F1794-938C-479E-A55D-43EEBC3142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1"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F5481-6E63-44E4-9417-B13909BE0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4EEF54-F2B8-4435-8506-5DECAE28D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2B4AA-7435-49F2-BB7D-82390E58F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A70555-E6D3-43B1-AE4C-2FA278DFE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953BD-BAE3-4992-AE0A-A4F4A5A6B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4"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8629A-2172-42EB-96D3-E8325A143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8"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A1B83-48DE-482A-BCA6-3320F8106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0"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1"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E690C-491A-4219-99E6-6C8441CAF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6"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E20E73-D5DD-4619-A424-265094EB24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1"/>
          </p:nvPr>
        </p:nvSpPr>
        <p:spPr/>
        <p:txBody>
          <a:bodyPr/>
          <a:p>
            <a:fld id="{EDE253AB-4639-4ED3-8418-2E0DD5C0E1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8"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9"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0"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1"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2"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3"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7425F2-7D17-43CB-8855-975461AA52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D81E7B-CE11-481E-B6C0-16BDCE6AC5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2"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FBDEB7-E260-4488-A345-7AEC74BA2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4"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CDCA1-D2D0-4F29-B2C4-A07F04E11D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3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ABE72-22CC-4E52-B13E-AF67432E09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00267B-BCE1-4FC4-9FF0-7F26516EFE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A108C5-0A94-4D17-9B5A-7EA6D5B5A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6BF11-6839-4FD7-AAFD-283E29C92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7"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689A7-37E4-48EA-8AB9-0B5CD6FC2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1"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CDC9B-BF01-4912-AE0C-E8D0A213C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4023BE-FCA4-4149-A151-D61344AC08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3"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4"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80F2BA-8D39-4C61-9C4E-6275518C66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9"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AF0E93-27B3-4BCF-B7C3-8D933135CB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61"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2"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3"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4"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5"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6"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EAEA7B-591A-4F62-8EFA-0C01D8A3A2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A9EE8F-7351-4975-8CBC-CFDB77BB3F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5"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24545-8EC9-4412-BEC7-6D18A1303A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7"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92CBC2-F5A6-4808-90AD-7E22092C4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1EADEF-12AA-4085-9E93-7F76901BAE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D35C2B-68BD-4934-8FC6-BF9ACA1350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9BBD9E-48E8-4144-BC91-D527700F77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27ADD3-DF66-4273-8B33-CC000DB1A5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88B0601B-F069-44C9-B9E1-D40D189904D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0"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08189A-B6B4-44C5-AF42-DEBEA93C23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4"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58617-B802-4817-BDE2-614FA84465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6"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7"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1C5102-6ACC-4516-B7C0-0D325591E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2"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8268A5-FB93-49EE-ABDA-3DDA477510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4"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5"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6"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7"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8"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9"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7F9320-8048-4DF5-9BAF-A83C633AEB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7AD6E0-B609-4E16-8785-2E439F7E15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8"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0A889A-F8F5-45E8-98AB-8DB3C8039C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0"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7552CC-1F43-41C4-A2CD-49FE92D46F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7D68AE-DF92-4B59-B929-95622D85DE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B4CFB1-E711-4158-ACAB-EEEE4D3776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840010A1-B33D-46DF-AAA9-6ACCFAD6133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DBA160-B3BA-4958-9600-1B669C0E3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E22398-6867-41E5-A079-7F56E79D7B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3"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8B9C2D-40EE-45EB-BE7D-023EBD815A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7"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96E8B8-F7F0-4F8C-B433-FE4D978AD2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9"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0"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F1EEC5-CFE5-4B5B-AC86-5533CB533B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5"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0AD81A-8756-492E-8065-5A1778C90E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7"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8"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9"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0"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1"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2"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F5EF31-9A3E-41ED-80D9-CA042EE9B0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53EAA7C9-7DAB-46B7-B807-09A40C82DE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4E1CB769-F172-4E6E-A8DC-579798B559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2"/>
          </p:nvPr>
        </p:nvSpPr>
        <p:spPr/>
        <p:txBody>
          <a:bodyPr/>
          <a:p>
            <a:fld id="{32DC30C7-54FB-4DCD-A2FC-D36F609BA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29E4194C-60D7-4060-A29F-81BC10FD5E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5C32CF8E-D5CC-4A31-B03C-43FC80683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69D16803-FE46-43D4-AD35-EA0C634E01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6566FA03-8D15-4C5F-80FC-7473BA197E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F6D48579-79FC-4820-A697-9C6A8CD39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2"/>
          </p:nvPr>
        </p:nvSpPr>
        <p:spPr/>
        <p:txBody>
          <a:bodyPr/>
          <a:p>
            <a:fld id="{719E3287-1E20-4139-9F1A-7DE93F8092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2"/>
          </p:nvPr>
        </p:nvSpPr>
        <p:spPr/>
        <p:txBody>
          <a:bodyPr/>
          <a:p>
            <a:fld id="{EB0DFB5A-681F-4B35-934A-A94FA59E93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0199F5-1EA2-4184-A622-CC8B24576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74DC9-8DC8-4522-9F80-ECD23B858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F8FED-AEDF-4258-9768-A6D974A6B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CCB74-FE29-470E-9355-D02B4703D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8DD3D-B472-4A5E-B40C-2DB9C3A0A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93AD3214-0325-4C08-B58B-C15BED2AF9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DEF1F7-D601-445E-95F1-8139C5ED2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5E914-CCBE-42A1-98D6-51ABD29B3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20348-E65D-4B80-BF43-69A48082C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C41A5-7A24-4A8C-978A-7B95D350A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B1971-2C27-4001-83DD-3365C653C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A7DDA-D265-40B6-A52D-7FAE63E44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4122B2-FAF5-4435-AE5D-9263DDA7C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79C03C-A3E1-4375-AB65-CA0022E372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1"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40B71F97-F144-4D04-A93B-A72733852C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3"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91B24598-A817-434E-A7F4-26040E0AA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2970E1A2-3DBB-48F2-9983-0F92022F5D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3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A5802957-49BF-4688-B8B3-D3AEB84C31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6"/>
          </p:nvPr>
        </p:nvSpPr>
        <p:spPr/>
        <p:txBody>
          <a:bodyPr/>
          <a:p>
            <a:fld id="{C1B1E5E7-83FB-4034-B43D-F7C386D45A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6"/>
          </p:nvPr>
        </p:nvSpPr>
        <p:spPr/>
        <p:txBody>
          <a:bodyPr/>
          <a:p>
            <a:fld id="{17B0E80E-F2D6-4C8D-8868-BA4A3E97DEE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581091C7-3B4C-4D22-9EE8-106DC111AB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6"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9459CBC1-C654-4FA6-819A-CD76B92BC8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0"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3304458E-C459-483D-8716-4A54F6DD02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2"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3"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6CBEA6FD-ECB8-486C-85FF-C1CBCABF83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8"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6"/>
          </p:nvPr>
        </p:nvSpPr>
        <p:spPr/>
        <p:txBody>
          <a:bodyPr/>
          <a:p>
            <a:fld id="{6949B28F-F203-4AB6-8044-B2257F65E1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60"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1"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2"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3"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4"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5"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6"/>
          </p:nvPr>
        </p:nvSpPr>
        <p:spPr/>
        <p:txBody>
          <a:bodyPr/>
          <a:p>
            <a:fld id="{3F95907C-0BB7-4176-B9B3-027DBFBBE6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5127D-5E20-47CC-80AC-B9404E7E4B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F502B55F-0C80-4E26-AB10-F3E83CCF70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4"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3525B-6D76-46D2-ACD6-7547B74BD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6"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B78D1-A058-4460-B5BF-DAF187F83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B935-4910-42B8-BD1F-C439564E6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5E539-9CB9-429E-98D2-DA25CC753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E3888-9CEC-4E76-BC23-18930D75D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690B6-7CDE-4806-B1D2-5B4CDC837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9"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FB215-1D0E-42AF-A9DC-C2930BCD8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3"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F36B9-C319-494D-955E-7A87A1BCC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5"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6"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D09E4-21DA-4379-AECF-7798A7379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1"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042AF-F035-4001-8CD8-F35C518376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1"/>
          </p:nvPr>
        </p:nvSpPr>
        <p:spPr/>
        <p:txBody>
          <a:bodyPr/>
          <a:p>
            <a:fld id="{207D7144-A5B2-4384-BB45-7217FADEA9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03"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4"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5"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6"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7"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8"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907CE-744F-425B-A89F-54315DF07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6A02E-C0D7-4037-8DFE-D36A79902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943FE-754E-4A78-9E5B-D8FE9989A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88CF8-AF83-41E0-B2DA-C4B33DE2D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07A79-081C-476C-B270-CA19CC06C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9F806-2C0E-4278-B915-55327A0FD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BEC55-D3F9-4DB9-B238-57A1BAD37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4212A-E47A-44E7-AFCA-8BE304E02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E4728-2A4B-449F-BA59-F126C778E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E2418-4083-4137-9724-5DC540666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7EEAC877-CA34-4ACD-8DA4-3269176E49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C250B-5EBB-480E-9AC2-4B911FD5F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1E6ABF-A063-4555-94A7-F8E36FFE3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B8381E-F3B2-4761-A036-0F44E1F80C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C1DCD14-6113-4F39-AEBC-F56CAAE564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718087-89C2-4516-B756-C0E26F760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CDF26F-EDF1-47A6-8CC7-936E2180B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6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79E485-911E-4615-BE24-D08574D37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F0792B-D96E-48B2-AA74-A5862DB6E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B9C408-DBF3-4430-9D4E-1714D51C4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1A1373-9EC1-46E6-AB2E-C90D4D6E5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6CB464D6-F763-4981-A2CC-EF4ADB4124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9689FA-931F-45C1-BFA8-BA93DD819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7ADA21-F534-4948-9326-36BB7FE2D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A69B3C-E987-4BAB-BB39-79FF6E579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8D3A3A2-563D-416A-B5FC-7160B9864F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E11DE1E-B28C-46C9-8901-555049D1F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9149DF-618D-4382-A39B-99AD95F5F3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3"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7E687-E3C8-4687-A2AB-DE84B85F4A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5"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C3A63-5088-4F71-8131-A42799EF5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0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1A7E9-FC97-4FBE-B845-2019F4E61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54367-ECF5-47B6-AB34-21A0572D6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8ACAE4FA-8452-4FBD-AE4A-BB32A58B8A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C6C02-24DA-435C-974D-169D971AB5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BFC37-18A7-4915-9A54-7D4E2BB92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8"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83397-6086-410F-92FC-8A87641EE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2"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7F909-E6BF-417C-8D41-83945F69C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4"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5"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BBEA1-CD8D-4710-BEAA-606EB82A0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0"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F1B96A-5CD7-4675-8C0A-39BDF08A8B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32"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3"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4"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5"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6"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7"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680801-78B6-490D-9A49-B74A601C7A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4F8B6-AB49-4676-A584-0449457FE3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0504A-6CF5-4267-950E-82128C761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FAE67-698B-4A7F-B6C4-96C026DCA4C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0" name="Picture 7" descr="dpclo_slide_background_3.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 name="PlaceHolder 3"/>
          <p:cNvSpPr>
            <a:spLocks noGrp="1"/>
          </p:cNvSpPr>
          <p:nvPr>
            <p:ph type="sldNum" idx="1"/>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83B4-DF6B-406B-95C8-0AF7A9FEC3E1}"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4"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81" name="Picture 7" descr="dpclo_slide_background_3.jpg"/>
          <p:cNvPicPr/>
          <p:nvPr/>
        </p:nvPicPr>
        <p:blipFill>
          <a:blip r:embed="rId2"/>
          <a:stretch/>
        </p:blipFill>
        <p:spPr>
          <a:xfrm>
            <a:off x="0" y="0"/>
            <a:ext cx="9144000" cy="6858000"/>
          </a:xfrm>
          <a:prstGeom prst="rect">
            <a:avLst/>
          </a:prstGeom>
          <a:ln w="0">
            <a:noFill/>
          </a:ln>
        </p:spPr>
      </p:pic>
      <p:sp>
        <p:nvSpPr>
          <p:cNvPr id="38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8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85" name="PlaceHolder 3"/>
          <p:cNvSpPr>
            <a:spLocks noGrp="1"/>
          </p:cNvSpPr>
          <p:nvPr>
            <p:ph type="dt" idx="22"/>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4AF9-CE40-441C-B52B-7118945E3A67}"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87" name="PlaceHolder 5"/>
          <p:cNvSpPr>
            <a:spLocks noGrp="1"/>
          </p:cNvSpPr>
          <p:nvPr>
            <p:ph type="sldNum" idx="2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61EB-C159-4867-B9C1-4D41112B5767}"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24" name="Picture 7" descr="dpclo_slide_background_3.jpg"/>
          <p:cNvPicPr/>
          <p:nvPr/>
        </p:nvPicPr>
        <p:blipFill>
          <a:blip r:embed="rId2"/>
          <a:stretch/>
        </p:blipFill>
        <p:spPr>
          <a:xfrm>
            <a:off x="0" y="0"/>
            <a:ext cx="9144000" cy="6858000"/>
          </a:xfrm>
          <a:prstGeom prst="rect">
            <a:avLst/>
          </a:prstGeom>
          <a:ln w="0">
            <a:noFill/>
          </a:ln>
        </p:spPr>
      </p:pic>
      <p:sp>
        <p:nvSpPr>
          <p:cNvPr id="425"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27"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28" name="PlaceHolder 3"/>
          <p:cNvSpPr>
            <a:spLocks noGrp="1"/>
          </p:cNvSpPr>
          <p:nvPr>
            <p:ph type="dt" idx="25"/>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E628-789C-4343-9054-8EBC70A076EF}"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429" name="PlaceHolder 4"/>
          <p:cNvSpPr>
            <a:spLocks noGrp="1"/>
          </p:cNvSpPr>
          <p:nvPr>
            <p:ph type="ftr" idx="26"/>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30" name="PlaceHolder 5"/>
          <p:cNvSpPr>
            <a:spLocks noGrp="1"/>
          </p:cNvSpPr>
          <p:nvPr>
            <p:ph type="sldNum" idx="27"/>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3E31-D383-4E79-8BB9-0728454E4951}"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67" name="Picture 7" descr="dpclo_slide_background_3.jpg"/>
          <p:cNvPicPr/>
          <p:nvPr/>
        </p:nvPicPr>
        <p:blipFill>
          <a:blip r:embed="rId2"/>
          <a:stretch/>
        </p:blipFill>
        <p:spPr>
          <a:xfrm>
            <a:off x="0" y="0"/>
            <a:ext cx="9144000" cy="6858000"/>
          </a:xfrm>
          <a:prstGeom prst="rect">
            <a:avLst/>
          </a:prstGeom>
          <a:ln w="0">
            <a:noFill/>
          </a:ln>
        </p:spPr>
      </p:pic>
      <p:sp>
        <p:nvSpPr>
          <p:cNvPr id="468"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70"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71" name="PlaceHolder 3"/>
          <p:cNvSpPr>
            <a:spLocks noGrp="1"/>
          </p:cNvSpPr>
          <p:nvPr>
            <p:ph type="dt" idx="28"/>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7061-9892-417D-9C00-B7D5225DCB55}"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472" name="PlaceHolder 4"/>
          <p:cNvSpPr>
            <a:spLocks noGrp="1"/>
          </p:cNvSpPr>
          <p:nvPr>
            <p:ph type="ftr" idx="29"/>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73" name="PlaceHolder 5"/>
          <p:cNvSpPr>
            <a:spLocks noGrp="1"/>
          </p:cNvSpPr>
          <p:nvPr>
            <p:ph type="sldNum" idx="30"/>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D6A7-098F-4851-B824-8C8BA8C6F238}"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510" name="Picture 7" descr="dpclo_slide_background_3.jpg"/>
          <p:cNvPicPr/>
          <p:nvPr/>
        </p:nvPicPr>
        <p:blipFill>
          <a:blip r:embed="rId2"/>
          <a:stretch/>
        </p:blipFill>
        <p:spPr>
          <a:xfrm>
            <a:off x="0" y="0"/>
            <a:ext cx="9144000" cy="6858000"/>
          </a:xfrm>
          <a:prstGeom prst="rect">
            <a:avLst/>
          </a:prstGeom>
          <a:ln w="0">
            <a:noFill/>
          </a:ln>
        </p:spPr>
      </p:pic>
      <p:sp>
        <p:nvSpPr>
          <p:cNvPr id="511"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5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513"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5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D5E7-D229-4869-9B43-0CDFF982A00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se Privacy &amp; Civil Liberties Office</a:t>
            </a:r>
            <a:endParaRPr b="0" lang="en-US" sz="2400" spc="-1" strike="noStrike">
              <a:solidFill>
                <a:srgbClr val="000000"/>
              </a:solidFill>
              <a:latin typeface="Times New Roman"/>
            </a:endParaRPr>
          </a:p>
        </p:txBody>
      </p:sp>
      <p:sp>
        <p:nvSpPr>
          <p:cNvPr id="516" name="PlaceHolder 5"/>
          <p:cNvSpPr>
            <a:spLocks noGrp="1"/>
          </p:cNvSpPr>
          <p:nvPr>
            <p:ph type="sldNum" idx="33"/>
          </p:nvPr>
        </p:nvSpPr>
        <p:spPr>
          <a:xfrm>
            <a:off x="6552720" y="6244920"/>
            <a:ext cx="2133720" cy="476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69BB-F8E4-40F6-8D97-12ADA2A02BDF}"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1" name="Picture 7" descr="dpclo_slide_background_3.jpg"/>
          <p:cNvPicPr/>
          <p:nvPr/>
        </p:nvPicPr>
        <p:blipFill>
          <a:blip r:embed="rId2"/>
          <a:stretch/>
        </p:blipFill>
        <p:spPr>
          <a:xfrm>
            <a:off x="0" y="0"/>
            <a:ext cx="9144000" cy="6858000"/>
          </a:xfrm>
          <a:prstGeom prst="rect">
            <a:avLst/>
          </a:prstGeom>
          <a:ln w="0">
            <a:noFill/>
          </a:ln>
        </p:spPr>
      </p:pic>
      <p:sp>
        <p:nvSpPr>
          <p:cNvPr id="4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5" name="PlaceHolder 3"/>
          <p:cNvSpPr>
            <a:spLocks noGrp="1"/>
          </p:cNvSpPr>
          <p:nvPr>
            <p:ph type="sldNum" idx="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C2E3-9D8C-40EF-991C-510BBB9C7E8B}"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82" name="Picture 7" descr="dpclo_slide_background_3.jpg"/>
          <p:cNvPicPr/>
          <p:nvPr/>
        </p:nvPicPr>
        <p:blipFill>
          <a:blip r:embed="rId2"/>
          <a:stretch/>
        </p:blipFill>
        <p:spPr>
          <a:xfrm>
            <a:off x="0" y="0"/>
            <a:ext cx="9144000" cy="6858000"/>
          </a:xfrm>
          <a:prstGeom prst="rect">
            <a:avLst/>
          </a:prstGeom>
          <a:ln w="0">
            <a:noFill/>
          </a:ln>
        </p:spPr>
      </p:pic>
      <p:sp>
        <p:nvSpPr>
          <p:cNvPr id="8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8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8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86" name="PlaceHolder 3"/>
          <p:cNvSpPr>
            <a:spLocks noGrp="1"/>
          </p:cNvSpPr>
          <p:nvPr>
            <p:ph type="dt" idx="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C3D3-9415-4BF6-A938-7D50C1DA143B}"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87" name="PlaceHolder 4"/>
          <p:cNvSpPr>
            <a:spLocks noGrp="1"/>
          </p:cNvSpPr>
          <p:nvPr>
            <p:ph type="ftr" idx="4"/>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88" name="PlaceHolder 5"/>
          <p:cNvSpPr>
            <a:spLocks noGrp="1"/>
          </p:cNvSpPr>
          <p:nvPr>
            <p:ph type="sldNum" idx="5"/>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BD12-341F-494B-BF45-5C34AA9B50B8}"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25" name="Picture 7" descr="dpclo_slide_background_3.jpg"/>
          <p:cNvPicPr/>
          <p:nvPr/>
        </p:nvPicPr>
        <p:blipFill>
          <a:blip r:embed="rId2"/>
          <a:stretch/>
        </p:blipFill>
        <p:spPr>
          <a:xfrm>
            <a:off x="0" y="0"/>
            <a:ext cx="9144000" cy="6858000"/>
          </a:xfrm>
          <a:prstGeom prst="rect">
            <a:avLst/>
          </a:prstGeom>
          <a:ln w="0">
            <a:noFill/>
          </a:ln>
        </p:spPr>
      </p:pic>
      <p:sp>
        <p:nvSpPr>
          <p:cNvPr id="12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2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2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29" name="PlaceHolder 3"/>
          <p:cNvSpPr>
            <a:spLocks noGrp="1"/>
          </p:cNvSpPr>
          <p:nvPr>
            <p:ph type="sldNum" idx="6"/>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0855-373F-42D9-B669-AC65A5A5860F}"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66" name="Picture 7" descr="dpclo_slide_background_3.jpg"/>
          <p:cNvPicPr/>
          <p:nvPr/>
        </p:nvPicPr>
        <p:blipFill>
          <a:blip r:embed="rId2"/>
          <a:stretch/>
        </p:blipFill>
        <p:spPr>
          <a:xfrm>
            <a:off x="0" y="0"/>
            <a:ext cx="9144000" cy="6858000"/>
          </a:xfrm>
          <a:prstGeom prst="rect">
            <a:avLst/>
          </a:prstGeom>
          <a:ln w="0">
            <a:noFill/>
          </a:ln>
        </p:spPr>
      </p:pic>
      <p:sp>
        <p:nvSpPr>
          <p:cNvPr id="167"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9"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70" name="PlaceHolder 3"/>
          <p:cNvSpPr>
            <a:spLocks noGrp="1"/>
          </p:cNvSpPr>
          <p:nvPr>
            <p:ph type="dt" idx="7"/>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177C-2B16-4501-A3A0-23CB5F185FA0}"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171" name="PlaceHolder 4"/>
          <p:cNvSpPr>
            <a:spLocks noGrp="1"/>
          </p:cNvSpPr>
          <p:nvPr>
            <p:ph type="ftr" idx="8"/>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172" name="PlaceHolder 5"/>
          <p:cNvSpPr>
            <a:spLocks noGrp="1"/>
          </p:cNvSpPr>
          <p:nvPr>
            <p:ph type="sldNum" idx="9"/>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68C6-2DFA-4E9F-8AE6-C9E039A7B235}"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09" name="Picture 7" descr="dpclo_slide_background_3.jpg"/>
          <p:cNvPicPr/>
          <p:nvPr/>
        </p:nvPicPr>
        <p:blipFill>
          <a:blip r:embed="rId2"/>
          <a:stretch/>
        </p:blipFill>
        <p:spPr>
          <a:xfrm>
            <a:off x="0" y="0"/>
            <a:ext cx="9144000" cy="6858000"/>
          </a:xfrm>
          <a:prstGeom prst="rect">
            <a:avLst/>
          </a:prstGeom>
          <a:ln w="0">
            <a:noFill/>
          </a:ln>
        </p:spPr>
      </p:pic>
      <p:sp>
        <p:nvSpPr>
          <p:cNvPr id="210"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1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13" name="PlaceHolder 3"/>
          <p:cNvSpPr>
            <a:spLocks noGrp="1"/>
          </p:cNvSpPr>
          <p:nvPr>
            <p:ph type="dt" idx="10"/>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0116-D97F-4AC8-A691-385F3A5D26CD}"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214" name="PlaceHolder 4"/>
          <p:cNvSpPr>
            <a:spLocks noGrp="1"/>
          </p:cNvSpPr>
          <p:nvPr>
            <p:ph type="ftr" idx="11"/>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215" name="PlaceHolder 5"/>
          <p:cNvSpPr>
            <a:spLocks noGrp="1"/>
          </p:cNvSpPr>
          <p:nvPr>
            <p:ph type="sldNum" idx="1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C71F-158A-4225-BE7D-2B732325FE85}"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52" name="Picture 7" descr="dpclo_slide_background_3.jpg"/>
          <p:cNvPicPr/>
          <p:nvPr/>
        </p:nvPicPr>
        <p:blipFill>
          <a:blip r:embed="rId2"/>
          <a:stretch/>
        </p:blipFill>
        <p:spPr>
          <a:xfrm>
            <a:off x="0" y="0"/>
            <a:ext cx="9144000" cy="6858000"/>
          </a:xfrm>
          <a:prstGeom prst="rect">
            <a:avLst/>
          </a:prstGeom>
          <a:ln w="0">
            <a:noFill/>
          </a:ln>
        </p:spPr>
      </p:pic>
      <p:sp>
        <p:nvSpPr>
          <p:cNvPr id="25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5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56" name="PlaceHolder 3"/>
          <p:cNvSpPr>
            <a:spLocks noGrp="1"/>
          </p:cNvSpPr>
          <p:nvPr>
            <p:ph type="dt" idx="1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33EE-3448-4964-9D04-4DC2A59E4083}"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257" name="PlaceHolder 4"/>
          <p:cNvSpPr>
            <a:spLocks noGrp="1"/>
          </p:cNvSpPr>
          <p:nvPr>
            <p:ph type="sldNum" idx="1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341F-FF3B-4894-896F-B561D5053C95}"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258" name="PlaceHolder 5"/>
          <p:cNvSpPr>
            <a:spLocks noGrp="1"/>
          </p:cNvSpPr>
          <p:nvPr>
            <p:ph type="ftr" idx="15"/>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95" name="Picture 7" descr="dpclo_slide_background_3.jpg"/>
          <p:cNvPicPr/>
          <p:nvPr/>
        </p:nvPicPr>
        <p:blipFill>
          <a:blip r:embed="rId2"/>
          <a:stretch/>
        </p:blipFill>
        <p:spPr>
          <a:xfrm>
            <a:off x="0" y="0"/>
            <a:ext cx="9144000" cy="6858000"/>
          </a:xfrm>
          <a:prstGeom prst="rect">
            <a:avLst/>
          </a:prstGeom>
          <a:ln w="0">
            <a:noFill/>
          </a:ln>
        </p:spPr>
      </p:pic>
      <p:sp>
        <p:nvSpPr>
          <p:cNvPr id="29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9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99" name="PlaceHolder 3"/>
          <p:cNvSpPr>
            <a:spLocks noGrp="1"/>
          </p:cNvSpPr>
          <p:nvPr>
            <p:ph type="dt" idx="16"/>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7E01-7E88-4640-8A2F-4A4B63445D3B}"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300" name="PlaceHolder 4"/>
          <p:cNvSpPr>
            <a:spLocks noGrp="1"/>
          </p:cNvSpPr>
          <p:nvPr>
            <p:ph type="ftr" idx="17"/>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01" name="PlaceHolder 5"/>
          <p:cNvSpPr>
            <a:spLocks noGrp="1"/>
          </p:cNvSpPr>
          <p:nvPr>
            <p:ph type="sldNum" idx="18"/>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72CE-954D-479A-9978-AD4A3C3794B9}"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38" name="Picture 7" descr="dpclo_slide_background_3.jpg"/>
          <p:cNvPicPr/>
          <p:nvPr/>
        </p:nvPicPr>
        <p:blipFill>
          <a:blip r:embed="rId2"/>
          <a:stretch/>
        </p:blipFill>
        <p:spPr>
          <a:xfrm>
            <a:off x="0" y="0"/>
            <a:ext cx="9144000" cy="6858000"/>
          </a:xfrm>
          <a:prstGeom prst="rect">
            <a:avLst/>
          </a:prstGeom>
          <a:ln w="0">
            <a:noFill/>
          </a:ln>
        </p:spPr>
      </p:pic>
      <p:sp>
        <p:nvSpPr>
          <p:cNvPr id="339"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41"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42" name="PlaceHolder 3"/>
          <p:cNvSpPr>
            <a:spLocks noGrp="1"/>
          </p:cNvSpPr>
          <p:nvPr>
            <p:ph type="dt" idx="19"/>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0842-C1F4-45B6-9D06-D375E6BBB51F}" type="datetime">
              <a:rPr b="0" lang="en-US" sz="2400" spc="-1" strike="noStrike">
                <a:solidFill>
                  <a:srgbClr val="000000"/>
                </a:solidFill>
                <a:latin typeface="Times New Roman Bold Italic"/>
              </a:rPr>
              <a:t>07/30/26</a:t>
            </a:fld>
            <a:endParaRPr b="0" lang="en-US" sz="2400" spc="-1" strike="noStrike">
              <a:solidFill>
                <a:srgbClr val="000000"/>
              </a:solidFill>
              <a:latin typeface="Times New Roman"/>
            </a:endParaRPr>
          </a:p>
        </p:txBody>
      </p:sp>
      <p:sp>
        <p:nvSpPr>
          <p:cNvPr id="343" name="PlaceHolder 4"/>
          <p:cNvSpPr>
            <a:spLocks noGrp="1"/>
          </p:cNvSpPr>
          <p:nvPr>
            <p:ph type="ftr" idx="20"/>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44"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8158-87C2-4F98-91DD-A89F17DE590C}"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Content Placeholder 5"/>
          <p:cNvSpPr/>
          <p:nvPr/>
        </p:nvSpPr>
        <p:spPr>
          <a:xfrm>
            <a:off x="533520" y="1447920"/>
            <a:ext cx="8153280" cy="40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Safeguarding Personally Identifiable Information (PII)</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Samuel P. Jenkin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irector for Privacy</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efense Privacy and Civil Liberties Offic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Identity Protection and Management Expo</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Orlando, Florida</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April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86" name=""/>
          <p:cNvSpPr txBox="1"/>
          <p:nvPr/>
        </p:nvSpPr>
        <p:spPr>
          <a:xfrm>
            <a:off x="457200" y="1447560"/>
            <a:ext cx="8153280" cy="408924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Technical Safeguards</a:t>
            </a:r>
            <a:endParaRPr b="1" lang="en-US" sz="4400" spc="-1" strike="noStrike">
              <a:solidFill>
                <a:srgbClr val="000000"/>
              </a:solidFill>
              <a:latin typeface="Times New Roman Bold Italic"/>
            </a:endParaRPr>
          </a:p>
        </p:txBody>
      </p:sp>
      <p:sp>
        <p:nvSpPr>
          <p:cNvPr id="58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7EE0-C041-411A-B0D1-218932C513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47920"/>
            <a:ext cx="8229600" cy="468288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urity Requirements include:</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cryp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rol Remote Acces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Out Func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Log and Verify.</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Understanding of Responsibilities.</a:t>
            </a:r>
            <a:endParaRPr b="1" lang="en-US" sz="2600" spc="-1" strike="noStrike">
              <a:solidFill>
                <a:srgbClr val="000000"/>
              </a:solidFill>
              <a:latin typeface="Times New Roman Bold Italic"/>
            </a:endParaRPr>
          </a:p>
        </p:txBody>
      </p:sp>
      <p:sp>
        <p:nvSpPr>
          <p:cNvPr id="58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270F-EEB0-43F8-B4A0-6CF60CEFB7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2" name=""/>
          <p:cNvSpPr txBox="1"/>
          <p:nvPr/>
        </p:nvSpPr>
        <p:spPr>
          <a:xfrm>
            <a:off x="457200" y="1447560"/>
            <a:ext cx="8153280" cy="4089240"/>
          </a:xfrm>
          <a:prstGeom prst="rect">
            <a:avLst/>
          </a:prstGeom>
          <a:noFill/>
          <a:ln w="0">
            <a:noFill/>
          </a:ln>
        </p:spPr>
        <p:txBody>
          <a:bodyPr anchor="t">
            <a:normAutofit fontScale="93000"/>
          </a:bodyPr>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all emails with PII are encrypted and that all recipients have a ‘need to know.’</a:t>
            </a:r>
            <a:endParaRPr b="1" lang="en-US" sz="30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records are access controlled.</a:t>
            </a:r>
            <a:endParaRPr b="1" lang="en-US" sz="3000" spc="-1" strike="noStrike">
              <a:solidFill>
                <a:srgbClr val="000000"/>
              </a:solidFill>
              <a:latin typeface="Times New Roman Bold Italic"/>
            </a:endParaRPr>
          </a:p>
          <a:p>
            <a:pPr lvl="1" marL="671400" indent="-25344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II on shared drives should only be accessible to people with a ‘need to know’</a:t>
            </a:r>
            <a:endParaRPr b="1" lang="en-US" sz="26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Social Security numbers (including the last 4) are not posted on public facing websites.</a:t>
            </a:r>
            <a:endParaRPr b="1" lang="en-US" sz="3000" spc="-1" strike="noStrike">
              <a:solidFill>
                <a:srgbClr val="000000"/>
              </a:solidFill>
              <a:latin typeface="Times New Roman Bold Italic"/>
            </a:endParaRPr>
          </a:p>
        </p:txBody>
      </p:sp>
      <p:sp>
        <p:nvSpPr>
          <p:cNvPr id="59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DF25-7C16-43A8-AE53-C9AA782CB9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95" name="PlaceHolder 2"/>
          <p:cNvSpPr>
            <a:spLocks noGrp="1"/>
          </p:cNvSpPr>
          <p:nvPr>
            <p:ph/>
          </p:nvPr>
        </p:nvSpPr>
        <p:spPr>
          <a:xfrm>
            <a:off x="152280" y="129492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Administrative Safeguards </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9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280-9C89-4A43-BEB6-3D67A8EAEF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olicies</a:t>
            </a:r>
            <a:endParaRPr b="1" lang="en-US" sz="4000" spc="-1" strike="noStrike">
              <a:solidFill>
                <a:srgbClr val="ffffff"/>
              </a:solidFill>
              <a:latin typeface="Times New Roman"/>
            </a:endParaRPr>
          </a:p>
        </p:txBody>
      </p:sp>
      <p:sp>
        <p:nvSpPr>
          <p:cNvPr id="598" name=""/>
          <p:cNvSpPr txBox="1"/>
          <p:nvPr/>
        </p:nvSpPr>
        <p:spPr>
          <a:xfrm>
            <a:off x="456840" y="1447920"/>
            <a:ext cx="8458200" cy="4682880"/>
          </a:xfrm>
          <a:prstGeom prst="rect">
            <a:avLst/>
          </a:prstGeom>
          <a:noFill/>
          <a:ln w="0">
            <a:noFill/>
          </a:ln>
        </p:spPr>
        <p:txBody>
          <a:bodyPr anchor="t">
            <a:normAutofit/>
          </a:bodyPr>
          <a:p>
            <a:pPr marL="514440" indent="-514440">
              <a:spcBef>
                <a:spcPts val="751"/>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must have policies in place for PII handling, specifically def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Individual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Action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sequences.</a:t>
            </a:r>
            <a:endParaRPr b="1" lang="en-US" sz="2600" spc="-1" strike="noStrike">
              <a:solidFill>
                <a:srgbClr val="000000"/>
              </a:solidFill>
              <a:latin typeface="Times New Roman Bold Italic"/>
            </a:endParaRPr>
          </a:p>
        </p:txBody>
      </p:sp>
      <p:sp>
        <p:nvSpPr>
          <p:cNvPr id="59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FA9C-03F2-4710-80CD-7D5D78E304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are responsible to ensure staff handling PII are adequately trained:</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must be commensurate with an individual’s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will be a prerequisite before permitted access to DoD system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uch training is mandatory for affected DoD personnel and contractors.</a:t>
            </a:r>
            <a:endParaRPr b="1" lang="en-US" sz="2600" spc="-1" strike="noStrike">
              <a:solidFill>
                <a:srgbClr val="000000"/>
              </a:solidFill>
              <a:latin typeface="Times New Roman Bold Italic"/>
            </a:endParaRPr>
          </a:p>
        </p:txBody>
      </p:sp>
      <p:sp>
        <p:nvSpPr>
          <p:cNvPr id="601" name="PlaceHolder 1"/>
          <p:cNvSpPr>
            <a:spLocks noGrp="1"/>
          </p:cNvSpPr>
          <p:nvPr>
            <p:ph type="title"/>
          </p:nvPr>
        </p:nvSpPr>
        <p:spPr>
          <a:xfrm>
            <a:off x="-360" y="-360"/>
            <a:ext cx="8915400" cy="10666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5CE7-71B2-4287-B344-ACA3E643D3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4"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omponents shall ensure receipt of Privacy Act training, such as:</a:t>
            </a:r>
            <a:endParaRPr b="1" lang="en-US" sz="30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Orientation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alized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nagement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ivacy Act Systems of Records Training.</a:t>
            </a:r>
            <a:endParaRPr b="1" lang="en-US" sz="2600" spc="-1" strike="noStrike">
              <a:solidFill>
                <a:srgbClr val="000000"/>
              </a:solidFill>
              <a:latin typeface="Times New Roman Bold Italic"/>
            </a:endParaRPr>
          </a:p>
        </p:txBody>
      </p:sp>
      <p:sp>
        <p:nvSpPr>
          <p:cNvPr id="60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D22D-A894-4BAE-B890-3942F521A2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7"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nnual Refresher Tra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d to ensure continued understand of their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personnel with authorized access to PII shall annually acknowledging their understanding.</a:t>
            </a:r>
            <a:endParaRPr b="1" lang="en-US" sz="2600" spc="-1" strike="noStrike">
              <a:solidFill>
                <a:srgbClr val="000000"/>
              </a:solidFill>
              <a:latin typeface="Times New Roman Bold Italic"/>
            </a:endParaRPr>
          </a:p>
        </p:txBody>
      </p:sp>
      <p:sp>
        <p:nvSpPr>
          <p:cNvPr id="60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180B-DC66-4E29-830A-D97862E331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DoD Components shall expand their training materials and program to include specific privacy and security awareness segments to their training program(s).</a:t>
            </a:r>
            <a:endParaRPr b="1" lang="en-US" sz="3000" spc="-1" strike="noStrike">
              <a:solidFill>
                <a:srgbClr val="000000"/>
              </a:solidFill>
              <a:latin typeface="Times New Roman Bold Italic"/>
            </a:endParaRPr>
          </a:p>
        </p:txBody>
      </p:sp>
      <p:sp>
        <p:nvSpPr>
          <p:cNvPr id="61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1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516E-6D4A-4520-859B-7629E74E07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3" name=""/>
          <p:cNvSpPr txBox="1"/>
          <p:nvPr/>
        </p:nvSpPr>
        <p:spPr>
          <a:xfrm>
            <a:off x="457200" y="1142640"/>
            <a:ext cx="8229600" cy="4987800"/>
          </a:xfrm>
          <a:prstGeom prst="rect">
            <a:avLst/>
          </a:prstGeom>
          <a:noFill/>
          <a:ln w="0">
            <a:noFill/>
          </a:ln>
        </p:spPr>
        <p:txBody>
          <a:bodyPr anchor="t">
            <a:normAutofit fontScale="93000"/>
          </a:bodyPr>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xis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FISMA Requirements.</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ncident Handling and Response Mechanism.</a:t>
            </a:r>
            <a:endParaRPr b="1" lang="en-US" sz="2600" spc="-1" strike="noStrike">
              <a:solidFill>
                <a:srgbClr val="000000"/>
              </a:solidFill>
              <a:latin typeface="Times New Roman Bold Italic"/>
            </a:endParaRPr>
          </a:p>
          <a:p>
            <a:pPr marL="478080" indent="-478080" algn="ctr">
              <a:spcBef>
                <a:spcPts val="1800"/>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Bold Italic"/>
              </a:rPr>
              <a:t>OMB M-07-16 modified breach reporting rules.</a:t>
            </a:r>
            <a:endParaRPr b="1" lang="en-US" sz="3000" spc="-1" strike="noStrike">
              <a:solidFill>
                <a:srgbClr val="000000"/>
              </a:solidFill>
              <a:latin typeface="Times New Roman Bold Italic"/>
            </a:endParaRPr>
          </a:p>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Modified Agency Repor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S-CERT Modification.</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velop and Publish a Routine Use.</a:t>
            </a:r>
            <a:endParaRPr b="1" lang="en-US" sz="26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ffective Response.</a:t>
            </a:r>
            <a:endParaRPr b="1" lang="en-US" sz="24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isclosure of Information.</a:t>
            </a:r>
            <a:endParaRPr b="1" lang="en-US" sz="2400" spc="-1" strike="noStrike">
              <a:solidFill>
                <a:srgbClr val="000000"/>
              </a:solidFill>
              <a:latin typeface="Times New Roman Bold Italic"/>
            </a:endParaRPr>
          </a:p>
        </p:txBody>
      </p:sp>
      <p:sp>
        <p:nvSpPr>
          <p:cNvPr id="61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E9A0-1556-4958-9601-EEAAD6175A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4000" spc="-1" strike="noStrike">
                <a:solidFill>
                  <a:srgbClr val="ffffff"/>
                </a:solidFill>
                <a:latin typeface="Times New Roman"/>
              </a:rPr>
              <a:t>Purpose</a:t>
            </a:r>
            <a:endParaRPr b="1" lang="en-US" sz="4000" spc="-1" strike="noStrike">
              <a:solidFill>
                <a:srgbClr val="ffffff"/>
              </a:solidFill>
              <a:latin typeface="Times New Roman"/>
            </a:endParaRPr>
          </a:p>
        </p:txBody>
      </p:sp>
      <p:sp>
        <p:nvSpPr>
          <p:cNvPr id="562" name="PlaceHolder 2"/>
          <p:cNvSpPr>
            <a:spLocks noGrp="1"/>
          </p:cNvSpPr>
          <p:nvPr>
            <p:ph/>
          </p:nvPr>
        </p:nvSpPr>
        <p:spPr>
          <a:xfrm>
            <a:off x="380880" y="1828440"/>
            <a:ext cx="8382240" cy="4149720"/>
          </a:xfrm>
          <a:prstGeom prst="rect">
            <a:avLst/>
          </a:prstGeom>
          <a:noFill/>
          <a:ln w="0">
            <a:noFill/>
          </a:ln>
        </p:spPr>
        <p:txBody>
          <a:bodyPr anchor="t">
            <a:normAutofit/>
          </a:bodyPr>
          <a:p>
            <a:pPr indent="0">
              <a:spcBef>
                <a:spcPts val="200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Bold Italic"/>
              </a:rPr>
              <a:t>The purpose of this presentation is to provide a summary of the administrative, physical, and technical safeguards that are applicable to systems that collect, use, maintain, or disseminate personally identifiable information (PII).</a:t>
            </a:r>
            <a:endParaRPr b="1" lang="en-US" sz="3200" spc="-1" strike="noStrike">
              <a:solidFill>
                <a:srgbClr val="000000"/>
              </a:solidFill>
              <a:latin typeface="Times New Roman Bold Italic"/>
            </a:endParaRPr>
          </a:p>
          <a:p>
            <a:pPr lvl="1" marL="722160" indent="0">
              <a:spcBef>
                <a:spcPts val="550"/>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Bold Italic"/>
            </a:endParaRPr>
          </a:p>
          <a:p>
            <a:pPr lvl="1" marL="722160" indent="0">
              <a:spcBef>
                <a:spcPts val="649"/>
              </a:spcBef>
              <a:buNone/>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3144-FC31-46B7-86E6-1C641A6CA7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6" name=""/>
          <p:cNvSpPr txBox="1"/>
          <p:nvPr/>
        </p:nvSpPr>
        <p:spPr>
          <a:xfrm>
            <a:off x="457200" y="1219320"/>
            <a:ext cx="8229600" cy="483552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Breach Notification: Criteria to Consider:</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ether Breach Notification is Required.</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lines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urce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ent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eans of Providing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o Receives Notification: Public Outreach in Response to a Breach.</a:t>
            </a:r>
            <a:endParaRPr b="1" lang="en-US" sz="2600" spc="-1" strike="noStrike">
              <a:solidFill>
                <a:srgbClr val="000000"/>
              </a:solidFill>
              <a:latin typeface="Times New Roman Bold Italic"/>
            </a:endParaRPr>
          </a:p>
          <a:p>
            <a:pPr lvl="1" marL="722160" indent="-272880">
              <a:spcBef>
                <a:spcPts val="649"/>
              </a:spcBef>
              <a:spcAft>
                <a:spcPts val="1199"/>
              </a:spcAft>
              <a:buClr>
                <a:srgbClr val="6ea0b0"/>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61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D084-3593-4CE7-8F38-64866258BC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19" name=""/>
          <p:cNvSpPr txBox="1"/>
          <p:nvPr/>
        </p:nvSpPr>
        <p:spPr>
          <a:xfrm>
            <a:off x="457200" y="1218960"/>
            <a:ext cx="8305920" cy="491148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nder the Federal Information Security Management Act (FISMA) agencies must:</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PII holdings &amp; report to Congress Annually.</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and reduce the volume of PII.</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fically, Agencies Must Reduce the Use of Social Security Numbers.</a:t>
            </a:r>
            <a:endParaRPr b="1" lang="en-US" sz="26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iminate Unnecessary Use.</a:t>
            </a:r>
            <a:endParaRPr b="1" lang="en-US" sz="24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xplore Alternatives.</a:t>
            </a:r>
            <a:endParaRPr b="1" lang="en-US" sz="2400" spc="-1" strike="noStrike">
              <a:solidFill>
                <a:srgbClr val="000000"/>
              </a:solidFill>
              <a:latin typeface="Times New Roman Bold Italic"/>
            </a:endParaRPr>
          </a:p>
        </p:txBody>
      </p:sp>
      <p:sp>
        <p:nvSpPr>
          <p:cNvPr id="62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8B37-A447-469E-AC1C-A0667A2469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0880" y="1371240"/>
            <a:ext cx="8229600" cy="4530600"/>
          </a:xfrm>
          <a:prstGeom prst="rect">
            <a:avLst/>
          </a:prstGeom>
          <a:noFill/>
          <a:ln w="0">
            <a:noFill/>
          </a:ln>
        </p:spPr>
        <p:txBody>
          <a:bodyPr anchor="t">
            <a:normAutofit fontScale="94000"/>
          </a:bodyPr>
          <a:p>
            <a:pPr marL="393840" indent="-35964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s part of FISMA privacy reporting, DoD Components are required to:</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firm that they have established, or are in the process of establishing, PII review plans; or</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 a schedule for periodically updating their review of their holdings.</a:t>
            </a:r>
            <a:endParaRPr b="1" lang="en-US" sz="2600" spc="-1" strike="noStrike">
              <a:solidFill>
                <a:srgbClr val="000000"/>
              </a:solidFill>
              <a:latin typeface="Times New Roman Bold Italic"/>
            </a:endParaRPr>
          </a:p>
          <a:p>
            <a:pPr marL="393840" indent="-3596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a:t>
            </a:r>
            <a:endParaRPr b="1" lang="en-US" sz="2600" spc="-1" strike="noStrike">
              <a:solidFill>
                <a:srgbClr val="000000"/>
              </a:solidFill>
              <a:latin typeface="Times New Roman Bold Italic"/>
            </a:endParaRPr>
          </a:p>
          <a:p>
            <a:pPr lvl="1" marL="678600" indent="-25632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automated systems containing PII are registered in the Defense Information Technology Portfolio Repository (DITPR).</a:t>
            </a:r>
            <a:endParaRPr b="1" lang="en-US" sz="2600" spc="-1" strike="noStrike">
              <a:solidFill>
                <a:srgbClr val="000000"/>
              </a:solidFill>
              <a:latin typeface="Times New Roman Bold Italic"/>
            </a:endParaRPr>
          </a:p>
          <a:p>
            <a:pPr marL="393840" indent="-359640">
              <a:spcBef>
                <a:spcPts val="575"/>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2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0705-4BE2-4EFC-9574-76B838A770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447560"/>
            <a:ext cx="8229600" cy="4530600"/>
          </a:xfrm>
          <a:prstGeom prst="rect">
            <a:avLst/>
          </a:prstGeom>
          <a:noFill/>
          <a:ln w="0">
            <a:noFill/>
          </a:ln>
        </p:spPr>
        <p:txBody>
          <a:bodyPr anchor="t">
            <a:normAutofit/>
          </a:bodyPr>
          <a:p>
            <a:pPr marL="514440" indent="-5144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 (continued):</a:t>
            </a:r>
            <a:endParaRPr b="1" lang="en-US" sz="2600" spc="-1" strike="noStrike">
              <a:solidFill>
                <a:srgbClr val="000000"/>
              </a:solidFill>
              <a:latin typeface="Times New Roman Bold Italic"/>
            </a:endParaRPr>
          </a:p>
          <a:p>
            <a:pPr lvl="1" marL="817560" indent="-514440">
              <a:spcBef>
                <a:spcPts val="601"/>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Updates to OMB be designed so that:</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IT systems with PII reviewed on same cycle as Defense Information Assurance Certification and Accreditation Process (DIACAP).</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IA/SORNs reviewed </a:t>
            </a:r>
            <a:r>
              <a:rPr b="1" i="1" lang="en-US" sz="2400" spc="-1" strike="noStrike">
                <a:solidFill>
                  <a:srgbClr val="000000"/>
                </a:solidFill>
                <a:latin typeface="Times New Roman Bold Italic"/>
              </a:rPr>
              <a:t>at least once </a:t>
            </a:r>
            <a:r>
              <a:rPr b="1" lang="en-US" sz="2400" spc="-1" strike="noStrike">
                <a:solidFill>
                  <a:srgbClr val="000000"/>
                </a:solidFill>
                <a:latin typeface="Times New Roman Bold Italic"/>
              </a:rPr>
              <a:t>every two years.</a:t>
            </a:r>
            <a:endParaRPr b="1" lang="en-US" sz="24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mponents shall report results to DPCLO on FISMA schedule.</a:t>
            </a:r>
            <a:endParaRPr b="1" lang="en-US" sz="2600" spc="-1" strike="noStrike">
              <a:solidFill>
                <a:srgbClr val="000000"/>
              </a:solidFill>
              <a:latin typeface="Times New Roman Bold Italic"/>
            </a:endParaRPr>
          </a:p>
        </p:txBody>
      </p:sp>
      <p:sp>
        <p:nvSpPr>
          <p:cNvPr id="62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Review &amp; Report</a:t>
            </a:r>
            <a:endParaRPr b="1" lang="en-US" sz="4000" spc="-1" strike="noStrike">
              <a:solidFill>
                <a:srgbClr val="ffffff"/>
              </a:solidFill>
              <a:latin typeface="Times New Roman"/>
            </a:endParaRPr>
          </a:p>
        </p:txBody>
      </p:sp>
      <p:sp>
        <p:nvSpPr>
          <p:cNvPr id="62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58D3-E05D-4BBB-86AD-ACF7E8EBAC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295280"/>
            <a:ext cx="8229600" cy="4530960"/>
          </a:xfrm>
          <a:prstGeom prst="rect">
            <a:avLst/>
          </a:prstGeom>
          <a:noFill/>
          <a:ln w="0">
            <a:noFill/>
          </a:ln>
        </p:spPr>
        <p:txBody>
          <a:bodyPr anchor="t">
            <a:normAutofit fontScale="90000"/>
          </a:bodyPr>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Bold Italic"/>
            </a:endParaRPr>
          </a:p>
          <a:p>
            <a:pPr marL="376920" indent="-344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Bold Italic"/>
            </a:endParaRPr>
          </a:p>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rivacy Impact Assessments (PIA) &amp; System of Records Notices (SORN)</a:t>
            </a:r>
            <a:endParaRPr b="1" lang="en-US" sz="4400" spc="-1" strike="noStrike">
              <a:solidFill>
                <a:srgbClr val="000000"/>
              </a:solidFill>
              <a:latin typeface="Times New Roman Bold Italic"/>
            </a:endParaRPr>
          </a:p>
          <a:p>
            <a:pPr marL="376920" indent="-3441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200" spc="-1" strike="noStrike">
                <a:solidFill>
                  <a:srgbClr val="000000"/>
                </a:solidFill>
                <a:latin typeface="Times New Roman Bold Italic"/>
              </a:rPr>
              <a:t>	</a:t>
            </a:r>
            <a:endParaRPr b="1" lang="en-US" sz="4200" spc="-1" strike="noStrike">
              <a:solidFill>
                <a:srgbClr val="000000"/>
              </a:solidFill>
              <a:latin typeface="Times New Roman Bold Italic"/>
            </a:endParaRPr>
          </a:p>
        </p:txBody>
      </p:sp>
      <p:sp>
        <p:nvSpPr>
          <p:cNvPr id="62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2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C05A-888A-41F1-8A93-93C56606F8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57200" y="1143000"/>
            <a:ext cx="8229600" cy="4911840"/>
          </a:xfrm>
          <a:prstGeom prst="rect">
            <a:avLst/>
          </a:prstGeom>
          <a:noFill/>
          <a:ln w="0">
            <a:noFill/>
          </a:ln>
        </p:spPr>
        <p:txBody>
          <a:bodyPr anchor="t">
            <a:normAutofit fontScale="94000"/>
          </a:bodyPr>
          <a:p>
            <a:pPr marL="465480" indent="-465480">
              <a:spcBef>
                <a:spcPts val="751"/>
              </a:spcBef>
              <a:spcAft>
                <a:spcPts val="601"/>
              </a:spcAft>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a:t>
            </a:r>
            <a:r>
              <a:rPr b="1" i="1" lang="en-US" sz="3000" spc="-1" strike="noStrike">
                <a:solidFill>
                  <a:srgbClr val="000000"/>
                </a:solidFill>
                <a:latin typeface="Times New Roman Bold Italic"/>
              </a:rPr>
              <a:t>Privacy Impact Assessment (PIA) </a:t>
            </a:r>
            <a:r>
              <a:rPr b="1" lang="en-US" sz="3000" spc="-1" strike="noStrike">
                <a:solidFill>
                  <a:srgbClr val="000000"/>
                </a:solidFill>
                <a:latin typeface="Times New Roman Bold Italic"/>
              </a:rPr>
              <a:t>is an analysis of how information is handled to: </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handling conforms to applicable legal, regulatory, and policy requirements.</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termine the risks and effects of collecting, using, maintaining, and disseminating PII in an electronic information system, and </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itigate potential privacy risks.</a:t>
            </a:r>
            <a:endParaRPr b="1" lang="en-US" sz="2600" spc="-1" strike="noStrike">
              <a:solidFill>
                <a:srgbClr val="000000"/>
              </a:solidFill>
              <a:latin typeface="Times New Roman Bold Italic"/>
            </a:endParaRPr>
          </a:p>
          <a:p>
            <a:pPr lvl="1" marL="67860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Bold Italic"/>
              </a:rPr>
              <a:t>OMB 03-22 (9/26/2003), EGOV 208(b)</a:t>
            </a:r>
            <a:endParaRPr b="1" lang="en-US" sz="1200" spc="-1" strike="noStrike">
              <a:solidFill>
                <a:srgbClr val="000000"/>
              </a:solidFill>
              <a:latin typeface="Times New Roman Bold Italic"/>
            </a:endParaRPr>
          </a:p>
        </p:txBody>
      </p:sp>
      <p:sp>
        <p:nvSpPr>
          <p:cNvPr id="631"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2608-FC59-4715-B549-D5850DD99C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380520" y="1277640"/>
            <a:ext cx="8458200" cy="497052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en is a PIA Required when PII is collected from:</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isting information systems and electronic collections where a PIA has not previously been completed and that collects PII about Federal personnel and contractor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New information systems or electronic collections:</a:t>
            </a:r>
            <a:endParaRPr b="1" lang="en-US" sz="26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ior to developing or purchasing; and </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When converting paper records to electronic systems.</a:t>
            </a:r>
            <a:endParaRPr b="1" lang="en-US" sz="2400" spc="-1" strike="noStrike">
              <a:solidFill>
                <a:srgbClr val="000000"/>
              </a:solidFill>
              <a:latin typeface="Times New Roman Bold Italic"/>
            </a:endParaRPr>
          </a:p>
        </p:txBody>
      </p:sp>
      <p:sp>
        <p:nvSpPr>
          <p:cNvPr id="634"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89D1-058A-4DCA-B252-EA61E02131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457200" y="1447560"/>
            <a:ext cx="8305920" cy="449892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PIA is not required when the information system or electronic collection:</a:t>
            </a:r>
            <a:endParaRPr b="1" lang="en-US" sz="30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oes not collect, maintain or disseminate personal identifying information.</a:t>
            </a:r>
            <a:endParaRPr b="1" lang="en-US" sz="26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s a National Security System (including systems that process classified information).</a:t>
            </a:r>
            <a:endParaRPr b="1" lang="en-US" sz="2600" spc="-1" strike="noStrike">
              <a:solidFill>
                <a:srgbClr val="000000"/>
              </a:solidFill>
              <a:latin typeface="Times New Roman Bold Italic"/>
            </a:endParaRPr>
          </a:p>
        </p:txBody>
      </p:sp>
      <p:sp>
        <p:nvSpPr>
          <p:cNvPr id="637"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PIAs &amp; SORNs</a:t>
            </a:r>
            <a:endParaRPr b="1" lang="en-US" sz="4000" spc="-1" strike="noStrike">
              <a:solidFill>
                <a:srgbClr val="ffffff"/>
              </a:solidFill>
              <a:latin typeface="Times New Roman"/>
            </a:endParaRPr>
          </a:p>
        </p:txBody>
      </p:sp>
      <p:sp>
        <p:nvSpPr>
          <p:cNvPr id="63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6519-7294-48D6-B145-DAAF5BDF94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40" name=""/>
          <p:cNvSpPr txBox="1"/>
          <p:nvPr/>
        </p:nvSpPr>
        <p:spPr>
          <a:xfrm>
            <a:off x="457200" y="1447560"/>
            <a:ext cx="8153280" cy="4267080"/>
          </a:xfrm>
          <a:prstGeom prst="rect">
            <a:avLst/>
          </a:prstGeom>
          <a:noFill/>
          <a:ln w="0">
            <a:noFill/>
          </a:ln>
        </p:spPr>
        <p:txBody>
          <a:bodyPr anchor="t">
            <a:normAutofit fontScale="89000"/>
          </a:bodyPr>
          <a:p>
            <a:pPr marL="372600" indent="-3405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at is a SORN?</a:t>
            </a:r>
            <a:endParaRPr b="1" lang="en-US" sz="30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is a public notice of an agency’s intent to collect &amp; retrieve PII in a SOR.</a:t>
            </a:r>
            <a:endParaRPr b="1" lang="en-US" sz="26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RNs include:</a:t>
            </a:r>
            <a:endParaRPr b="1" lang="en-US" sz="26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safeguards that will be applied to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who, what, why, and where of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ocesses for access and correction of records.</a:t>
            </a:r>
            <a:endParaRPr b="1" lang="en-US" sz="24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must be published in the Federal Register before a system can begin to collect PII.</a:t>
            </a:r>
            <a:endParaRPr b="1" lang="en-US" sz="2600" spc="-1" strike="noStrike">
              <a:solidFill>
                <a:srgbClr val="000000"/>
              </a:solidFill>
              <a:latin typeface="Times New Roman Bold Italic"/>
            </a:endParaRPr>
          </a:p>
        </p:txBody>
      </p:sp>
      <p:sp>
        <p:nvSpPr>
          <p:cNvPr id="64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4A8E-06A1-4C1E-8525-A2F867E5AB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304920" y="11426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IA/SORN Essential Elements </a:t>
            </a:r>
            <a:endParaRPr b="1" lang="en-US" sz="44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Crosswalk</a:t>
            </a:r>
            <a:endParaRPr b="1" lang="en-US" sz="44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643" name="PlaceHolder 2"/>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6E49-6B46-4CA2-A08F-7AF05A1CC4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ffffff"/>
                </a:solidFill>
                <a:latin typeface="Times New Roman"/>
              </a:rPr>
              <a:t>Objectives</a:t>
            </a:r>
            <a:endParaRPr b="1" lang="en-US" sz="4000" spc="-1" strike="noStrike">
              <a:solidFill>
                <a:srgbClr val="ffffff"/>
              </a:solidFill>
              <a:latin typeface="Times New Roman"/>
            </a:endParaRPr>
          </a:p>
        </p:txBody>
      </p:sp>
      <p:sp>
        <p:nvSpPr>
          <p:cNvPr id="565" name="PlaceHolder 2"/>
          <p:cNvSpPr>
            <a:spLocks noGrp="1"/>
          </p:cNvSpPr>
          <p:nvPr>
            <p:ph/>
          </p:nvPr>
        </p:nvSpPr>
        <p:spPr>
          <a:xfrm>
            <a:off x="380880" y="1447560"/>
            <a:ext cx="8305920" cy="4089240"/>
          </a:xfrm>
          <a:prstGeom prst="rect">
            <a:avLst/>
          </a:prstGeom>
          <a:noFill/>
          <a:ln w="0">
            <a:noFill/>
          </a:ln>
        </p:spPr>
        <p:txBody>
          <a:bodyPr anchor="t">
            <a:normAutofit fontScale="98000"/>
          </a:bodyPr>
          <a:p>
            <a:pPr marL="410400" indent="-37476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pon completion of this presentation, you should be able to:</a:t>
            </a:r>
            <a:endParaRPr b="1" lang="en-US" sz="30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0740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040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CAAC-2622-40B7-AC1C-3DFFAA61FE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46" name="PlaceHolder 2"/>
          <p:cNvSpPr>
            <a:spLocks noGrp="1"/>
          </p:cNvSpPr>
          <p:nvPr>
            <p:ph/>
          </p:nvPr>
        </p:nvSpPr>
        <p:spPr>
          <a:xfrm>
            <a:off x="457200" y="2286000"/>
            <a:ext cx="8229600" cy="3844800"/>
          </a:xfrm>
          <a:prstGeom prst="rect">
            <a:avLst/>
          </a:prstGeom>
          <a:noFill/>
          <a:ln w="0">
            <a:noFill/>
          </a:ln>
        </p:spPr>
        <p:txBody>
          <a:bodyPr anchor="t">
            <a:normAutofit/>
          </a:bodyPr>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1" lang="en-US" sz="3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graphicFrame>
        <p:nvGraphicFramePr>
          <p:cNvPr id="647"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cy Impact Assessment (PIA)/</a:t>
                      </a:r>
                      <a:br>
                        <a:rPr sz="2000"/>
                      </a:br>
                      <a:r>
                        <a:rPr b="1" lang="en-US" sz="2000" spc="-1" strike="noStrike">
                          <a:solidFill>
                            <a:srgbClr val="000000"/>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6ea0b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bl>
          </a:graphicData>
        </a:graphic>
      </p:graphicFrame>
      <p:sp>
        <p:nvSpPr>
          <p:cNvPr id="64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3449-E369-4D22-A5A0-8B080AB2F9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
          <p:cNvSpPr/>
          <p:nvPr/>
        </p:nvSpPr>
        <p:spPr>
          <a:xfrm>
            <a:off x="609480" y="1302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IVACY IMPACT ASSESSMENT (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Information System/Electronic Collection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Component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1" name=""/>
          <p:cNvGraphicFramePr/>
          <p:nvPr/>
        </p:nvGraphicFramePr>
        <p:xfrm>
          <a:off x="685800" y="297180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2" name="TextBox 12"/>
          <p:cNvSpPr/>
          <p:nvPr/>
        </p:nvSpPr>
        <p:spPr>
          <a:xfrm>
            <a:off x="6711480" y="548640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
        <p:nvSpPr>
          <p:cNvPr id="65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5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702C-86E9-442F-9A66-67CF93A7C0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6"/>
          <p:cNvSpPr/>
          <p:nvPr/>
        </p:nvSpPr>
        <p:spPr>
          <a:xfrm>
            <a:off x="1066680" y="2895480"/>
            <a:ext cx="251460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meeting the information requirements of the Agency while ensuring the protection of the rights of the individual in the collection, use and dissemination of PII.</a:t>
            </a:r>
            <a:endParaRPr b="0" lang="en-US" sz="1700" spc="-1" strike="noStrike">
              <a:solidFill>
                <a:srgbClr val="000000"/>
              </a:solidFill>
              <a:latin typeface="Arial"/>
            </a:endParaRPr>
          </a:p>
        </p:txBody>
      </p:sp>
      <p:sp>
        <p:nvSpPr>
          <p:cNvPr id="658" name="Text Box 7"/>
          <p:cNvSpPr/>
          <p:nvPr/>
        </p:nvSpPr>
        <p:spPr>
          <a:xfrm>
            <a:off x="5867280" y="2889360"/>
            <a:ext cx="21337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protecting the information and information systems supporting the operations and assets of an organization.</a:t>
            </a:r>
            <a:endParaRPr b="0" lang="en-US" sz="1700" spc="-1" strike="noStrike">
              <a:solidFill>
                <a:srgbClr val="000000"/>
              </a:solidFill>
              <a:latin typeface="Arial"/>
            </a:endParaRPr>
          </a:p>
        </p:txBody>
      </p:sp>
      <p:sp>
        <p:nvSpPr>
          <p:cNvPr id="659"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Times New Roman"/>
                <a:ea typeface="Times New Roman"/>
              </a:rPr>
              <a:t>Privacy’s success is dependent on establishment of basic foundation for information security.</a:t>
            </a:r>
            <a:r>
              <a:rPr b="1" lang="en-US" sz="1800" spc="-1" strike="noStrike">
                <a:solidFill>
                  <a:srgbClr val="002060"/>
                </a:solidFill>
                <a:latin typeface="Times New Roman"/>
                <a:ea typeface="Times New Roman"/>
              </a:rPr>
              <a:t> </a:t>
            </a:r>
            <a:endParaRPr b="0" lang="en-US" sz="1800" spc="-1" strike="noStrike">
              <a:solidFill>
                <a:srgbClr val="000000"/>
              </a:solidFill>
              <a:latin typeface="Arial"/>
            </a:endParaRPr>
          </a:p>
        </p:txBody>
      </p:sp>
      <p:sp>
        <p:nvSpPr>
          <p:cNvPr id="660" name="Text Box 9"/>
          <p:cNvSpPr/>
          <p:nvPr/>
        </p:nvSpPr>
        <p:spPr>
          <a:xfrm>
            <a:off x="2593800" y="2209680"/>
            <a:ext cx="123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VACY</a:t>
            </a:r>
            <a:endParaRPr b="0" lang="en-US" sz="1800" spc="-1" strike="noStrike">
              <a:solidFill>
                <a:srgbClr val="000000"/>
              </a:solidFill>
              <a:latin typeface="Arial"/>
            </a:endParaRPr>
          </a:p>
        </p:txBody>
      </p:sp>
      <p:sp>
        <p:nvSpPr>
          <p:cNvPr id="661" name="Text Box 10"/>
          <p:cNvSpPr/>
          <p:nvPr/>
        </p:nvSpPr>
        <p:spPr>
          <a:xfrm>
            <a:off x="5280120" y="2209680"/>
            <a:ext cx="135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URITY</a:t>
            </a:r>
            <a:endParaRPr b="0" lang="en-US" sz="1800" spc="-1" strike="noStrike">
              <a:solidFill>
                <a:srgbClr val="000000"/>
              </a:solidFill>
              <a:latin typeface="Arial"/>
            </a:endParaRPr>
          </a:p>
        </p:txBody>
      </p:sp>
      <p:sp>
        <p:nvSpPr>
          <p:cNvPr id="662" name="Text Box 11"/>
          <p:cNvSpPr/>
          <p:nvPr/>
        </p:nvSpPr>
        <p:spPr>
          <a:xfrm>
            <a:off x="535680" y="594360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663" name="Text Box 12"/>
          <p:cNvSpPr/>
          <p:nvPr/>
        </p:nvSpPr>
        <p:spPr>
          <a:xfrm>
            <a:off x="1407240" y="1092240"/>
            <a:ext cx="608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ritical Privacy – Security Interface</a:t>
            </a:r>
            <a:endParaRPr b="0" lang="en-US" sz="3000" spc="-1" strike="noStrike">
              <a:solidFill>
                <a:srgbClr val="000000"/>
              </a:solidFill>
              <a:latin typeface="Arial"/>
            </a:endParaRPr>
          </a:p>
        </p:txBody>
      </p:sp>
      <p:sp>
        <p:nvSpPr>
          <p:cNvPr id="664" name="Down Arrow 17"/>
          <p:cNvSpPr/>
          <p:nvPr/>
        </p:nvSpPr>
        <p:spPr>
          <a:xfrm>
            <a:off x="4343400" y="1676520"/>
            <a:ext cx="484200" cy="1218960"/>
          </a:xfrm>
          <a:prstGeom prst="downArrow">
            <a:avLst>
              <a:gd name="adj1" fmla="val 50000"/>
              <a:gd name="adj2" fmla="val 49988"/>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FB08-909C-43BD-9192-32BD78882219}" type="slidenum">
              <a:rPr b="0" lang="en-US" sz="800" spc="-1" strike="noStrike">
                <a:solidFill>
                  <a:srgbClr val="9b9a98"/>
                </a:solidFill>
                <a:latin typeface="Times New Roman Bold Italic"/>
              </a:rPr>
              <a:t>&lt;number&gt;</a:t>
            </a:fld>
            <a:endParaRPr b="0" lang="en-US" sz="800" spc="-1" strike="noStrike">
              <a:solidFill>
                <a:srgbClr val="000000"/>
              </a:solidFill>
              <a:latin typeface="Arial"/>
            </a:endParaRPr>
          </a:p>
        </p:txBody>
      </p:sp>
      <p:sp>
        <p:nvSpPr>
          <p:cNvPr id="66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6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71FD-3B25-498F-AC14-A5F22DDFBB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mmary</a:t>
            </a:r>
            <a:endParaRPr b="1" lang="en-US" sz="4000" spc="-1" strike="noStrike">
              <a:solidFill>
                <a:srgbClr val="ffffff"/>
              </a:solidFill>
              <a:latin typeface="Times New Roman"/>
            </a:endParaRPr>
          </a:p>
        </p:txBody>
      </p:sp>
      <p:sp>
        <p:nvSpPr>
          <p:cNvPr id="669" name="PlaceHolder 2"/>
          <p:cNvSpPr>
            <a:spLocks noGrp="1"/>
          </p:cNvSpPr>
          <p:nvPr>
            <p:ph/>
          </p:nvPr>
        </p:nvSpPr>
        <p:spPr>
          <a:xfrm>
            <a:off x="380880" y="1447560"/>
            <a:ext cx="8305920" cy="408924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You should now be able to:</a:t>
            </a:r>
            <a:endParaRPr b="1" lang="en-US" sz="30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2216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904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7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013C-B8E5-4827-B822-3877E20945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sources</a:t>
            </a:r>
            <a:endParaRPr b="1" lang="en-US" sz="4000" spc="-1" strike="noStrike">
              <a:solidFill>
                <a:srgbClr val="ffffff"/>
              </a:solidFill>
              <a:latin typeface="Times New Roman"/>
            </a:endParaRPr>
          </a:p>
        </p:txBody>
      </p:sp>
      <p:sp>
        <p:nvSpPr>
          <p:cNvPr id="672" name=""/>
          <p:cNvSpPr txBox="1"/>
          <p:nvPr/>
        </p:nvSpPr>
        <p:spPr>
          <a:xfrm>
            <a:off x="457200" y="1295280"/>
            <a:ext cx="8229600" cy="4530960"/>
          </a:xfrm>
          <a:prstGeom prst="rect">
            <a:avLst/>
          </a:prstGeom>
          <a:noFill/>
          <a:ln w="0">
            <a:noFill/>
          </a:ln>
        </p:spPr>
        <p:txBody>
          <a:bodyPr anchor="t">
            <a:normAutofit fontScale="90000"/>
          </a:bodyPr>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5400.11-R, Department of Defense Privacy Program, May 14,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MB M-07-16, Safeguarding Against and Responding to the Breach of Personally Identifiable Information, May 22,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Implementation: Safeguarding Against and Responding to the Breach of Personally Identifiable Information (PII), June 5, 2009.</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D Form 2930, “Privacy Impact Assessment (PIA),” 2008.</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SD Memorandum 13798-10, “Social Security Numbers Exposed on Public Facing &amp; Open Government Websites.”</a:t>
            </a:r>
            <a:endParaRPr b="1" lang="en-US" sz="2400" spc="-1" strike="noStrike">
              <a:solidFill>
                <a:srgbClr val="000000"/>
              </a:solidFill>
              <a:latin typeface="Times New Roman Bold Ital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447560"/>
            <a:ext cx="8229600" cy="4606920"/>
          </a:xfrm>
          <a:prstGeom prst="rect">
            <a:avLst/>
          </a:prstGeom>
          <a:noFill/>
          <a:ln w="0">
            <a:noFill/>
          </a:ln>
        </p:spPr>
        <p:txBody>
          <a:bodyPr anchor="t">
            <a:normAutofit/>
          </a:bodyPr>
          <a:p>
            <a:pPr marL="536400" indent="-51408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e Privacy Act of 1974 requires agencies to:</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Rules of Conduct.</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Safeguard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intain accurate, relevant, timely, and complete information.</a:t>
            </a:r>
            <a:endParaRPr b="1" lang="en-US" sz="2600" spc="-1" strike="noStrike">
              <a:solidFill>
                <a:srgbClr val="000000"/>
              </a:solidFill>
              <a:latin typeface="Times New Roman Bold Italic"/>
            </a:endParaRPr>
          </a:p>
        </p:txBody>
      </p:sp>
      <p:sp>
        <p:nvSpPr>
          <p:cNvPr id="56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6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0CDC-AC5D-43DA-8527-A12F43F108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71" name=""/>
          <p:cNvSpPr txBox="1"/>
          <p:nvPr/>
        </p:nvSpPr>
        <p:spPr>
          <a:xfrm>
            <a:off x="457200" y="1447920"/>
            <a:ext cx="8153280" cy="4419360"/>
          </a:xfrm>
          <a:prstGeom prst="rect">
            <a:avLst/>
          </a:prstGeom>
          <a:noFill/>
          <a:ln w="0">
            <a:noFill/>
          </a:ln>
        </p:spPr>
        <p:txBody>
          <a:bodyPr anchor="t">
            <a:normAutofit fontScale="96000"/>
          </a:bodyPr>
          <a:p>
            <a:pPr marL="402120" indent="-36720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are used to protect agencies from “reasonably anticipated threats.”</a:t>
            </a:r>
            <a:endParaRPr b="1" lang="en-US" sz="3000" spc="-1" strike="noStrike">
              <a:solidFill>
                <a:srgbClr val="000000"/>
              </a:solidFill>
              <a:latin typeface="Times New Roman Bold Italic"/>
            </a:endParaRPr>
          </a:p>
          <a:p>
            <a:pPr lvl="1" marL="693000" indent="-26172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hreats may cause harm, embarrassment, inconvenience, or unfairness.</a:t>
            </a:r>
            <a:endParaRPr b="1" lang="en-US" sz="2600" spc="-1" strike="noStrike">
              <a:solidFill>
                <a:srgbClr val="000000"/>
              </a:solidFill>
              <a:latin typeface="Times New Roman Bold Italic"/>
            </a:endParaRPr>
          </a:p>
          <a:p>
            <a:pPr marL="402120" indent="-36720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reats to personal information include:</a:t>
            </a:r>
            <a:endParaRPr b="1" lang="en-US" sz="30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ccess.</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lteration.</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disclosure.</a:t>
            </a:r>
            <a:endParaRPr b="1" lang="en-US" sz="2600" spc="-1" strike="noStrike">
              <a:solidFill>
                <a:srgbClr val="000000"/>
              </a:solidFill>
              <a:latin typeface="Times New Roman Bold Italic"/>
            </a:endParaRPr>
          </a:p>
        </p:txBody>
      </p:sp>
      <p:sp>
        <p:nvSpPr>
          <p:cNvPr id="57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8F75-B46F-4511-A755-B0216EBAC2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Times New Roman"/>
              </a:rPr>
              <a:t>Privacy Act and Safeguards</a:t>
            </a:r>
            <a:br>
              <a:rPr sz="4000"/>
            </a:br>
            <a:endParaRPr b="1" lang="en-US" sz="4000" spc="-1" strike="noStrike">
              <a:solidFill>
                <a:srgbClr val="ffffff"/>
              </a:solidFill>
              <a:latin typeface="Times New Roman"/>
            </a:endParaRPr>
          </a:p>
        </p:txBody>
      </p:sp>
      <p:sp>
        <p:nvSpPr>
          <p:cNvPr id="574" name=""/>
          <p:cNvSpPr txBox="1"/>
          <p:nvPr/>
        </p:nvSpPr>
        <p:spPr>
          <a:xfrm>
            <a:off x="457200" y="1447560"/>
            <a:ext cx="8153280" cy="408924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should be tailored to the:</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ize and sensitivity of each system.</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ystem-specific vulnerabilities.</a:t>
            </a:r>
            <a:endParaRPr b="1" lang="en-US" sz="2600" spc="-1" strike="noStrike">
              <a:solidFill>
                <a:srgbClr val="000000"/>
              </a:solidFill>
              <a:latin typeface="Times New Roman Bold Italic"/>
            </a:endParaRPr>
          </a:p>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ypes of Safeguards:</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dministrative.</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hys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echn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57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F689-1EFF-4028-B07B-AF70C0349A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77" name="PlaceHolder 2"/>
          <p:cNvSpPr>
            <a:spLocks noGrp="1"/>
          </p:cNvSpPr>
          <p:nvPr>
            <p:ph/>
          </p:nvPr>
        </p:nvSpPr>
        <p:spPr>
          <a:xfrm>
            <a:off x="152280" y="137124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Physical Safeguards</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7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117F-ACDD-4DA1-AF2C-90244E25A6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0" name=""/>
          <p:cNvSpPr txBox="1"/>
          <p:nvPr/>
        </p:nvSpPr>
        <p:spPr>
          <a:xfrm>
            <a:off x="457200" y="1447560"/>
            <a:ext cx="8153280" cy="4089240"/>
          </a:xfrm>
          <a:prstGeom prst="rect">
            <a:avLst/>
          </a:prstGeom>
          <a:noFill/>
          <a:ln w="0">
            <a:noFill/>
          </a:ln>
        </p:spPr>
        <p:txBody>
          <a:bodyPr anchor="t">
            <a:normAutofit fontScale="90000"/>
          </a:bodyPr>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Paper records should be stored in locked cabinets.</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being faxed or mailed should have a coversheet.</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acilities handling PII should be access controlled and hardware should be locked up.</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Never leave files, storage media, or computers unattended or in vehicles.</a:t>
            </a:r>
            <a:endParaRPr b="1" lang="en-US" sz="3000" spc="-1" strike="noStrike">
              <a:solidFill>
                <a:srgbClr val="000000"/>
              </a:solidFill>
              <a:latin typeface="Times New Roman Bold Italic"/>
            </a:endParaRPr>
          </a:p>
        </p:txBody>
      </p:sp>
      <p:sp>
        <p:nvSpPr>
          <p:cNvPr id="58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0478-88E3-47DB-9FFB-8818269F30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3" name=""/>
          <p:cNvSpPr txBox="1"/>
          <p:nvPr/>
        </p:nvSpPr>
        <p:spPr>
          <a:xfrm>
            <a:off x="457200" y="1447560"/>
            <a:ext cx="8153280" cy="4089240"/>
          </a:xfrm>
          <a:prstGeom prst="rect">
            <a:avLst/>
          </a:prstGeom>
          <a:noFill/>
          <a:ln w="0">
            <a:noFill/>
          </a:ln>
        </p:spPr>
        <p:txBody>
          <a:bodyPr anchor="t">
            <a:normAutofit fontScale="99000"/>
          </a:bodyPr>
          <a:p>
            <a:pPr marL="414720" indent="-37872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Disposal – Retirement or deletion of a record does not obviate need for safeguards.</a:t>
            </a:r>
            <a:endParaRPr b="1" lang="en-US" sz="30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ust render discarded info unrecognizable and beyond reconstruction.</a:t>
            </a:r>
            <a:endParaRPr b="1" lang="en-US" sz="26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struction should be tailored to the time of media involved.</a:t>
            </a:r>
            <a:endParaRPr b="1" lang="en-US" sz="26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aper – burn, shred.</a:t>
            </a:r>
            <a:endParaRPr b="1" lang="en-US" sz="24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ectronic – overwrite, degauss incinerate.</a:t>
            </a:r>
            <a:endParaRPr b="1" lang="en-US" sz="2400" spc="-1" strike="noStrike">
              <a:solidFill>
                <a:srgbClr val="000000"/>
              </a:solidFill>
              <a:latin typeface="Times New Roman Bold Italic"/>
            </a:endParaRPr>
          </a:p>
        </p:txBody>
      </p:sp>
      <p:sp>
        <p:nvSpPr>
          <p:cNvPr id="58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0CFE-5CCE-48A5-A983-E989D09F25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36:44Z</dcterms:created>
  <dc:creator>colejk</dc:creator>
  <dc:description/>
  <dc:language>en-US</dc:language>
  <cp:lastModifiedBy>walkole</cp:lastModifiedBy>
  <dcterms:modified xsi:type="dcterms:W3CDTF">2011-05-25T17:39:42Z</dcterms:modified>
  <cp:revision>174</cp:revision>
  <dc:subject/>
  <dc:title>Slide 1</dc:title>
</cp:coreProperties>
</file>